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5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DDF8-AE81-46BE-9E41-4ABED6C6C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4E23-8AA5-4ED2-805B-45E1C1B7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B51A-83BF-41D3-83DD-3F9E93F47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83B1-D530-48F7-913A-FD883B5BF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1A98-7403-4D00-A2CC-5D652D6A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91FB-01A3-4813-A3E0-66727A63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AE07-DEBF-4BD8-B738-A2CF9BBE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A6A4-2D34-4DE8-989F-0FDBD467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F4DF-C4D0-4AD5-A6D9-A69CA6C3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D29E-64DB-4BD6-A725-9152F276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E261-3CE9-44BF-9744-26586DFF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C632-9DA3-4294-AE51-AE9BDF47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D273-A43A-4137-A033-704F8E8909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glishforest.files.wordpress.com/2009/11/student1.gif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ankreceptov.ru/pict/246_tuzik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5410/89635038.61a/0_6fb44_69b3085b_XL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znaikak.ru/design/pic/visred/1237%20017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006.radikal.ru/i213/1001/52/193f3eb5f27e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xrest.ru/images/collection/00764/061/original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Занимательный словар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фографическая грамотность – основная часть общей языковой культуры любого человека, показатель точности выражения мысли и взаимопонимания. На основе этого базируется одно из направлений развития орфографических умений и навыков учащихся – словарная работа. Этот раздел программы основан на механическом запоминании «трудных» слов или на их проверке с помощью орфографического словар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ы разнообразить этот процесс, можно использовать дидактический материал. Он позволяет не только расширить речевой кругозор детей, но и формировать культуру речи. Причём обучение идёт с увлечением, радостно и без прину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фмованные загадки, скороговорки оптимизируют учебный процесс, вызывая положительные эмоции у детей, благотворно влияют на выработку оптимального темпа и ритма реч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ставь сло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Две гласных "а" и "у" одн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Угадайте-ка, друзья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Очень много хруста,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Издаёт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 А     .             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Хочешь бегать далеко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Хочешь прыгать высоко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ей почаще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 О  О  О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На жарком солнышке подсо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И рвется из стручков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 О   .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Мой первый слог - крик птиц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Два других - на дне пруд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А целое в музе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Найдете без труда.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 А     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ошу вас все слова назвать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ОРО -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надо написа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1" descr="student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3809880"/>
            <a:ext cx="2133720" cy="1981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3" descr="Картинка 19 из 5619"/>
          <p:cNvPicPr/>
          <p:nvPr/>
        </p:nvPicPr>
        <p:blipFill>
          <a:blip r:embed="rId3"/>
          <a:stretch/>
        </p:blipFill>
        <p:spPr>
          <a:xfrm>
            <a:off x="6553080" y="152280"/>
            <a:ext cx="2286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6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гадай сло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90680" indent="-490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каких словах живе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к?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   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рак,   рак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  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,……………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В каких словах спряталис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идо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  ре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   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  до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   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,…………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Назовите слова, в которых спряталис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исла?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дин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  сорок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  одна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  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,…………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Какие слова любит ворона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р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    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  кар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  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  кар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     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,………….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 лягушка? ква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    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ква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,…………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. В каких словах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л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растет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ль,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ель,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ель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  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Картинка 17 из 2250"/>
          <p:cNvPicPr/>
          <p:nvPr/>
        </p:nvPicPr>
        <p:blipFill>
          <a:blip r:embed="rId1"/>
          <a:stretch/>
        </p:blipFill>
        <p:spPr>
          <a:xfrm>
            <a:off x="6858000" y="304920"/>
            <a:ext cx="22860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предели слова в столб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лово трудное попалось 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то, братцы, не бе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ы напишем в слове букву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 забудем никог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.ревня, гор.д,завтр., лаг.рь, б.гаж, р.стение, ур.жай, учит.ль, ж.лезо, д.ректор, к.стрюля, г.рох, л.сица, обл.ко, ин.й, б.лет, к.лесо, г.зета, к.рабль, д.кабрь, к.рзина, .гурец, п.льто, п.со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85800" y="4495680"/>
          <a:ext cx="8001000" cy="2073240"/>
        </p:xfrm>
        <a:graphic>
          <a:graphicData uri="http://schemas.openxmlformats.org/drawingml/2006/table">
            <a:tbl>
              <a:tblPr/>
              <a:tblGrid>
                <a:gridCol w="2000160"/>
                <a:gridCol w="2000520"/>
                <a:gridCol w="2000160"/>
                <a:gridCol w="2000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7" name="Picture 73" descr="Картинка 101 из 241656"/>
          <p:cNvPicPr/>
          <p:nvPr/>
        </p:nvPicPr>
        <p:blipFill>
          <a:blip r:embed="rId1"/>
          <a:stretch/>
        </p:blipFill>
        <p:spPr>
          <a:xfrm>
            <a:off x="380880" y="838080"/>
            <a:ext cx="3124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бери сло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Буквы рассыпалис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ыЯз         Кинько         короСа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реВ       сиЛица        Спабо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зор      коМоло        яЗац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Пан      лаПток         вадо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Беза     боРата        Ядо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Картинка 37 из 243539"/>
          <p:cNvPicPr/>
          <p:nvPr/>
        </p:nvPicPr>
        <p:blipFill>
          <a:blip r:embed="rId1"/>
          <a:stretch/>
        </p:blipFill>
        <p:spPr>
          <a:xfrm>
            <a:off x="6477120" y="2362320"/>
            <a:ext cx="24382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457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л</a:t>
            </a: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и</a:t>
            </a: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с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ищное млекопитающее с пушистым длинным хвосто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 называют хитрого, льстивого челове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Trebuchet MS"/>
              </a:rPr>
              <a:t>У мосточка под кусточком две л</a:t>
            </a:r>
            <a:r>
              <a:rPr b="1" lang="ru-RU" sz="3600" spc="-1" strike="noStrike">
                <a:solidFill>
                  <a:srgbClr val="0070c0"/>
                </a:solidFill>
                <a:latin typeface="Trebuchet MS"/>
              </a:rPr>
              <a:t>и</a:t>
            </a:r>
            <a:r>
              <a:rPr b="1" lang="ru-RU" sz="2200" spc="-1" strike="noStrike">
                <a:solidFill>
                  <a:srgbClr val="0070c0"/>
                </a:solidFill>
                <a:latin typeface="Trebuchet MS"/>
              </a:rPr>
              <a:t>сички, две сестрич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Лисонька – л</a:t>
            </a: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и</a:t>
            </a: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сица, хитрая сестриц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     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и во сне кур считает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     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всегда сытнее волка живёт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              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Хвост пушисты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              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Мех золотистый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              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В лесу живё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              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В деревне кур крадё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0" descr="i?id=386568355-52-72"/>
          <p:cNvPicPr/>
          <p:nvPr/>
        </p:nvPicPr>
        <p:blipFill>
          <a:blip r:embed="rId1"/>
          <a:stretch/>
        </p:blipFill>
        <p:spPr>
          <a:xfrm>
            <a:off x="5867280" y="3352680"/>
            <a:ext cx="29718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00"/>
                </a:solidFill>
                <a:latin typeface="Arial"/>
              </a:rPr>
              <a:t>м</a:t>
            </a:r>
            <a:r>
              <a:rPr b="1" lang="ru-RU" sz="6000" spc="-1" strike="noStrike">
                <a:solidFill>
                  <a:srgbClr val="996600"/>
                </a:solidFill>
                <a:latin typeface="Arial"/>
              </a:rPr>
              <a:t>е</a:t>
            </a:r>
            <a:r>
              <a:rPr b="1" lang="ru-RU" sz="4400" spc="-1" strike="noStrike">
                <a:solidFill>
                  <a:srgbClr val="996600"/>
                </a:solidFill>
                <a:latin typeface="Arial"/>
              </a:rPr>
              <a:t>две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рупное хищное животное с длинной шерстью, любит мё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 говорят о неуклюжем, неповоротливом человек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 говорят о человеке, у которого нет музыкального слуха: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       на ухо наступи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       зима – одна ночь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                                          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бояться, в лес не ходи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то в лесу глухом живё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уклюжий, косолапый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етом ест малину, мёд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 зимой сосёт он лапу.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i?id=181185075-19-72"/>
          <p:cNvPicPr/>
          <p:nvPr/>
        </p:nvPicPr>
        <p:blipFill>
          <a:blip r:embed="rId1"/>
          <a:stretch/>
        </p:blipFill>
        <p:spPr>
          <a:xfrm>
            <a:off x="533520" y="358128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ба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машнее животное, которое охраняет д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 говорят о злом, грубом человек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Если люди живут недружно, про них говорят: как кошка с собак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Приобрёл большой навык в чём – либо: собаку съе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     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помнит, кто её корми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ладишь – ласкается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разнишь – кусается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цепи сиди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м сторожит.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ь для с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аки – с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246_tuzi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3809880"/>
            <a:ext cx="41148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457200"/>
            <a:ext cx="8229600" cy="18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с</a:t>
            </a:r>
            <a:r>
              <a:rPr b="1" lang="ru-RU" sz="6000" spc="-1" strike="noStrike">
                <a:solidFill>
                  <a:srgbClr val="7030a0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Трещала с самого утра                   2.  Сорока – белобок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ра, пора, пора, пора,                           Где была? – Далёк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ая с ней морока,                                 Кашку варил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гда трещит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     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                        Деток кормил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         ………………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Так говорят о человеке, когда он говорит без остановк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трещит как соро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     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на хвосте принесла.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                                           </a:t>
            </a:r>
            <a:r>
              <a:rPr b="1" lang="ru-RU" sz="2200" spc="-1" strike="noStrike">
                <a:solidFill>
                  <a:srgbClr val="7030a0"/>
                </a:solidFill>
                <a:latin typeface="Trebuchet MS"/>
              </a:rPr>
              <a:t>Сорок с</a:t>
            </a:r>
            <a:r>
              <a:rPr b="1" lang="ru-RU" sz="3600" spc="-1" strike="noStrike">
                <a:solidFill>
                  <a:srgbClr val="7030a0"/>
                </a:solidFill>
                <a:latin typeface="Trebuchet MS"/>
              </a:rPr>
              <a:t>о</a:t>
            </a:r>
            <a:r>
              <a:rPr b="1" lang="ru-RU" sz="2200" spc="-1" strike="noStrike">
                <a:solidFill>
                  <a:srgbClr val="7030a0"/>
                </a:solidFill>
                <a:latin typeface="Trebuchet MS"/>
              </a:rPr>
              <a:t>рок воровали горох.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Trebuchet MS"/>
              </a:rPr>
              <a:t>                                            </a:t>
            </a:r>
            <a:r>
              <a:rPr b="1" lang="ru-RU" sz="2200" spc="-1" strike="noStrike">
                <a:solidFill>
                  <a:srgbClr val="7030a0"/>
                </a:solidFill>
                <a:latin typeface="Trebuchet MS"/>
              </a:rPr>
              <a:t>Приручить с</a:t>
            </a:r>
            <a:r>
              <a:rPr b="1" lang="ru-RU" sz="3600" spc="-1" strike="noStrike">
                <a:solidFill>
                  <a:srgbClr val="7030a0"/>
                </a:solidFill>
                <a:latin typeface="Trebuchet MS"/>
              </a:rPr>
              <a:t>о</a:t>
            </a:r>
            <a:r>
              <a:rPr b="1" lang="ru-RU" sz="2200" spc="-1" strike="noStrike">
                <a:solidFill>
                  <a:srgbClr val="7030a0"/>
                </a:solidFill>
                <a:latin typeface="Trebuchet MS"/>
              </a:rPr>
              <a:t>року одна морок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Trebuchet MS"/>
              </a:rPr>
              <a:t>                                             </a:t>
            </a:r>
            <a:r>
              <a:rPr b="1" lang="ru-RU" sz="2200" spc="-1" strike="noStrike">
                <a:solidFill>
                  <a:srgbClr val="7030a0"/>
                </a:solidFill>
                <a:latin typeface="Trebuchet MS"/>
              </a:rPr>
              <a:t>А сорок с</a:t>
            </a:r>
            <a:r>
              <a:rPr b="1" lang="ru-RU" sz="3600" spc="-1" strike="noStrike">
                <a:solidFill>
                  <a:srgbClr val="7030a0"/>
                </a:solidFill>
                <a:latin typeface="Trebuchet MS"/>
              </a:rPr>
              <a:t>о</a:t>
            </a:r>
            <a:r>
              <a:rPr b="1" lang="ru-RU" sz="2200" spc="-1" strike="noStrike">
                <a:solidFill>
                  <a:srgbClr val="7030a0"/>
                </a:solidFill>
                <a:latin typeface="Trebuchet MS"/>
              </a:rPr>
              <a:t>рок – сорок моро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Картинка 1 из 674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3733920"/>
            <a:ext cx="37339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>
            <a:alpha val="5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457200"/>
            <a:ext cx="8229600" cy="18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в</a:t>
            </a: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роб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аленькая птичка с серо – чёрным оперением. Никогда не улетает в тёплые края. Обитает около жилья челове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 опытного, бывалого человека говорят: стреляный вороб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 очень маленького человека говорят: с воробьиный но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Кто боится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      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, тот не сеет прос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Trebuchet MS"/>
              </a:rPr>
              <a:t>Птичка – невеличк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Trebuchet MS"/>
              </a:rPr>
              <a:t>Ножки имеет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Trebuchet MS"/>
              </a:rPr>
              <a:t>А ходить не уме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Trebuchet MS"/>
              </a:rPr>
              <a:t>Хочет сделать шажок-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Trebuchet MS"/>
              </a:rPr>
              <a:t>Получается прыжо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Trebuchet MS"/>
              </a:rPr>
              <a:t>Вор украл в</a:t>
            </a:r>
            <a:r>
              <a:rPr b="0" lang="ru-RU" sz="3600" spc="-1" strike="noStrike">
                <a:solidFill>
                  <a:srgbClr val="c00000"/>
                </a:solidFill>
                <a:latin typeface="Trebuchet MS"/>
              </a:rPr>
              <a:t>о</a:t>
            </a:r>
            <a:r>
              <a:rPr b="0" lang="ru-RU" sz="2200" spc="-1" strike="noStrike">
                <a:solidFill>
                  <a:srgbClr val="c00000"/>
                </a:solidFill>
                <a:latin typeface="Trebuchet MS"/>
              </a:rPr>
              <a:t>робья с ворот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3" descr="i?id=97526123-24-72"/>
          <p:cNvPicPr/>
          <p:nvPr/>
        </p:nvPicPr>
        <p:blipFill>
          <a:blip r:embed="rId1"/>
          <a:stretch/>
        </p:blipFill>
        <p:spPr>
          <a:xfrm>
            <a:off x="5334120" y="3733920"/>
            <a:ext cx="28954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72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пОсу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 Предметы, из которых едят, пьют, в которых готовят пищ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Бережёная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     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два века живё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     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любит чисто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Стеклянную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     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береги, расшибёшь - не починиш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rebuchet MS"/>
              </a:rPr>
              <a:t>Уж не буду, уж не буду я посуду обижа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rebuchet MS"/>
              </a:rPr>
              <a:t>Буду, буду я посуду и любить, и уваж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rebuchet MS"/>
              </a:rPr>
              <a:t>             </a:t>
            </a:r>
            <a:r>
              <a:rPr b="1" lang="ru-RU" sz="2000" spc="-1" strike="noStrike">
                <a:solidFill>
                  <a:srgbClr val="0070c0"/>
                </a:solidFill>
                <a:latin typeface="Trebuchet MS"/>
              </a:rPr>
              <a:t>Тарелки помы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rebuchet MS"/>
              </a:rPr>
              <a:t>             </a:t>
            </a:r>
            <a:r>
              <a:rPr b="1" lang="ru-RU" sz="2000" spc="-1" strike="noStrike">
                <a:solidFill>
                  <a:srgbClr val="0070c0"/>
                </a:solidFill>
                <a:latin typeface="Trebuchet MS"/>
              </a:rPr>
              <a:t>И сложены в груд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rebuchet MS"/>
              </a:rPr>
              <a:t>             </a:t>
            </a:r>
            <a:r>
              <a:rPr b="1" lang="ru-RU" sz="2000" spc="-1" strike="noStrike">
                <a:solidFill>
                  <a:srgbClr val="0070c0"/>
                </a:solidFill>
                <a:latin typeface="Trebuchet MS"/>
              </a:rPr>
              <a:t>А мама и доч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rebuchet MS"/>
              </a:rPr>
              <a:t>             </a:t>
            </a:r>
            <a:r>
              <a:rPr b="1" lang="ru-RU" sz="2000" spc="-1" strike="noStrike">
                <a:solidFill>
                  <a:srgbClr val="0070c0"/>
                </a:solidFill>
                <a:latin typeface="Trebuchet MS"/>
              </a:rPr>
              <a:t>Вытирают </a:t>
            </a:r>
            <a:r>
              <a:rPr b="1" lang="ru-RU" sz="2800" spc="-1" strike="noStrike">
                <a:solidFill>
                  <a:srgbClr val="0070c0"/>
                </a:solidFill>
                <a:latin typeface="Trebuchet MS"/>
              </a:rPr>
              <a:t>     </a:t>
            </a:r>
            <a:r>
              <a:rPr b="1" lang="ru-RU" sz="2000" spc="-1" strike="noStrike">
                <a:solidFill>
                  <a:srgbClr val="0070c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Картинка 3 из 12148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4267080"/>
            <a:ext cx="430524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533520"/>
            <a:ext cx="8229600" cy="195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кАпу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городное растение, растущее обычно кочаном. Бывает белого и красного цве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ез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       щи не гус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      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любит воду да хорошую погод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Хорошая        в кочан завьётся, а плохая – в листьях сгниё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Trebuchet MS"/>
              </a:rPr>
              <a:t>Лето целое старалась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Trebuchet MS"/>
              </a:rPr>
              <a:t>Одевалась, одевалась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Trebuchet MS"/>
              </a:rPr>
              <a:t>А как осень подошл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Trebuchet MS"/>
              </a:rPr>
              <a:t>Нам одёжки отда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Trebuchet MS"/>
              </a:rPr>
              <a:t>Сотню одежонок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Trebuchet MS"/>
              </a:rPr>
              <a:t>Сложили мы в бочоно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Trebuchet MS"/>
              </a:rPr>
              <a:t>Мы для неё готовим кадки и крупной соли полмеш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Картинка 25 из 204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3200400"/>
            <a:ext cx="42386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-457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пиши сло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а спокойно жили в книж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книжку вдруг прогрызли мы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слов кусочки откуси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книжки в норку утащи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.робей          лаг.рь          обл.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.лет            .зык               т.п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еб.ль           к.пуста        п.т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дежда           мес.ц            вес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Картинка 11 из 285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1066680"/>
            <a:ext cx="26672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12-11T04:50:3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