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9FAF-6CA8-4EEA-9654-1B9AA102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D2D-2919-4A58-8E6B-8DBC340C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DB38-4275-4FFA-B3CE-6FB3A844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1D22-E90D-460D-999A-86C22A3B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5791-556B-4CA6-A2C1-D4B2E3A5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D27E-70F7-4531-AE49-D45D8FFB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879D-B03C-4D53-AD2F-50F6A1B9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C25E-607B-4452-9D47-16C69EC3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D27-5898-42B8-86EB-99B66713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4BA-0CC1-4A5F-9C71-1BB80610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2C61-FAAE-4DA4-BDE9-98A0DD0E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0F2-DEF9-4D01-BC5F-20252B3F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D22A-551B-4E7D-89A2-CEF914006B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glishforest.files.wordpress.com/2009/11/student1.gif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ankreceptov.ru/pict/246_tuzik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410/89635038.61a/0_6fb44_69b3085b_X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znaikak.ru/design/pic/visred/1237%20017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006.radikal.ru/i213/1001/52/193f3eb5f27e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xrest.ru/images/collection/00764/061/original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анимательный словар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фографическая грамотность – основная часть общей языковой культуры любого человека, показатель точности выражения мысли и взаимопонимания. На основе этого базируется одно из направлений развития орфографических умений и навыков учащихся – словарная работа. Этот раздел программы основан на механическом запоминании «трудных» слов или на их проверке с помощью орфографического словар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разнообразить этот процесс, можно использовать дидактический материал. Он позволяет не только расширить речевой кругозор детей, но и формировать культуру речи. Причём обучение идёт с увлечением, радостно и без прин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фмованные загадки, скороговорки оптимизируют учебный процесс, вызывая положительные эмоции у детей, благотворно влияют на выработку оптимального темпа и ритма ре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тавь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Две гласных "а" и "у" одн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Угадайте-ка, друзь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чень много хруста,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Издаёт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 А     .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Хочешь бегать далеко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Хочешь прыгать высоко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ей почаще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 О  О  О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 жарком солнышке подсо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И рвется из стручков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 О   .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Мой первый слог - крик птиц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Два других - на дне пруд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 целое в музе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йдете без труда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 А     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ошу вас все слова назват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ОРО -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надо напис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1" descr="studen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3809880"/>
            <a:ext cx="2133720" cy="198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3" descr="Картинка 19 из 5619"/>
          <p:cNvPicPr/>
          <p:nvPr/>
        </p:nvPicPr>
        <p:blipFill>
          <a:blip r:embed="rId3"/>
          <a:stretch/>
        </p:blipFill>
        <p:spPr>
          <a:xfrm>
            <a:off x="6553080" y="15228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гадай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ких словах жив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к?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 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рак,   рак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……………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В каких словах спряталис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до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  ре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 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  до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 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………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Назовите слова, в которых спряталис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сла?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ин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  сорок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  одна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…………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Какие слова любит ворон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р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  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  кар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  кар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   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………….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лягушка? ква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  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в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………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В каких слова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астет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ль,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ель,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ель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Картинка 17 из 2250"/>
          <p:cNvPicPr/>
          <p:nvPr/>
        </p:nvPicPr>
        <p:blipFill>
          <a:blip r:embed="rId1"/>
          <a:stretch/>
        </p:blipFill>
        <p:spPr>
          <a:xfrm>
            <a:off x="6858000" y="304920"/>
            <a:ext cx="2286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предели слова в столб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ово трудное попалось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, братцы, не бе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ы напишем в слове букву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забудем никог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.ревня, гор.д,завтр., лаг.рь, б.гаж, р.стение, ур.жай, учит.ль, ж.лезо, д.ректор, к.стрюля, г.рох, л.сица, обл.ко, ин.й, б.лет, к.лесо, г.зета, к.рабль, д.кабрь, к.рзина, .гурец, п.льто, п.с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4495680"/>
          <a:ext cx="8001000" cy="207324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73" descr="Картинка 101 из 241656"/>
          <p:cNvPicPr/>
          <p:nvPr/>
        </p:nvPicPr>
        <p:blipFill>
          <a:blip r:embed="rId1"/>
          <a:stretch/>
        </p:blipFill>
        <p:spPr>
          <a:xfrm>
            <a:off x="380880" y="838080"/>
            <a:ext cx="3124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бери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Буквы рассыпалис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ыЯз         Кинько         короСа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еВ       сиЛица        Спабо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зор      коМоло        яЗац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Пан      лаПток         вадо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еза     боРата        Яд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Картинка 37 из 243539"/>
          <p:cNvPicPr/>
          <p:nvPr/>
        </p:nvPicPr>
        <p:blipFill>
          <a:blip r:embed="rId1"/>
          <a:stretch/>
        </p:blipFill>
        <p:spPr>
          <a:xfrm>
            <a:off x="6477120" y="2362320"/>
            <a:ext cx="24382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л</a:t>
            </a: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и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с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ищное млекопитающее с пушистым длинным хвост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называют хитрого, льстивого челов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Trebuchet MS"/>
              </a:rPr>
              <a:t>У мосточка под кусточком две л</a:t>
            </a:r>
            <a:r>
              <a:rPr b="1" lang="ru-RU" sz="3600" spc="-1" strike="noStrike">
                <a:solidFill>
                  <a:srgbClr val="0070c0"/>
                </a:solidFill>
                <a:latin typeface="Trebuchet MS"/>
              </a:rPr>
              <a:t>и</a:t>
            </a:r>
            <a:r>
              <a:rPr b="1" lang="ru-RU" sz="2200" spc="-1" strike="noStrike">
                <a:solidFill>
                  <a:srgbClr val="0070c0"/>
                </a:solidFill>
                <a:latin typeface="Trebuchet MS"/>
              </a:rPr>
              <a:t>сички, две сестрич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Лисонька – л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и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ица, хитрая сестри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     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и во сне кур считает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     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сегда сытнее волка живё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         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Хвост пушисты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         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Мех золотисты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         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 лесу живё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         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 деревне кур крадё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0" descr="i?id=386568355-52-72"/>
          <p:cNvPicPr/>
          <p:nvPr/>
        </p:nvPicPr>
        <p:blipFill>
          <a:blip r:embed="rId1"/>
          <a:stretch/>
        </p:blipFill>
        <p:spPr>
          <a:xfrm>
            <a:off x="5867280" y="3352680"/>
            <a:ext cx="2971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Arial"/>
              </a:rPr>
              <a:t>м</a:t>
            </a:r>
            <a:r>
              <a:rPr b="1" lang="ru-RU" sz="6000" spc="-1" strike="noStrike">
                <a:solidFill>
                  <a:srgbClr val="996600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996600"/>
                </a:solidFill>
                <a:latin typeface="Arial"/>
              </a:rPr>
              <a:t>дв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упное хищное животное с длинной шерстью, любит мё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говорят о неуклюжем, неповоротливом челове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говорят о человеке, у которого нет музыкального слуха: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       на ухо наступи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       зима – одна ночь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                                     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бояться, в лес не ходи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то в лесу глухом живё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уклюжий, косолапы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том ест малину, мёд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зимой сосёт он лапу.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i?id=181185075-19-72"/>
          <p:cNvPicPr/>
          <p:nvPr/>
        </p:nvPicPr>
        <p:blipFill>
          <a:blip r:embed="rId1"/>
          <a:stretch/>
        </p:blipFill>
        <p:spPr>
          <a:xfrm>
            <a:off x="533520" y="358128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машнее животное, которое охраняет д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говорят о злом, грубом челове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Если люди живут недружно, про них говорят: как кошка с собак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Приобрёл большой навык в чём – либо: собаку съ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   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помнит, кто её корм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ладишь – ласкаетс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азнишь – кусаетс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цепи сид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м сторожит.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ь для с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аки – с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246_tuzi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3809880"/>
            <a:ext cx="41148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с</a:t>
            </a:r>
            <a:r>
              <a:rPr b="1" lang="ru-RU" sz="6000" spc="-1" strike="noStrike">
                <a:solidFill>
                  <a:srgbClr val="7030a0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Трещала с самого утра                   2.  Сорока – белобок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ра, пора, пора, пора,                           Где была? – Далёк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ая с ней морока,                                 Кашку варил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гда трещит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     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                        Деток корми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……………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Так говорят о человеке, когда он говорит без останов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трещит как соро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   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на хвосте принесла.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                                      </a:t>
            </a: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Сорок с</a:t>
            </a:r>
            <a:r>
              <a:rPr b="1" lang="ru-RU" sz="3600" spc="-1" strike="noStrike">
                <a:solidFill>
                  <a:srgbClr val="7030a0"/>
                </a:solidFill>
                <a:latin typeface="Trebuchet MS"/>
              </a:rPr>
              <a:t>о</a:t>
            </a: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рок воровали горох.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                                            </a:t>
            </a: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Приручить с</a:t>
            </a:r>
            <a:r>
              <a:rPr b="1" lang="ru-RU" sz="3600" spc="-1" strike="noStrike">
                <a:solidFill>
                  <a:srgbClr val="7030a0"/>
                </a:solidFill>
                <a:latin typeface="Trebuchet MS"/>
              </a:rPr>
              <a:t>о</a:t>
            </a: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року одна морок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                                             </a:t>
            </a: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А сорок с</a:t>
            </a:r>
            <a:r>
              <a:rPr b="1" lang="ru-RU" sz="3600" spc="-1" strike="noStrike">
                <a:solidFill>
                  <a:srgbClr val="7030a0"/>
                </a:solidFill>
                <a:latin typeface="Trebuchet MS"/>
              </a:rPr>
              <a:t>о</a:t>
            </a: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рок – сорок мор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Картинка 1 из 67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733920"/>
            <a:ext cx="37339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</a:t>
            </a: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роб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ленькая птичка с серо – чёрным оперением. Никогда не улетает в тёплые края. Обитает около жилья челов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 опытного, бывалого человека говорят: стреляный вороб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 очень маленького человека говорят: с воробьиный но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Кто боится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    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, тот не сеет про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rebuchet MS"/>
              </a:rPr>
              <a:t>Птичка – невелич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rebuchet MS"/>
              </a:rPr>
              <a:t>Ножки имеет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rebuchet MS"/>
              </a:rPr>
              <a:t>А ходить не уме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rebuchet MS"/>
              </a:rPr>
              <a:t>Хочет сделать шажок-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rebuchet MS"/>
              </a:rPr>
              <a:t>Получается прыж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rebuchet MS"/>
              </a:rPr>
              <a:t>Вор украл в</a:t>
            </a:r>
            <a:r>
              <a:rPr b="0" lang="ru-RU" sz="3600" spc="-1" strike="noStrike">
                <a:solidFill>
                  <a:srgbClr val="c00000"/>
                </a:solidFill>
                <a:latin typeface="Trebuchet MS"/>
              </a:rPr>
              <a:t>о</a:t>
            </a:r>
            <a:r>
              <a:rPr b="0" lang="ru-RU" sz="2200" spc="-1" strike="noStrike">
                <a:solidFill>
                  <a:srgbClr val="c00000"/>
                </a:solidFill>
                <a:latin typeface="Trebuchet MS"/>
              </a:rPr>
              <a:t>робья с ворот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i?id=97526123-24-72"/>
          <p:cNvPicPr/>
          <p:nvPr/>
        </p:nvPicPr>
        <p:blipFill>
          <a:blip r:embed="rId1"/>
          <a:stretch/>
        </p:blipFill>
        <p:spPr>
          <a:xfrm>
            <a:off x="5334120" y="373392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7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пОс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Предметы, из которых едят, пьют, в которых готовят пищ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ережёная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   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два века жив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   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любит чист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теклянную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     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береги, расшибёшь - не почини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rebuchet MS"/>
              </a:rPr>
              <a:t>Уж не буду, уж не буду я посуду обиж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rebuchet MS"/>
              </a:rPr>
              <a:t>Буду, буду я посуду и любить, и уваж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rebuchet MS"/>
              </a:rPr>
              <a:t>             </a:t>
            </a:r>
            <a:r>
              <a:rPr b="1" lang="ru-RU" sz="2000" spc="-1" strike="noStrike">
                <a:solidFill>
                  <a:srgbClr val="0070c0"/>
                </a:solidFill>
                <a:latin typeface="Trebuchet MS"/>
              </a:rPr>
              <a:t>Тарелки помы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rebuchet MS"/>
              </a:rPr>
              <a:t>             </a:t>
            </a:r>
            <a:r>
              <a:rPr b="1" lang="ru-RU" sz="2000" spc="-1" strike="noStrike">
                <a:solidFill>
                  <a:srgbClr val="0070c0"/>
                </a:solidFill>
                <a:latin typeface="Trebuchet MS"/>
              </a:rPr>
              <a:t>И сложены в груд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rebuchet MS"/>
              </a:rPr>
              <a:t>             </a:t>
            </a:r>
            <a:r>
              <a:rPr b="1" lang="ru-RU" sz="2000" spc="-1" strike="noStrike">
                <a:solidFill>
                  <a:srgbClr val="0070c0"/>
                </a:solidFill>
                <a:latin typeface="Trebuchet MS"/>
              </a:rPr>
              <a:t>А мама и доч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rebuchet MS"/>
              </a:rPr>
              <a:t>             </a:t>
            </a:r>
            <a:r>
              <a:rPr b="1" lang="ru-RU" sz="2000" spc="-1" strike="noStrike">
                <a:solidFill>
                  <a:srgbClr val="0070c0"/>
                </a:solidFill>
                <a:latin typeface="Trebuchet MS"/>
              </a:rPr>
              <a:t>Вытирают </a:t>
            </a:r>
            <a:r>
              <a:rPr b="1" lang="ru-RU" sz="2800" spc="-1" strike="noStrike">
                <a:solidFill>
                  <a:srgbClr val="0070c0"/>
                </a:solidFill>
                <a:latin typeface="Trebuchet MS"/>
              </a:rPr>
              <a:t>     </a:t>
            </a:r>
            <a:r>
              <a:rPr b="1" lang="ru-RU" sz="2000" spc="-1" strike="noStrike">
                <a:solidFill>
                  <a:srgbClr val="0070c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Картинка 3 из 1214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4267080"/>
            <a:ext cx="43052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533520"/>
            <a:ext cx="8229600" cy="195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кАпу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городное растение, растущее обычно кочаном. Бывает белого и красного цве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з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       щи не гус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      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любит воду да хорошую погод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Хорошая        в кочан завьётся, а плохая – в листьях сгниё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rebuchet MS"/>
              </a:rPr>
              <a:t>Лето целое старалас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rebuchet MS"/>
              </a:rPr>
              <a:t>Одевалась, одевалась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rebuchet MS"/>
              </a:rPr>
              <a:t>А как осень подошл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rebuchet MS"/>
              </a:rPr>
              <a:t>Нам одёжки отд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rebuchet MS"/>
              </a:rPr>
              <a:t>Сотню одежонок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rebuchet MS"/>
              </a:rPr>
              <a:t>Сложили мы в бочон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rebuchet MS"/>
              </a:rPr>
              <a:t>Мы для неё готовим кадки и крупной соли полмеш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Картинка 25 из 20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200400"/>
            <a:ext cx="4238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иши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 спокойно жили в книж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нижку вдруг прогрызли мы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слов кусочки откуси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книжки в норку утащи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.робей          лаг.рь          обл.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.лет            .зык               т.п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б.ль           к.пуста        п.т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дежда           мес.ц            ве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Картинка 11 из 285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1066680"/>
            <a:ext cx="26672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2-11T04:50:3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