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gif" ContentType="image/gif"/>
  <Override PartName="/ppt/media/image7.png" ContentType="image/png"/>
  <Override PartName="/ppt/media/image11.wmf" ContentType="image/x-wmf"/>
  <Override PartName="/ppt/media/image8.wmf" ContentType="image/x-wmf"/>
  <Override PartName="/ppt/media/image9.png" ContentType="image/png"/>
  <Override PartName="/ppt/media/image10.wmf" ContentType="image/x-wmf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dt" idx="5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5"/>
          <p:cNvSpPr>
            <a:spLocks noGrp="1"/>
          </p:cNvSpPr>
          <p:nvPr>
            <p:ph type="ftr" idx="5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PlaceHolder 6"/>
          <p:cNvSpPr>
            <a:spLocks noGrp="1"/>
          </p:cNvSpPr>
          <p:nvPr>
            <p:ph type="sldNum" idx="5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775D-EACF-4767-8A1E-7697F5C57D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E6CC-ED4C-4DA8-A8B6-EE7AA537866B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94A8-D09F-4EEB-93C6-DD5340A383F0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BF15-AB04-491B-A87E-C191D118FCFB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0AB1-75FC-4A26-992D-D7693848A42B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69FF-4000-4AF3-ADEA-0EDE82FA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5197-1376-4E49-8F2D-CCD6CF13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8EFC3-8D1D-45D6-A032-BB11A250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5C1DE-5E13-4C49-BE46-E101072F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49B08-D4CB-48F1-BD26-9C9D5070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CB9B0-11FB-4DFE-A0FA-309C4FCC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D56F1-EE35-4063-B7C9-A238A4DC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2A7319-B099-48CF-B887-52D69A83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54AA4-8FEE-49DF-967B-31EC8EB2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14069-BBA6-4F97-8689-D95E8669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5E4D8-04E4-4D2E-B796-7ACABCA0A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51EF8-FBB2-4250-A66B-57782EF7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22D1-A3CA-4935-9678-3F0233612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10C06B-8A57-41E8-9895-2D90B283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4DBE6D-BC0E-45B1-92B8-0B3697BA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0F4BDF-2993-4908-88EE-375ACD3A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199195-8524-46FA-8D2E-862D05C6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3DA3A-3781-45DF-ABFF-CFEF2F94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622E8F-0FF1-4E87-9BBF-FD422FB6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9A3DA-CA70-4F88-806F-5602F933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388D2A-A674-4BF5-8610-1B901937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CD68A-9936-45B9-8BAE-6358ED4B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C0C48-73EE-41D8-9988-FB0A73692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1F72-E555-441D-B211-77BACDDF5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3149D3-C7F2-4ED6-B4D9-FAB19D50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1B3873F-E0A3-4640-8C8B-A6D131D8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C8D6536-D387-422C-BE7F-EE86FF2D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2AA23E5-23A5-400E-B54C-EEEB0D34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3E5BBA1-4ACF-4CD6-AF1C-43609612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F6357C1-2C74-4ECC-B942-8791B031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06DDF71-96B8-401C-A06F-4D8099D8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F95A94A-1447-43CF-891B-8DB4AF48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0EBD956-5248-4CEC-B128-845916BC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FA7807A-2A61-4809-9DED-778EF114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6186-CFA2-416D-882D-BE2CECA5B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01F9A7E-CCE7-4CC9-ACB9-001AF6A1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9786E74-DE51-4F8E-B493-4B9D7A455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4ED44E5-CD70-4B13-AC4A-E4A5D784A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9A7B8B-F7B2-4BAA-B081-84E69800B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F76489-BBD2-4A0B-9948-533AB042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D721BB-AF95-4FB2-AA62-F34D16C5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EFAA9-4801-4302-B913-58EC690E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4417C9-C1CE-40A0-8586-F86118CE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3313AB-FC42-4D26-9C99-B8BAAAFF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7BD179-29A1-4A0B-AC68-C70638A7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394F-24A9-430A-9295-26246D19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E777D5-478E-4EA1-844B-E0DE7A6B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203446-75D9-42BD-A89A-EBB34E65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67FCA0-1416-46C0-A20F-56EA2E8E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883C5-68E4-49F3-BF74-764BE913B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A669E-B510-4B44-B105-C9119D1D3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466E55-454D-46E3-BFB4-775CE195F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32945C-1B2B-470A-BF29-C7103F2D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D312B0-C4C7-4EA1-8EC6-0F96A364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840CB9-22FC-43D0-8820-284CA56F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CB4175-A5A5-416A-8F0C-67006264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B573-5A99-482F-82F4-635B74A0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E7ADDF-ECEA-490D-82A0-D24582FE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351C2B-18D6-4C4B-8FE0-3F61B8CC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ECE679-9788-42D6-B9B4-6A695CE1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6FF153-6C2F-4463-AE2F-34CDD373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F86EE9-4FF9-4809-930C-398F103F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AC90D4-3A4D-453C-8C18-4C785B2EA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DFC34A-4E73-4D63-A177-918B45259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0BD118-ABD7-41D3-96B7-BE92CCDF6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F98F8B-793F-41BE-B066-EB60C837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47EC0C-0499-428A-9808-4C2763A8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70A5-3A10-4888-9321-FCD9352E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D17120-DFBA-47B4-9A2D-CD691FF2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30AB7C-5BB1-42A6-AE18-5E89207F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D83FC6-6D34-417C-A3E8-AE68FD25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6C11A1-9D49-406C-9CF6-521BBBD5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D95987-AF31-4C00-B548-F373501D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97F2E7-7A6D-4CDB-ABCC-7356976C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D59321-B112-47B5-A9CF-825D0E3E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D2D0F2-B53D-48DD-9F97-FF331EC8F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7E8F52-BE63-4CE1-9CFD-0DE09CD36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3DB07E-CA29-4F2E-ACC9-77F93E5DF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569F-A90F-4054-87AD-E5D5CBDA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BC1341-814F-4F2A-A5C7-C734DFC6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6FD215-74DA-4D57-9F4C-6B79C773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40708B-827E-44FA-8874-D00FD158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2BBB5B-E836-4C95-950F-56BF39A5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17ED5E-BD81-41D9-8935-9E673A27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DD8109-B1B7-46D7-8344-236AC4C7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845739-2F2A-48FD-B99D-67CC4ADC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94AB81-BAE8-412B-90FE-A5169B6F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035000-0B8B-44B0-9D7D-06C93FB1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A87F57-E4C8-4F4E-A89D-00937E2EA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BADF-3757-417E-A50F-7B0D303A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11A88D-0D5B-40EB-9CD6-D143B4DBE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628769-264D-463E-AD8B-4245A7D5B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FE1388-335D-4DF1-9397-F7F82E72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829609-AC1D-4362-821E-1B555F99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03967D-ED33-48E2-B1BF-6C9C7DD1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B9481D-0BF0-40FB-A8FA-97C1D874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539139-FFC3-4273-B127-2F36BF6C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28DDBE-6E48-4E80-A08F-38DDFFFC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A0334D-13D2-4263-9201-CD28CBF4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B14712-D0D0-4DA0-94C9-09109A7E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4A27-BB85-4EA0-ADDD-84FCB81F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1FCD62-C7A0-4A7C-A840-BDDC31E3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883B06-A8DA-4A21-9170-99C64A3FE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B324D9-87C1-4FDD-B4AD-3F22C454F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DE37FF-3B7E-4B6B-80D1-F58BB27E6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A363E7-BF25-42B7-8558-BFD68081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7F48EE-1894-4097-9016-D0EF3420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547863-6EC8-47F9-9A16-2350D279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03619A-AAD7-4E6E-BC28-CB7CF8E7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409CA3-19B3-48F1-883A-0C29A615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055767-0E0D-4819-AD95-F10AFF96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8F70-AE66-49E9-87E7-C88FE4CC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417F-15A4-4A21-AF76-3584091E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C5AD7D-BC27-444D-A631-374151AF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F33AA3-473C-4D43-9258-33C237A6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43E7F3-1C67-43D3-9434-21DC750B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FEF083-CF27-4BF5-997D-8EE577A0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DF2311-4B0C-4012-8BC8-36E7E034C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D214-39CC-4FAA-88B7-587ECC7B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7EEE-0D7A-4ED3-88ED-C0F914A9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4239-5A90-4D6D-B710-BA1F12127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2D81-B5F5-4082-AF1A-E76817023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03841-C56D-4B10-BF1E-DDD9BD6CC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1E927-0AA3-45D6-B0FC-E178F23A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7F543-689A-45EC-A9C6-517EEAC3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FA0AA-6873-4893-9CEC-5E1E155E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0DB6B-CFF1-4EA3-BBB5-BC6E429C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A1C8-680F-46DB-9491-E6457FAA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8CA99-28B9-4A8F-B9F8-17DB21D6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3BB35-D30C-4F82-A118-5A3728AD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74C52-33BE-4AEC-AE8E-4DC5A201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D3E47-2CE0-4A1F-8C38-60283AB0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CDFFF-ED13-4D55-952C-8B343438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144D2-514D-4C11-A8F0-DD7A64C2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D0615-DEE0-4A1E-BCA6-F2E60D265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6FA44-C842-4A0B-B936-08191CB68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BF688-DC26-4D79-9D8E-F2D17803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095DE-329F-4700-9573-940971A6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12F8-83A1-4925-BD40-CD50F70D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BEAD7-01DC-4735-8164-B8070376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4376E-2835-44E9-8826-CD520657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8CADC-2C29-4D3B-B83D-E23C75DE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1B8E9-0391-4B2C-8DBC-8B4697A6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D9C4B-DE79-448F-AEEA-9DF6AF32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6525D-2EB9-4BB8-8A17-29134982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BF89F-22BC-48A4-BE0B-B81A185E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4BC59-66E4-454E-B540-5A100DDC5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0792F-070E-4ACF-8CDF-5834331CD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021B5-8D81-4746-B0A1-E861D63D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EC0C-18FF-4925-AD04-35FC4F47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A2891-35DC-4B12-8E16-AE85854B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F4C24-ABE9-43B7-BB6E-622CD6C6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94846-ED77-4976-AE6C-AB637E96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59047-2ACA-41E5-8065-5C624866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2CFD2-F8B1-4F17-94A2-FAE74242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AE1A8-063B-405F-8DE3-A11A0737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8C581-479A-4022-B594-9D667639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E4F90-6D52-44DE-9D32-7FD450C9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5707D-CFF8-4940-8EF1-F76F8581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3781E-80DC-4181-8E0F-C80BF0D10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63CA-3976-476D-B8AC-F2501EB6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15F03-262E-45A7-804F-4EB5D59D2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7FCF9-CC69-4BAE-9A87-D46E52CC4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B6BFA-ACC8-412C-8515-97BAC428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DF39D-C46A-490D-A997-6B19CF3E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CFC30-8550-446A-BFA9-723EFFE9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A9420-8F4B-481B-96DB-B91072DD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DD486-11A7-4B9A-A95F-922FE9C2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B3E03-735E-4821-87DA-EAD64744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EF5DA-80EF-4C90-978C-68664EEB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04C0E-087A-4F56-8042-528C0F95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2CFD-6C06-4623-958F-8053623A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047C4-3AC9-4605-AB83-B79A4AA6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99FAC-5B21-4220-9995-6EDCFFCD7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E583A-CA3B-4EDB-BDF6-918038117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48C99-38EA-4CCE-9079-77C5456EA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13798-8BE4-4C43-B991-8D0E6FD9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B946D-83E0-4815-83B0-D0E522FB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964CE-1288-4700-B63A-8A7379AA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97D76-D334-422A-B36C-11C69D95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57B57-B0CB-4577-9CE6-50F90386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C9E06-90DB-4F68-842C-55616053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ADD4-D1C5-474E-8108-6D00C87C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94421-2CD8-4FAD-9A6B-CA348C2B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9C4C5-3BD8-4C6D-B967-8B4358CD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F04A3-72EC-459F-9742-0BF55C14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3133F-149A-4D87-833C-D99D6909B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D416C-17E6-43E8-BE3C-010CDEA13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4E0B6-5D8D-47FD-BDE3-FA5DEB407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D1A9E-6BC9-4D9F-B128-7A3C823C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ACF58-CE0F-4201-A0EA-06E562A0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0F6C2-797A-4404-ADBE-C4D57D18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FEDA4-6671-491C-939F-5D981DD4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CB27-34F4-4D45-9110-CE8E279A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C03D9-41B4-4C0B-8F6E-EF7FB81E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86EA6-2032-45DE-AE6C-472ED5F0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A5F00-7F3A-4DD6-B874-D8A6EF00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1A8F9-03D3-4C9A-A071-462AF65E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1DD61-05E4-4F9E-AF98-4F08F5C9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7A70B-622D-4B77-939C-3CF3EB763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1AAED-86BD-4BD6-B70E-30B35A533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4C909-164F-46A7-A445-5D9A3292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28C86-F7D7-4E57-8523-17FD7195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CCF37-D2C1-40AF-813E-0159AE3D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A507-A552-4ED8-B2D3-0D762B46175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611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612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3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614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615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6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7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8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19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dt" idx="28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ftr" idx="29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sldNum" idx="30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EA8F-08BB-4B25-914B-8626DFB22DF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2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3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4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6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7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1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0E7E-2557-412D-905F-3D53F8B010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3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dt" idx="33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10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1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2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3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4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5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6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7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8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9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0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1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2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3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4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5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6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7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8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9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0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1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2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3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4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5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6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7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8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739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740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741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742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743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744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6c6c6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c6c6c"/>
                      </a:gs>
                      <a:gs pos="100000">
                        <a:srgbClr val="eaeae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c6c6c"/>
                      </a:gs>
                      <a:gs pos="100000">
                        <a:srgbClr val="eaeae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6c6c6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48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c6c6c"/>
                    </a:gs>
                    <a:gs pos="100000">
                      <a:srgbClr val="eaeae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6c6c6c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c6c6c"/>
                    </a:gs>
                    <a:gs pos="100000">
                      <a:srgbClr val="eaeae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6c6c6c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2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753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6c6c6c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c6c6c"/>
                    </a:gs>
                    <a:gs pos="100000">
                      <a:srgbClr val="eaeae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c6c6c"/>
                    </a:gs>
                    <a:gs pos="50000">
                      <a:srgbClr val="eaeaea"/>
                    </a:gs>
                    <a:gs pos="100000">
                      <a:srgbClr val="6c6c6c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>
                    <a:gd name="textAreaLeft" fmla="*/ 0 w 350640"/>
                    <a:gd name="textAreaRight" fmla="*/ 351000 w 350640"/>
                    <a:gd name="textAreaTop" fmla="*/ 0 h 365040"/>
                    <a:gd name="textAreaBottom" fmla="*/ 365040 h 365040"/>
                  </a:gdLst>
                  <a:ahLst/>
                  <a:rect l="textAreaLeft" t="textAreaTop" r="textAreaRight" b="textAreaBottom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6c6c6c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>
                    <a:gd name="textAreaLeft" fmla="*/ 0 w 352440"/>
                    <a:gd name="textAreaRight" fmla="*/ 352800 w 352440"/>
                    <a:gd name="textAreaTop" fmla="*/ 0 h 365040"/>
                    <a:gd name="textAreaBottom" fmla="*/ 365040 h 365040"/>
                  </a:gdLst>
                  <a:ahLst/>
                  <a:rect l="textAreaLeft" t="textAreaTop" r="textAreaRight" b="textAreaBottom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6c6c6c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6c6c6c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3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3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3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7C3C-9616-4CE4-B435-0A51BF3EBF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Group 2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801" name="AutoShape 3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2" name="AutoShape 4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3" name="AutoShape 5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4" name="AutoShape 6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5" name="AutoShape 7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806" name="Group 8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807" name="Line 9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8" name="Line 10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9" name="Line 11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0" name="Line 12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811" name="AutoShape 13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812" name="Group 15"/>
          <p:cNvGrpSpPr/>
          <p:nvPr/>
        </p:nvGrpSpPr>
        <p:grpSpPr>
          <a:xfrm>
            <a:off x="3344760" y="2457360"/>
            <a:ext cx="5450040" cy="4683960"/>
            <a:chOff x="3344760" y="2457360"/>
            <a:chExt cx="5450040" cy="4683960"/>
          </a:xfrm>
        </p:grpSpPr>
        <p:sp>
          <p:nvSpPr>
            <p:cNvPr id="813" name="AutoShape 16"/>
            <p:cNvSpPr/>
            <p:nvPr/>
          </p:nvSpPr>
          <p:spPr>
            <a:xfrm>
              <a:off x="7512120" y="3355920"/>
              <a:ext cx="1282680" cy="1282680"/>
            </a:xfrm>
            <a:prstGeom prst="diamond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4" name="Freeform 17"/>
            <p:cNvSpPr/>
            <p:nvPr/>
          </p:nvSpPr>
          <p:spPr>
            <a:xfrm>
              <a:off x="6446880" y="3071880"/>
              <a:ext cx="639720" cy="189216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1892160"/>
                <a:gd name="textAreaBottom" fmla="*/ 1892520 h 1892160"/>
              </a:gdLst>
              <a:ahLst/>
              <a:rect l="textAreaLeft" t="textAreaTop" r="textAreaRight" b="textAreaBottom"/>
              <a:pathLst>
                <a:path w="403" h="1192">
                  <a:moveTo>
                    <a:pt x="399" y="0"/>
                  </a:moveTo>
                  <a:lnTo>
                    <a:pt x="0" y="399"/>
                  </a:lnTo>
                  <a:lnTo>
                    <a:pt x="0" y="1191"/>
                  </a:lnTo>
                  <a:lnTo>
                    <a:pt x="402" y="789"/>
                  </a:lnTo>
                  <a:lnTo>
                    <a:pt x="399" y="0"/>
                  </a:lnTo>
                </a:path>
              </a:pathLst>
            </a:custGeom>
            <a:solidFill>
              <a:srgbClr val="330099"/>
            </a:solidFill>
            <a:ln w="12600">
              <a:solidFill>
                <a:srgbClr val="33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5" name="AutoShape 18"/>
            <p:cNvSpPr/>
            <p:nvPr/>
          </p:nvSpPr>
          <p:spPr>
            <a:xfrm rot="18900000">
              <a:off x="4011120" y="4175280"/>
              <a:ext cx="1990800" cy="1990440"/>
            </a:xfrm>
            <a:prstGeom prst="rtTriangl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6" name="AutoShape 19"/>
            <p:cNvSpPr/>
            <p:nvPr/>
          </p:nvSpPr>
          <p:spPr>
            <a:xfrm flipH="1" rot="13500000">
              <a:off x="6050520" y="6052680"/>
              <a:ext cx="901800" cy="901800"/>
            </a:xfrm>
            <a:prstGeom prst="rtTriangl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7" name="AutoShape 20"/>
            <p:cNvSpPr/>
            <p:nvPr/>
          </p:nvSpPr>
          <p:spPr>
            <a:xfrm rot="16200000">
              <a:off x="7021440" y="4646520"/>
              <a:ext cx="1362240" cy="1352880"/>
            </a:xfrm>
            <a:prstGeom prst="rtTriangl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8" name="AutoShape 21"/>
            <p:cNvSpPr/>
            <p:nvPr/>
          </p:nvSpPr>
          <p:spPr>
            <a:xfrm rot="10800000">
              <a:off x="3344760" y="2457360"/>
              <a:ext cx="1990800" cy="1990800"/>
            </a:xfrm>
            <a:prstGeom prst="rtTriangl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9" name="AutoShape 22"/>
            <p:cNvSpPr/>
            <p:nvPr/>
          </p:nvSpPr>
          <p:spPr>
            <a:xfrm flipH="1" rot="8100000">
              <a:off x="5412240" y="4289040"/>
              <a:ext cx="901800" cy="901800"/>
            </a:xfrm>
            <a:prstGeom prst="rtTriangl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20" name="Rectangle 23"/>
          <p:cNvSpPr/>
          <p:nvPr/>
        </p:nvSpPr>
        <p:spPr>
          <a:xfrm>
            <a:off x="6588000" y="5181480"/>
            <a:ext cx="2556000" cy="38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dt" idx="37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 type="ftr" idx="38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 type="sldNum" idx="39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CC16-F4E7-4FEF-A218-FFC81412E83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863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864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865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custGeom>
                  <a:avLst/>
                  <a:gdLst>
                    <a:gd name="textAreaLeft" fmla="*/ 0 w 1148040"/>
                    <a:gd name="textAreaRight" fmla="*/ 1148040 w 1148040"/>
                    <a:gd name="textAreaTop" fmla="*/ 0 h 1359000"/>
                    <a:gd name="textAreaBottom" fmla="*/ 1359360 h 1359000"/>
                  </a:gdLst>
                  <a:ahLst/>
                  <a:rect l="textAreaLeft" t="textAreaTop" r="textAreaRight" b="textAreaBottom"/>
                  <a:pathLst>
                    <a:path fill="none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</a:path>
                    <a:path stroke="0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  <a:lnTo>
                        <a:pt x="21518" y="2258"/>
                      </a:lnTo>
                      <a:close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>
                    <a:gd name="textAreaLeft" fmla="*/ 0 w 1643040"/>
                    <a:gd name="textAreaRight" fmla="*/ 1643400 w 1643040"/>
                    <a:gd name="textAreaTop" fmla="*/ 0 h 3186000"/>
                    <a:gd name="textAreaBottom" fmla="*/ 3186360 h 3186000"/>
                  </a:gdLst>
                  <a:ahLst/>
                  <a:rect l="textAreaLeft" t="textAreaTop" r="textAreaRight" b="textAreaBottom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3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>
                  <a:gd name="textAreaLeft" fmla="*/ 0 w 514440"/>
                  <a:gd name="textAreaRight" fmla="*/ 514440 w 514440"/>
                  <a:gd name="textAreaTop" fmla="*/ 0 h 366480"/>
                  <a:gd name="textAreaBottom" fmla="*/ 366840 h 366480"/>
                </a:gdLst>
                <a:ahLst/>
                <a:rect l="textAreaLeft" t="textAreaTop" r="textAreaRight" b="textAreaBottom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874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dt" idx="40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sldNum" idx="42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635C-120B-44B0-B1D5-454F4527D0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91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91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91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94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94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96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96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4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4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1691-6C00-44FC-B08D-2BC1065381A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2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1023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4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5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6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7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8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9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0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1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2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3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4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5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6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7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8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9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0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1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2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3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4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5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6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7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8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9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0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1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2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3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4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5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6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7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8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9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0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1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2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3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4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5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6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7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8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9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0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1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2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3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4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5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6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7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8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9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0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1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2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3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4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5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6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7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8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9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0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1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2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3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4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5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6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7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8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9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0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1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2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3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4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5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6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7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8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9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0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1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2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3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4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5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6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7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8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9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0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1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2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3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4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5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6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7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8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9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0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1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2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3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4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5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6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7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8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9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0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1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2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3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4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5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6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7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8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9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0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1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2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3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4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5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6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7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8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9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0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1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2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3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4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5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6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7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8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9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0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1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2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3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4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5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6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7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8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9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0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1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2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3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4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5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6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7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8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9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0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1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2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3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4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5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6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7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8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9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0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1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202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1203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4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5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6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7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208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1209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0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1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2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3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4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5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6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7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8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9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0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1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2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3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4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225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8C79-5A0A-4418-9A3A-B513678CAD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26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26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27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27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27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28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28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7B6D-27D9-441B-9703-6F3318595A1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dt" idx="4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CA7F-E6B5-48A6-AEB7-16CA8277D4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99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6D7B-DC70-449B-9836-BB9896BF24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2"/>
          <p:cNvSpPr/>
          <p:nvPr/>
        </p:nvSpPr>
        <p:spPr>
          <a:xfrm flipH="1" rot="6480000">
            <a:off x="729720" y="1488600"/>
            <a:ext cx="901800" cy="901800"/>
          </a:xfrm>
          <a:prstGeom prst="rtTriangle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8995-56EB-4AD3-905C-999F41CBA4A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176" name="AutoShape 9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AutoShape 10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AutoShape 11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AutoShape 12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AutoShape 13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81" name="Group 14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182" name="Line 15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" name="Line 16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" name="Line 17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" name="Line 18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86" name="AutoShape 19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4B8C-4C3B-404D-8B94-7022BEFC5B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230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231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" name="Arc 17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1832040"/>
                  <a:gd name="textAreaBottom" fmla="*/ 1832400 h 1832040"/>
                </a:gdLst>
                <a:ahLst/>
                <a:rect l="textAreaLeft" t="textAreaTop" r="textAreaRight" b="textAreaBottom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close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39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54e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41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79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80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81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2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3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4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5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6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7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8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9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0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1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2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3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4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5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6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7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8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9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0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1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2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3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4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5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306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07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23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26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5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6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7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8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9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0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1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2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8A5A-D287-4193-B97B-EE7ACE835EE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BF57-3861-424E-8F64-4A3BB66170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390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391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92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398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404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410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416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1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422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423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6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29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2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35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38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441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444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22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5B35-AEE7-4810-B73B-3BB874171D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5759-6FBF-41AC-9D2A-5F4DD9878F1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3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3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4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4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4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54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5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5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5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561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562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56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564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56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16"/>
          <p:cNvSpPr/>
          <p:nvPr/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F7C5-DADD-4CEA-800D-034D73C9C7F0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11280" y="39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Times New Roman"/>
              </a:rPr>
              <a:t>Здоровьесберегающие</a:t>
            </a:r>
            <a:r>
              <a:rPr b="1" lang="ru-RU" sz="5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ffff66"/>
                </a:solidFill>
                <a:latin typeface="Times New Roman"/>
              </a:rPr>
              <a:t>технологии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66"/>
                </a:solidFill>
                <a:uFillTx/>
                <a:latin typeface="Times New Roman"/>
              </a:rPr>
              <a:t>Стиль общения педагога с учащимися в условиях здоровьесберегающих технологий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1" name="TextBox 4"/>
          <p:cNvSpPr/>
          <p:nvPr/>
        </p:nvSpPr>
        <p:spPr>
          <a:xfrm>
            <a:off x="7072200" y="785880"/>
            <a:ext cx="192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одготовила учитель Бровкина А. Н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2AB7-0884-4A3C-8FAE-DB93B1188A80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9" name="AutoShape 26"/>
          <p:cNvSpPr/>
          <p:nvPr/>
        </p:nvSpPr>
        <p:spPr>
          <a:xfrm>
            <a:off x="5454720" y="2852640"/>
            <a:ext cx="3871800" cy="4005360"/>
          </a:xfrm>
          <a:prstGeom prst="su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80" name="Organization Chart 12"/>
          <p:cNvGrpSpPr/>
          <p:nvPr/>
        </p:nvGrpSpPr>
        <p:grpSpPr>
          <a:xfrm>
            <a:off x="250920" y="549360"/>
            <a:ext cx="8568360" cy="5326200"/>
            <a:chOff x="250920" y="549360"/>
            <a:chExt cx="8568360" cy="5326200"/>
          </a:xfrm>
        </p:grpSpPr>
        <p:cxnSp>
          <p:nvCxnSpPr>
            <p:cNvPr id="1381" name="_s2052"/>
            <p:cNvCxnSpPr>
              <a:stCxn id="1382" idx="0"/>
              <a:endCxn id="1383" idx="2"/>
            </p:cNvCxnSpPr>
            <p:nvPr/>
          </p:nvCxnSpPr>
          <p:spPr>
            <a:xfrm flipV="1" rot="16200000">
              <a:off x="5538600" y="1712160"/>
              <a:ext cx="992160" cy="2999520"/>
            </a:xfrm>
            <a:prstGeom prst="bentConnector3">
              <a:avLst>
                <a:gd name="adj1" fmla="val 11506"/>
              </a:avLst>
            </a:prstGeom>
            <a:ln w="28440">
              <a:solidFill>
                <a:srgbClr val="8383ad"/>
              </a:solidFill>
              <a:miter/>
            </a:ln>
          </p:spPr>
        </p:cxnSp>
        <p:cxnSp>
          <p:nvCxnSpPr>
            <p:cNvPr id="1384" name="_s2053"/>
            <p:cNvCxnSpPr>
              <a:stCxn id="1385" idx="0"/>
              <a:endCxn id="1383" idx="2"/>
            </p:cNvCxnSpPr>
            <p:nvPr/>
          </p:nvCxnSpPr>
          <p:spPr>
            <a:xfrm flipV="1">
              <a:off x="4534920" y="2716200"/>
              <a:ext cx="3240" cy="992160"/>
            </a:xfrm>
            <a:prstGeom prst="bentConnector2">
              <a:avLst/>
            </a:prstGeom>
            <a:ln w="28440">
              <a:solidFill>
                <a:srgbClr val="8383ad"/>
              </a:solidFill>
              <a:miter/>
            </a:ln>
          </p:spPr>
        </p:cxnSp>
        <p:cxnSp>
          <p:nvCxnSpPr>
            <p:cNvPr id="1386" name="_s2054"/>
            <p:cNvCxnSpPr>
              <a:stCxn id="1387" idx="0"/>
              <a:endCxn id="1383" idx="2"/>
            </p:cNvCxnSpPr>
            <p:nvPr/>
          </p:nvCxnSpPr>
          <p:spPr>
            <a:xfrm flipH="1" flipV="1" rot="5400000">
              <a:off x="2539440" y="1712520"/>
              <a:ext cx="992160" cy="2999520"/>
            </a:xfrm>
            <a:prstGeom prst="bentConnector3">
              <a:avLst>
                <a:gd name="adj1" fmla="val 11506"/>
              </a:avLst>
            </a:prstGeom>
            <a:ln w="28440">
              <a:solidFill>
                <a:srgbClr val="8383ad"/>
              </a:solidFill>
              <a:miter/>
            </a:ln>
          </p:spPr>
        </p:cxnSp>
        <p:sp>
          <p:nvSpPr>
            <p:cNvPr id="1383" name="_s2055"/>
            <p:cNvSpPr/>
            <p:nvPr/>
          </p:nvSpPr>
          <p:spPr>
            <a:xfrm>
              <a:off x="3249720" y="549360"/>
              <a:ext cx="2570400" cy="2130480"/>
            </a:xfrm>
            <a:prstGeom prst="rect">
              <a:avLst/>
            </a:prstGeom>
            <a:solidFill>
              <a:srgbClr val="fefed6"/>
            </a:solidFill>
            <a:ln w="76320">
              <a:solidFill>
                <a:srgbClr val="babe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3399"/>
                  </a:solidFill>
                  <a:uFillTx/>
                  <a:latin typeface="Times New Roman"/>
                </a:rPr>
                <a:t>Типичные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3399"/>
                  </a:solidFill>
                  <a:uFillTx/>
                  <a:latin typeface="Times New Roman"/>
                </a:rPr>
                <a:t>стили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3399"/>
                  </a:solidFill>
                  <a:uFillTx/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3399"/>
                  </a:solidFill>
                  <a:uFillTx/>
                  <a:latin typeface="Times New Roman"/>
                </a:rPr>
                <a:t>воздействия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3399"/>
                  </a:solidFill>
                  <a:uFillTx/>
                  <a:latin typeface="Times New Roman"/>
                </a:rPr>
                <a:t>педагога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3399"/>
                  </a:solidFill>
                  <a:uFillTx/>
                  <a:latin typeface="Times New Roman"/>
                </a:rPr>
                <a:t>на учащихся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7" name="_s2056"/>
            <p:cNvSpPr/>
            <p:nvPr/>
          </p:nvSpPr>
          <p:spPr>
            <a:xfrm>
              <a:off x="250920" y="3745080"/>
              <a:ext cx="2570400" cy="2130480"/>
            </a:xfrm>
            <a:prstGeom prst="rect">
              <a:avLst/>
            </a:prstGeom>
            <a:solidFill>
              <a:srgbClr val="fefed6"/>
            </a:solidFill>
            <a:ln w="7632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99"/>
                  </a:solidFill>
                  <a:latin typeface="Times New Roman"/>
                </a:rPr>
                <a:t>Императивный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99"/>
                  </a:solidFill>
                  <a:latin typeface="Times New Roman"/>
                </a:rPr>
                <a:t>(авторитарный)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99"/>
                  </a:solidFill>
                  <a:latin typeface="Times New Roman"/>
                </a:rPr>
                <a:t>стиль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5" name="_s2057"/>
            <p:cNvSpPr/>
            <p:nvPr/>
          </p:nvSpPr>
          <p:spPr>
            <a:xfrm>
              <a:off x="3249720" y="3745080"/>
              <a:ext cx="2570400" cy="2130480"/>
            </a:xfrm>
            <a:prstGeom prst="rect">
              <a:avLst/>
            </a:prstGeom>
            <a:solidFill>
              <a:srgbClr val="fefed6"/>
            </a:solidFill>
            <a:ln w="7632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99"/>
                  </a:solidFill>
                  <a:latin typeface="Times New Roman"/>
                </a:rPr>
                <a:t>Либерально-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99"/>
                  </a:solidFill>
                  <a:latin typeface="Times New Roman"/>
                </a:rPr>
                <a:t>попустительский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99"/>
                  </a:solidFill>
                  <a:latin typeface="Times New Roman"/>
                </a:rPr>
                <a:t>стиль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2" name="_s2058"/>
            <p:cNvSpPr/>
            <p:nvPr/>
          </p:nvSpPr>
          <p:spPr>
            <a:xfrm>
              <a:off x="6248880" y="3745080"/>
              <a:ext cx="2570400" cy="2130480"/>
            </a:xfrm>
            <a:prstGeom prst="rect">
              <a:avLst/>
            </a:prstGeom>
            <a:solidFill>
              <a:srgbClr val="fefed6"/>
            </a:solidFill>
            <a:ln w="7632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3399"/>
                  </a:solidFill>
                  <a:latin typeface="Times New Roman"/>
                </a:rPr>
                <a:t>Демократический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99"/>
                  </a:solidFill>
                  <a:latin typeface="Times New Roman"/>
                </a:rPr>
                <a:t>стиль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388" name="AutoShape 23"/>
          <p:cNvSpPr/>
          <p:nvPr/>
        </p:nvSpPr>
        <p:spPr>
          <a:xfrm>
            <a:off x="611280" y="3933720"/>
            <a:ext cx="1800000" cy="1728720"/>
          </a:xfrm>
          <a:custGeom>
            <a:avLst/>
            <a:gdLst>
              <a:gd name="textAreaLeft" fmla="*/ 263520 w 1800000"/>
              <a:gd name="textAreaRight" fmla="*/ 1536480 w 1800000"/>
              <a:gd name="textAreaTop" fmla="*/ 253080 h 1728720"/>
              <a:gd name="textAreaBottom" fmla="*/ 147564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9" name="AutoShape 25"/>
          <p:cNvSpPr/>
          <p:nvPr/>
        </p:nvSpPr>
        <p:spPr>
          <a:xfrm>
            <a:off x="3492360" y="3933720"/>
            <a:ext cx="2016360" cy="1727280"/>
          </a:xfrm>
          <a:custGeom>
            <a:avLst/>
            <a:gdLst>
              <a:gd name="textAreaLeft" fmla="*/ 295200 w 2016360"/>
              <a:gd name="textAreaRight" fmla="*/ 1721160 w 2016360"/>
              <a:gd name="textAreaTop" fmla="*/ 252720 h 1727280"/>
              <a:gd name="textAreaBottom" fmla="*/ 147456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Номер слайда 5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7F1E-43EF-493D-B3FE-CE02F1108B59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993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Личностно-ориентированные (антропоцентрические) технологи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392" name=""/>
          <p:cNvGraphicFramePr/>
          <p:nvPr/>
        </p:nvGraphicFramePr>
        <p:xfrm>
          <a:off x="324000" y="1700280"/>
          <a:ext cx="8569080" cy="499896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рганизационно-педагогические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сихолого-педагогические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Учебно-воспитательные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18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пределяют структуру учебного процесса, способствующую предотвращению состояний переутомления, гиподинамии и других дезадаптационных состояний уч-ся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вязаны с непосредственной работой учителя на уроке (сюда же относится и психолого-педагогическое сопровождение всех элементов образовательного процесса)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ключают в себя программы по обучению заботе о своем здоровье и формированию культуры здоровья учащихс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Номер слайда 5"/>
          <p:cNvSpPr/>
          <p:nvPr/>
        </p:nvSpPr>
        <p:spPr>
          <a:xfrm>
            <a:off x="1371600" y="6477120"/>
            <a:ext cx="304920" cy="380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5233-9EA1-42B3-8A05-33A2169823BD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68000" y="315720"/>
            <a:ext cx="84963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Качества учителя, оказывающие положительное воздействие на учащихся</a:t>
            </a: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6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Способность к сочувствию, сопереживани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Способность к регулярной рефлекс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Умение владеть своими эмоция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Умение эффективно слуша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Проявление поисковой актив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Толерант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Способность прогнозировать результаты своей работы с учащими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0"/>
                                        <p:tgtEl>
                                          <p:spTgt spid="1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0"/>
                                        <p:tgtEl>
                                          <p:spTgt spid="1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0"/>
                                        <p:tgtEl>
                                          <p:spTgt spid="1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0"/>
                                        <p:tgtEl>
                                          <p:spTgt spid="1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0"/>
                                        <p:tgtEl>
                                          <p:spTgt spid="1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0"/>
                            </p:stCondLst>
                            <p:childTnLst>
                              <p:par>
                                <p:cTn id="2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0"/>
                                        <p:tgtEl>
                                          <p:spTgt spid="1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0000"/>
                            </p:stCondLst>
                            <p:childTnLst>
                              <p:par>
                                <p:cTn id="20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5000"/>
                                        <p:tgtEl>
                                          <p:spTgt spid="1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Номер слайда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CEE8-46E6-4E9D-89AF-C615CD3D4DCB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43" name="Picture 5" descr="frame11"/>
          <p:cNvPicPr/>
          <p:nvPr/>
        </p:nvPicPr>
        <p:blipFill>
          <a:blip r:embed="rId1"/>
          <a:stretch/>
        </p:blipFill>
        <p:spPr>
          <a:xfrm>
            <a:off x="1258920" y="0"/>
            <a:ext cx="7885080" cy="6858000"/>
          </a:xfrm>
          <a:prstGeom prst="rect">
            <a:avLst/>
          </a:prstGeom>
          <a:ln w="0">
            <a:noFill/>
          </a:ln>
        </p:spPr>
      </p:pic>
      <p:sp>
        <p:nvSpPr>
          <p:cNvPr id="1344" name="WordArt 6"/>
          <p:cNvSpPr txBox="1"/>
          <p:nvPr/>
        </p:nvSpPr>
        <p:spPr>
          <a:xfrm>
            <a:off x="2268360" y="2060640"/>
            <a:ext cx="56962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Если вы не думаете о своём </a:t>
            </a:r>
            <a:endParaRPr b="0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будущем, у вас его не будет...</a:t>
            </a:r>
            <a:endParaRPr b="0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                </a:t>
            </a:r>
            <a:r>
              <a:rPr b="0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Бертран Рассел</a:t>
            </a:r>
            <a:endParaRPr b="0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2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Номер слайда 6"/>
          <p:cNvSpPr/>
          <p:nvPr/>
        </p:nvSpPr>
        <p:spPr>
          <a:xfrm>
            <a:off x="7923240" y="6415200"/>
            <a:ext cx="9698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401F-DEF0-43EA-9D92-1AC8E6F74901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/>
          </p:nvPr>
        </p:nvSpPr>
        <p:spPr>
          <a:xfrm>
            <a:off x="4355640" y="-360"/>
            <a:ext cx="4248360" cy="60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Главная цель современной школ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дготовка детей к жизни в мире, полном огромного объема информа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7" name="Picture 6" descr="j029755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476360" y="2637000"/>
            <a:ext cx="2521080" cy="34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2000"/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2000"/>
                                        <p:tgtEl>
                                          <p:spTgt spid="1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38FE-DD48-45A0-91C4-35782F1BAA31}" type="slidenum">
              <a:rPr b="0" lang="ru-RU" sz="1400" spc="-1" strike="noStrike">
                <a:solidFill>
                  <a:srgbClr val="eaeaea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1295280" y="105264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нятие учебных перегрузок, приводящих к состоянию переутомления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рганизация физической активности, профилактика гиподинами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рганизация правильного питания в школе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едупреждение вредного воздействия на здоровье учащихся факторов, непосредственно связанных с образовательным процессом (профилактика школьных болезней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350"/>
                            </p:stCondLst>
                            <p:childTnLst>
                              <p:par>
                                <p:cTn id="40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600"/>
                            </p:stCondLst>
                            <p:childTnLst>
                              <p:par>
                                <p:cTn id="46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850"/>
                            </p:stCondLst>
                            <p:childTnLst>
                              <p:par>
                                <p:cTn id="5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AF92-DCEA-4C97-84BF-52CB635D93AF}" type="slidenum">
              <a:rPr b="0" lang="ru-RU" sz="1400" spc="-1" strike="noStrike">
                <a:solidFill>
                  <a:srgbClr val="eaeaea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храна и укрепление психологического здоровья учащихся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Формирование культуры здоровья учащихся и компетентности педагогов в вопросах здоровья и здоровьесберегающих технологий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рганизация сотрудничества с родителями учащихся по вопросам сохранения и укрепления здоровья их дет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950"/>
                            </p:stCondLst>
                            <p:childTnLst>
                              <p:par>
                                <p:cTn id="67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800"/>
                            </p:stCondLst>
                            <p:childTnLst>
                              <p:par>
                                <p:cTn id="7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Номер слайда 4"/>
          <p:cNvSpPr/>
          <p:nvPr/>
        </p:nvSpPr>
        <p:spPr>
          <a:xfrm>
            <a:off x="1371600" y="6477120"/>
            <a:ext cx="304920" cy="38088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A2F2-8293-4C54-A490-7386BF73A67B}" type="slidenum">
              <a:rPr b="0" lang="ru-RU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55" name="Diagram 6"/>
          <p:cNvGrpSpPr/>
          <p:nvPr/>
        </p:nvGrpSpPr>
        <p:grpSpPr>
          <a:xfrm>
            <a:off x="1801440" y="514440"/>
            <a:ext cx="5540760" cy="5828760"/>
            <a:chOff x="1801440" y="514440"/>
            <a:chExt cx="5540760" cy="5828760"/>
          </a:xfrm>
        </p:grpSpPr>
        <p:sp>
          <p:nvSpPr>
            <p:cNvPr id="1356" name="_s1028"/>
            <p:cNvSpPr/>
            <p:nvPr/>
          </p:nvSpPr>
          <p:spPr>
            <a:xfrm>
              <a:off x="2687760" y="514440"/>
              <a:ext cx="3768120" cy="3963600"/>
            </a:xfrm>
            <a:custGeom>
              <a:avLst/>
              <a:gdLst>
                <a:gd name="textAreaLeft" fmla="*/ 0 w 3768120"/>
                <a:gd name="textAreaRight" fmla="*/ 3768480 w 3768120"/>
                <a:gd name="textAreaTop" fmla="*/ 0 h 3963600"/>
                <a:gd name="textAreaBottom" fmla="*/ 3963960 h 396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33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7" name="_s1029"/>
            <p:cNvSpPr/>
            <p:nvPr/>
          </p:nvSpPr>
          <p:spPr>
            <a:xfrm rot="5400000">
              <a:off x="3476160" y="1544400"/>
              <a:ext cx="3963600" cy="3768120"/>
            </a:xfrm>
            <a:custGeom>
              <a:avLst/>
              <a:gdLst>
                <a:gd name="textAreaLeft" fmla="*/ 0 w 3963600"/>
                <a:gd name="textAreaRight" fmla="*/ 3963960 w 3963600"/>
                <a:gd name="textAreaTop" fmla="*/ 0 h 3768120"/>
                <a:gd name="textAreaBottom" fmla="*/ 3768480 h 376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33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8" name="_s1030"/>
            <p:cNvSpPr/>
            <p:nvPr/>
          </p:nvSpPr>
          <p:spPr>
            <a:xfrm rot="10800000">
              <a:off x="2687400" y="2379600"/>
              <a:ext cx="3768120" cy="3963600"/>
            </a:xfrm>
            <a:custGeom>
              <a:avLst/>
              <a:gdLst>
                <a:gd name="textAreaLeft" fmla="*/ 0 w 3768120"/>
                <a:gd name="textAreaRight" fmla="*/ 3768480 w 3768120"/>
                <a:gd name="textAreaTop" fmla="*/ 0 h 3963600"/>
                <a:gd name="textAreaBottom" fmla="*/ 3963960 h 396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33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9" name="_s1031"/>
            <p:cNvSpPr/>
            <p:nvPr/>
          </p:nvSpPr>
          <p:spPr>
            <a:xfrm rot="16200000">
              <a:off x="1703520" y="1544400"/>
              <a:ext cx="3963600" cy="3768120"/>
            </a:xfrm>
            <a:custGeom>
              <a:avLst/>
              <a:gdLst>
                <a:gd name="textAreaLeft" fmla="*/ 0 w 3963600"/>
                <a:gd name="textAreaRight" fmla="*/ 3963960 w 3963600"/>
                <a:gd name="textAreaTop" fmla="*/ 0 h 3768120"/>
                <a:gd name="textAreaBottom" fmla="*/ 3768480 h 376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33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0" name="_s1032"/>
            <p:cNvSpPr/>
            <p:nvPr/>
          </p:nvSpPr>
          <p:spPr>
            <a:xfrm>
              <a:off x="5575320" y="877320"/>
              <a:ext cx="1420200" cy="14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200" spc="-1" strike="noStrike">
                  <a:solidFill>
                    <a:srgbClr val="ffff66"/>
                  </a:solidFill>
                  <a:latin typeface="Times New Roman"/>
                </a:rPr>
                <a:t>         </a:t>
              </a:r>
              <a:r>
                <a:rPr b="1" lang="en-US" sz="4000" spc="-1" strike="noStrike">
                  <a:solidFill>
                    <a:srgbClr val="ffff66"/>
                  </a:solidFill>
                  <a:latin typeface="Times New Roman"/>
                </a:rPr>
                <a:t>Учитель</a:t>
              </a:r>
              <a:r>
                <a:rPr b="1" lang="en-US" sz="36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1" name="_s1033"/>
            <p:cNvSpPr/>
            <p:nvPr/>
          </p:nvSpPr>
          <p:spPr>
            <a:xfrm>
              <a:off x="2149920" y="4485960"/>
              <a:ext cx="1420200" cy="14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66"/>
                  </a:solidFill>
                  <a:latin typeface="Times New Roman"/>
                </a:rPr>
                <a:t>Дети 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2" name="_s1034"/>
            <p:cNvSpPr/>
            <p:nvPr/>
          </p:nvSpPr>
          <p:spPr>
            <a:xfrm>
              <a:off x="2146320" y="881280"/>
              <a:ext cx="1420200" cy="14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66"/>
                  </a:solidFill>
                  <a:latin typeface="Times New Roman"/>
                </a:rPr>
                <a:t>Информационные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66"/>
                  </a:solidFill>
                  <a:latin typeface="Times New Roman"/>
                </a:rPr>
                <a:t>технологии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3" name="_s1035"/>
            <p:cNvSpPr/>
            <p:nvPr/>
          </p:nvSpPr>
          <p:spPr>
            <a:xfrm>
              <a:off x="5577120" y="4482360"/>
              <a:ext cx="1419840" cy="14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200" spc="-1" strike="noStrike">
                  <a:solidFill>
                    <a:srgbClr val="ffff66"/>
                  </a:solidFill>
                  <a:latin typeface="Times New Roman"/>
                </a:rPr>
                <a:t>         </a:t>
              </a:r>
              <a:r>
                <a:rPr b="1" lang="en-US" sz="4000" spc="-1" strike="noStrike">
                  <a:solidFill>
                    <a:srgbClr val="ffff66"/>
                  </a:solidFill>
                  <a:latin typeface="Times New Roman"/>
                </a:rPr>
                <a:t>Здоровье</a:t>
              </a:r>
              <a:r>
                <a:rPr b="1" lang="en-US" sz="3600" spc="-1" strike="noStrike">
                  <a:solidFill>
                    <a:srgbClr val="ffff66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364" name="WordArt 17"/>
          <p:cNvSpPr txBox="1"/>
          <p:nvPr/>
        </p:nvSpPr>
        <p:spPr>
          <a:xfrm>
            <a:off x="3780000" y="2205000"/>
            <a:ext cx="1831680" cy="224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Номер слайда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9B47-8099-413B-AE98-539D01A888D5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Цель здоровьесберегающих технологий обучения: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беспечить школьнику возможность сохранения здоровья за период обучения в школе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формировать у него необходимые знания, умения и навыки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аучить использовать полученные знания в повседневной жизн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20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9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98" dur="3000" fill="hold"/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0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04" dur="3000" fill="hold"/>
                                        <p:tgtEl>
                                          <p:spTgt spid="1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000"/>
                            </p:stCondLst>
                            <p:childTnLst>
                              <p:par>
                                <p:cTn id="107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0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10" dur="3000" fill="hold"/>
                                        <p:tgtEl>
                                          <p:spTgt spid="1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Номер слайда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E579-BE26-466F-A69E-64D1303369E0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/>
          </p:nvPr>
        </p:nvSpPr>
        <p:spPr>
          <a:xfrm>
            <a:off x="1835280" y="404280"/>
            <a:ext cx="7129440" cy="619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Цель доклада: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выявить, насколько приемлемы общепринятые типичные стили воздействия учителя на учащихся для педагогики здоровьесбережения в условиях информатизации учебно-познавательного процесс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Доклад приготовили Бровкина А. Н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1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1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1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1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1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Номер слайда 4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C0C2-E7A3-4D37-B991-6742EF228D91}" type="slidenum">
              <a:rPr b="0" lang="ru-RU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71" name="Picture 7" descr="j0205582"/>
          <p:cNvPicPr/>
          <p:nvPr/>
        </p:nvPicPr>
        <p:blipFill>
          <a:blip r:embed="rId1"/>
          <a:stretch/>
        </p:blipFill>
        <p:spPr>
          <a:xfrm>
            <a:off x="108000" y="115920"/>
            <a:ext cx="3311640" cy="2736720"/>
          </a:xfrm>
          <a:prstGeom prst="rect">
            <a:avLst/>
          </a:prstGeom>
          <a:ln w="0">
            <a:noFill/>
          </a:ln>
        </p:spPr>
      </p:pic>
      <p:pic>
        <p:nvPicPr>
          <p:cNvPr id="1372" name="Picture 8" descr="j0301252"/>
          <p:cNvPicPr/>
          <p:nvPr/>
        </p:nvPicPr>
        <p:blipFill>
          <a:blip r:embed="rId2"/>
          <a:stretch/>
        </p:blipFill>
        <p:spPr>
          <a:xfrm>
            <a:off x="6227640" y="620640"/>
            <a:ext cx="2436840" cy="2084400"/>
          </a:xfrm>
          <a:prstGeom prst="rect">
            <a:avLst/>
          </a:prstGeom>
          <a:ln w="0">
            <a:noFill/>
          </a:ln>
        </p:spPr>
      </p:pic>
      <p:sp>
        <p:nvSpPr>
          <p:cNvPr id="1373" name="AutoShape 9"/>
          <p:cNvSpPr/>
          <p:nvPr/>
        </p:nvSpPr>
        <p:spPr>
          <a:xfrm>
            <a:off x="2843280" y="2781360"/>
            <a:ext cx="3241440" cy="2808360"/>
          </a:xfrm>
          <a:prstGeom prst="smileyFace">
            <a:avLst>
              <a:gd name="adj" fmla="val 9282"/>
            </a:avLst>
          </a:prstGeom>
          <a:solidFill>
            <a:srgbClr val="0079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4" name="AutoShape 10"/>
          <p:cNvSpPr/>
          <p:nvPr/>
        </p:nvSpPr>
        <p:spPr>
          <a:xfrm>
            <a:off x="2484360" y="5300640"/>
            <a:ext cx="4103640" cy="1081080"/>
          </a:xfrm>
          <a:prstGeom prst="leftRightArrow">
            <a:avLst>
              <a:gd name="adj1" fmla="val 50000"/>
              <a:gd name="adj2" fmla="val 75566"/>
            </a:avLst>
          </a:prstGeom>
          <a:solidFill>
            <a:srgbClr val="0079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5" name="Text Box 11"/>
          <p:cNvSpPr/>
          <p:nvPr/>
        </p:nvSpPr>
        <p:spPr>
          <a:xfrm>
            <a:off x="2987640" y="566100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6" name="Text Box 12"/>
          <p:cNvSpPr/>
          <p:nvPr/>
        </p:nvSpPr>
        <p:spPr>
          <a:xfrm>
            <a:off x="3276720" y="558972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Times New Roman"/>
              </a:rPr>
              <a:t>Ученик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7" name="WordArt 16"/>
          <p:cNvSpPr txBox="1"/>
          <p:nvPr/>
        </p:nvSpPr>
        <p:spPr>
          <a:xfrm rot="2106600">
            <a:off x="3058920" y="1773360"/>
            <a:ext cx="586728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113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читель востребован всегда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113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09:12:06Z</dcterms:created>
  <dc:creator>Бровкина А. Н.</dc:creator>
  <dc:description/>
  <dc:language>en-US</dc:language>
  <cp:lastModifiedBy>www.PHILka.RU</cp:lastModifiedBy>
  <dcterms:modified xsi:type="dcterms:W3CDTF">2012-03-22T07:15:00Z</dcterms:modified>
  <cp:revision>13</cp:revision>
  <dc:subject/>
  <dc:title>Здоровьесберегающие технолог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