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dt" idx="5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ftr" idx="5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 type="sldNum" idx="5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E9A-703E-4ACA-B080-E510870A81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84B-A435-43FD-B555-281F91C4ED6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402-F05B-4767-BF96-E875A84576D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4A51-1B81-4A0A-90FD-FA465AFAE29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411-C805-4967-BB7F-45A0AD0BFEF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352-536B-4C4F-9FBE-7F3F8814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1AE-E56C-413E-BA58-65CB149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94160-8D50-4F57-8613-F03289A4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E60E8-254E-45BB-ACA2-454B84CC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8674-29B0-40B5-A095-97DA6BC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87B96-3BE8-4603-98B3-4A115AD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5990-13C6-4C04-843C-8BF58E7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82824-40F3-422B-909A-B635C7D7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ADD82-8C82-4AF9-B35F-5B099DA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D26EB-3DF6-4295-8ADE-70A79945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21190-B2E8-45DD-90F0-8E7B40A5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B374C-235B-40F0-B76E-D136FD3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2A2-5C09-4CDF-AE14-7EDDC5C7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CA33A-A44A-4D34-889E-BC72270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8F24C-D99B-4D05-952C-948CC6B4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33012-9A25-46E6-B2CE-6FDA7D1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C6158-6AAE-432F-9F31-E8C14D4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DD4F5-D905-44CE-B04E-D53CFA5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5795C-E71A-4BE5-A00E-812161F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3A31B-D202-4008-8D61-0D668C8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83466-1938-49E3-B3D5-6285361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5D457-6BB7-4492-B6B6-E9AA950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A655-B6A8-418C-BADC-5E24BA5A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B87-06DA-4B22-9586-B18B162D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CE13B-6EFA-4909-92EC-779E7E36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B67918-B7BD-4348-929F-85FE4B01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ECB2FE-8F21-4934-A226-22067E06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9E465-1127-4A29-80EA-B4217CD7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294701-4C0B-4390-AC01-A2D1931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F57148-2471-4755-A954-45BAEA3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6E14DC-F8A3-4E15-AF14-7B53736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3A18D8-DAE2-4FAA-A4C3-A9CC2AF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A5A6D4-635E-4030-B9E5-9EE60FBE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4E4D08-7672-45CF-ACBE-5BDB84A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830-42F0-43AA-B21E-5972D94B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0DC65-2C08-465E-825A-E307FAC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47D647-4928-4D82-B70D-79264639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56A309-3E63-4843-B40F-7173F5FA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D99A7-6AD0-4699-8E67-6C7F24BF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66F29-597E-47C5-8ECB-5D0D2FB4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0F47C-F7EE-4670-B2D9-75156E88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2E7E7-881B-4D73-96BE-88CB1BF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78EB-A8B6-4BE2-912E-912A2D1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B239-58A0-4A27-A8FB-544CD78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15417-0348-4C87-84EE-631A7CC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2456-066D-43EB-85F6-A4C2F5AA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94550-D424-4DB1-87DA-56803C7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293F4-9213-4E1A-B1DE-8790E4A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9374A-AAD9-4F50-A938-82650A87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D2C48-61B2-4801-A1CA-821FEDC8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663AB-7249-4B5D-BF4F-4F59697C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10502-E2FD-42D7-976F-F8E0D0E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4574C-3DCF-4AD0-8A7F-5CFFAC7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F1F1-CDFE-4806-AAA6-6704BD53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8031C-B44C-43FD-8982-33E7E1B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BF3EA-0BCF-416D-B4E0-EB0357B5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13CE-2583-46E6-A9DF-F86BF06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50390-6F36-4365-8004-5CCE871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48967-2372-4CEF-8C67-D1BF2B6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2A5DD-2EAB-4043-8E98-6A7F9AC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FC975-A3AF-4D8A-9F9F-0EA0929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1614C-8CA8-4A29-AAEC-0312F443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60F40-615A-44F4-816D-4A6E71BB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71164-8B0A-4FB6-9FBC-2C679F85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05C3A-2635-4D2A-819B-B006A86F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1943C-63BA-4328-A7D6-A809FB7D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B17D2-50BF-4036-B426-8049FBD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83B4-335A-4E30-A573-B63BC50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789DD-C9FD-4C46-B71C-B9FF7592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4D1A4-249C-42BB-9C64-1ACFF24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41675-C509-4822-B1B6-8F411904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A3CC5-BCC8-4C80-96E8-D9D8EDA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702A9-0A27-4BA1-B441-7E5FB6E7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E79CA-8375-4D13-9C1C-669BF7E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3FC7A-FA11-41C6-AC38-FCDC7596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045F9-D6C8-48BF-97F3-AFE18B4C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354F7-FEB5-4979-929B-858E3B05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DBAF6-C1E0-4074-8CF4-596682AC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937A-53B6-4430-8134-2581AE65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F4028-F1FA-481A-8ED2-BBA11D4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75F8E-E590-44BB-8DE0-C5D8F53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D0119-C29E-4082-B9E8-62E21F61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E0AFA-CDE0-49E8-9663-9FB3BB5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0A02D-1980-4A1A-99D6-0A18DC1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DA92B-A171-4888-9B88-12386E0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34CEB-51EB-4560-8F37-E1E17D3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6DE7C-93EC-43AC-AB03-69CFD09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15110-0576-429C-9E50-428A27B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31EBE-2069-4CC9-A00D-D8A2B4DD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998C-6BCE-48DE-8468-E210DF36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882D5-7881-44A3-97FA-89D3461F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92D79-84FD-4D72-BFED-90796AD2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E2788-D6C9-4C2C-82F6-3FBC8AEC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09C0D-7539-4AD1-A6A2-32F6223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32C3A-01A9-4CD2-BEEB-4FC1552A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500FE-9275-48E1-B4F8-82634CB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2F872-EE59-418A-A7C3-FB9F676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24091-BC8A-41CD-BA9C-0DCCBCD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73F90-5358-448A-AB75-4899735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F423D-3F00-432F-B318-6F54DEF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4CEA-975E-4443-80C1-29CE16A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B0173-B506-4A7C-A5D2-671A41DF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0377F-D7E4-4002-B202-D9C73D20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DEEE1-CDFB-44E3-B280-7A889847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C1AB4-11FB-4B6A-BCDD-9A10A169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754B3-3342-480B-ACC8-E296220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5B2E9-887B-4AB8-B832-F57EE935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65595-9C04-4841-844E-1FDA040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3110E-43FC-4570-BA43-8799464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A884E-60E7-4D5C-81BA-658E5BE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2E13D-2848-4B85-96D2-CFE7696B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CB9-81D5-407B-BC3E-33A09F5A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7C0B-30BB-4431-B630-41FDA0D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BAD34-1785-42CF-AB28-6D791A5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AA3FF-076F-4A14-8188-AFBABB1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08539-4DDA-4654-82E0-64D4ED7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CB666-1C3B-450A-B028-0B53C103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2671D-4062-47C3-AB1B-A1C49DE1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0702-8F8D-4B70-ADC4-E17DCE8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9FC-8C1F-4EF2-88C3-5A5DA1B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FF6-62AC-4581-A6FC-BC0B9516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8CAC-7432-4455-9633-E0AB9320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DD85-C711-458B-A5C1-B50C78E8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B64A-98D3-4692-9433-2FB4161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7A0D-DCDD-426E-AE11-9D2FDC3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5E82-223C-4F8A-A683-11534447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1E3E-BAA7-402F-BE1F-3138251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44C-02B2-439B-A404-B2E42EA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C99D-0712-4F1F-B55C-07DE75A7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0C51-AEDE-4339-9627-048BC38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AF3A-6EA3-49AB-9BF6-7A06D228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DE21-3907-458E-B291-078EB09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FED8-F0C1-4C25-A49B-44F0758F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D626-D14C-4E1D-808D-2D557D88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59D8-F7DC-4254-BEB7-2927EACC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7A87-4F73-42A7-87A7-B48CDE9E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853B-13CE-43B2-9EAC-10898EB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EBAB-3519-41B1-8364-AC7958A1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951-3592-4DA2-B843-5515F27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3E079-60A2-4068-B109-82D6821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2C20-AAD5-4025-BBB2-45871833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B5C8-6B57-43BF-93FB-9D9F728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FDBA-CF4C-480D-9B2F-04464DF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A102-A973-4F69-BD00-32E9536A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1157-5554-4790-8CFE-759BCD5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4BF6-45E6-4582-B424-04805CD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707B-2568-4261-A848-39706E9D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99F3-9EF0-4185-BBFF-1176B21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5063B-65E1-42D4-B925-E2DD31E3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0B9-9D4A-4336-92AC-CD0B354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56FA-EFE7-4420-8EA7-B126D66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68DF-2997-4C5B-8F54-CB8DFBD1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8252-78E6-4EB7-9C4D-96A06948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2754-A6D5-4B49-992E-057447F3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95C36-C0BF-43C8-9694-769E8EA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9BFEE-8F76-4D55-8DA2-F75760D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EB28-ABEE-435A-8DEA-9822C2A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8749-9345-45BE-81B1-5D386DA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8784-1EFB-47C8-B5AC-00328B6F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5075-1EEA-483E-A243-8EDEF617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CB9-4BDF-41EA-B5C2-6AD5882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AD2B-E877-4D62-B6E9-A41E7EB7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80FB-832E-426A-BBAC-B8B72E70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E1F5-36B5-4F88-8001-9404C0D6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39F03-BF1D-49AB-AECD-66A4F55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2727-BBD5-4231-ADF8-2046FD7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2982-3EBC-4C3A-8D0D-D4F31E6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B2AE-D0FF-4D0E-BDC9-7B75E59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23B5-1975-49EA-A1B4-9517DBA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7A4B-72DD-407B-9689-24CE21A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0F370-BDC3-496E-A41B-5685446E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1E8-8C05-4B09-9DB9-B020498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6FC1-F251-4F74-94D8-72141C77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4BA6-768E-4E91-B857-87DFF45B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FCEB-0712-4FF1-B706-FB5B4432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EED6-E2D2-4D74-87A0-FB7BA0F0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66B2-6A38-46C9-8069-8FB5B59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92DC-132C-4D21-910A-2470EAD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9FEF-6C6A-466C-BE47-16FEBD6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47DA-B576-47FD-ABCE-ADE59D6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14E9-9F53-408E-95FC-3BD66D9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511B-976A-4A32-ABE8-3793217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28F-D103-41E3-A9C2-B805034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70E9-155A-471A-8B07-0CA02BA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D97E4-D593-47F7-A112-CDD6826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8AF5-725E-4E21-AED6-8F732647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103C-1C5A-4B66-A467-9F80A4C8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45A9D-6471-4DFF-91E8-789F5C3F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576C4-529F-4D71-B023-ECE1C26E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777DE-240E-461F-80F6-F29E745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E616-B189-4916-9696-1533A18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8489-6CB4-407B-AEA8-0B635E7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6E0D1-CB93-4BC7-A1F2-E558076A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18A-3D57-4051-9D4C-03B3B669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30C5-43CB-4138-BC3F-E741EF2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3557A-5353-4D16-A3A6-56118B1C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418A-155E-4AB0-84B3-4134ABA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2FEBB-F0DE-45AB-9980-222F7C9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AFF9-47A4-4EE6-ABA4-9D568ED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95F38-AB73-46A2-8FFF-EE9D28BD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B70E-4622-433D-A8EC-73853A26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2FAD3-5C77-4F5A-8331-6F8D01CF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ABDF8-5432-4788-B61A-4E02188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829BB-0E2B-45ED-90B3-73156B5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75B-34F3-4E0B-8996-5A741DF759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612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14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615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9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37A5-9F27-4978-A715-C10F207278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1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FFBD-82F1-4386-8619-96D099493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3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dt" idx="3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1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3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74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74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74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74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c6c6c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c6c6c"/>
                      </a:gs>
                      <a:gs pos="100000">
                        <a:srgbClr val="eaeae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c6c6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75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c6c6c"/>
                    </a:gs>
                    <a:gs pos="100000">
                      <a:srgbClr val="eaeae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c6c6c"/>
                    </a:gs>
                    <a:gs pos="5000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6c6c6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8330-0409-42DB-8CF2-547EE95DA6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801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807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11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12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813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330099"/>
            </a:solidFill>
            <a:ln w="12600">
              <a:solidFill>
                <a:srgbClr val="33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20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7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38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39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67F-38A7-465A-8009-C493E1AF04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863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864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865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4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5984-F6E4-4FE6-9513-2A82633358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1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1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4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4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6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6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96A-B9AE-4A73-93BC-B7D8FBFDC3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023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02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203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08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209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25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5EC5-A909-42B1-B486-EBA286E31E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6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7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7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7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8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28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F69E-E9FD-4168-A392-396111A159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160-4C55-4A11-94CC-D466BC4AF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9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50000">
                  <a:srgbClr val="eaeaea"/>
                </a:gs>
                <a:gs pos="100000">
                  <a:srgbClr val="6c6c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BBA-8713-46BA-B52B-FA166387E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AB0-3405-41B1-885D-8166900E4C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176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1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82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6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A9D2-117B-4430-B877-DD80B81AA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230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31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9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1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8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8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0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E1D-0967-4275-B99A-2DB2EDD1AE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EF9-891F-474B-B4C6-8297C816BC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90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91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92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98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404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410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416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1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22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23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6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29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2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35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38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41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444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E181-6A49-4F37-9E96-0937E8BD7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BF2-0E3F-4C40-AD59-76071A0189A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4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4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6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6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6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6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16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F388-DF21-4926-8B73-57F81E82F8B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11280" y="39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Здоровьесберегающие</a:t>
            </a:r>
            <a:r>
              <a:rPr b="1" lang="ru-RU" sz="5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технологии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Times New Roman"/>
              </a:rPr>
              <a:t>Стиль общения педагога с учащимися в условиях здоровьесберегающих технолог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1" name="TextBox 4"/>
          <p:cNvSpPr/>
          <p:nvPr/>
        </p:nvSpPr>
        <p:spPr>
          <a:xfrm>
            <a:off x="7072200" y="7858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дготовила учитель Бровкина А. Н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331-13BC-4C94-B66B-C08A9DB426A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9" name="AutoShape 26"/>
          <p:cNvSpPr/>
          <p:nvPr/>
        </p:nvSpPr>
        <p:spPr>
          <a:xfrm>
            <a:off x="5454720" y="2852640"/>
            <a:ext cx="3871800" cy="400536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0" name="Organization Chart 12"/>
          <p:cNvGrpSpPr/>
          <p:nvPr/>
        </p:nvGrpSpPr>
        <p:grpSpPr>
          <a:xfrm>
            <a:off x="250920" y="549360"/>
            <a:ext cx="8568360" cy="5326200"/>
            <a:chOff x="250920" y="549360"/>
            <a:chExt cx="8568360" cy="5326200"/>
          </a:xfrm>
        </p:grpSpPr>
        <p:cxnSp>
          <p:nvCxnSpPr>
            <p:cNvPr id="1381" name="_s2052"/>
            <p:cNvCxnSpPr>
              <a:stCxn id="1382" idx="0"/>
              <a:endCxn id="1383" idx="2"/>
            </p:cNvCxnSpPr>
            <p:nvPr/>
          </p:nvCxnSpPr>
          <p:spPr>
            <a:xfrm flipV="1" rot="16200000">
              <a:off x="5538600" y="1712160"/>
              <a:ext cx="992160" cy="2999520"/>
            </a:xfrm>
            <a:prstGeom prst="bentConnector3">
              <a:avLst>
                <a:gd name="adj1" fmla="val 11506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384" name="_s2053"/>
            <p:cNvCxnSpPr>
              <a:stCxn id="1385" idx="0"/>
              <a:endCxn id="1383" idx="2"/>
            </p:cNvCxnSpPr>
            <p:nvPr/>
          </p:nvCxnSpPr>
          <p:spPr>
            <a:xfrm flipV="1">
              <a:off x="4534920" y="2716200"/>
              <a:ext cx="3240" cy="992160"/>
            </a:xfrm>
            <a:prstGeom prst="bentConnector2">
              <a:avLst/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1386" name="_s2054"/>
            <p:cNvCxnSpPr>
              <a:stCxn id="1387" idx="0"/>
              <a:endCxn id="1383" idx="2"/>
            </p:cNvCxnSpPr>
            <p:nvPr/>
          </p:nvCxnSpPr>
          <p:spPr>
            <a:xfrm flipH="1" flipV="1" rot="5400000">
              <a:off x="2539440" y="1712520"/>
              <a:ext cx="992160" cy="2999520"/>
            </a:xfrm>
            <a:prstGeom prst="bentConnector3">
              <a:avLst>
                <a:gd name="adj1" fmla="val 11506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1383" name="_s2055"/>
            <p:cNvSpPr/>
            <p:nvPr/>
          </p:nvSpPr>
          <p:spPr>
            <a:xfrm>
              <a:off x="3249720" y="54936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babe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Типичные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стили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воздействия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педагога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на учащихся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_s2056"/>
            <p:cNvSpPr/>
            <p:nvPr/>
          </p:nvSpPr>
          <p:spPr>
            <a:xfrm>
              <a:off x="25092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Императивный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(авторитарный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_s2057"/>
            <p:cNvSpPr/>
            <p:nvPr/>
          </p:nvSpPr>
          <p:spPr>
            <a:xfrm>
              <a:off x="324972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Либерально-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попустительский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_s2058"/>
            <p:cNvSpPr/>
            <p:nvPr/>
          </p:nvSpPr>
          <p:spPr>
            <a:xfrm>
              <a:off x="6248880" y="3745080"/>
              <a:ext cx="2570400" cy="2130480"/>
            </a:xfrm>
            <a:prstGeom prst="rect">
              <a:avLst/>
            </a:prstGeom>
            <a:solidFill>
              <a:srgbClr val="fefed6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Демократический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Times New Roman"/>
                </a:rPr>
                <a:t>стил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8" name="AutoShape 23"/>
          <p:cNvSpPr/>
          <p:nvPr/>
        </p:nvSpPr>
        <p:spPr>
          <a:xfrm>
            <a:off x="611280" y="3933720"/>
            <a:ext cx="1800000" cy="172872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53080 h 1728720"/>
              <a:gd name="textAreaBottom" fmla="*/ 147564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9" name="AutoShape 25"/>
          <p:cNvSpPr/>
          <p:nvPr/>
        </p:nvSpPr>
        <p:spPr>
          <a:xfrm>
            <a:off x="3492360" y="3933720"/>
            <a:ext cx="2016360" cy="1727280"/>
          </a:xfrm>
          <a:custGeom>
            <a:avLst/>
            <a:gdLst>
              <a:gd name="textAreaLeft" fmla="*/ 295200 w 2016360"/>
              <a:gd name="textAreaRight" fmla="*/ 1721160 w 2016360"/>
              <a:gd name="textAreaTop" fmla="*/ 252720 h 1727280"/>
              <a:gd name="textAreaBottom" fmla="*/ 14745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Номер слайда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4E1-6867-4324-A59E-062100D54C9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Личностно-ориентированные (антропоцентрические) техноло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324000" y="1700280"/>
          <a:ext cx="8569080" cy="49989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рганизационно-педагогичес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сихолого-педагогически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чебно-воспитательны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пределяют структуру учебного процесса, способствующую предотвращению состояний переутомления, гиподинамии и других дезадаптационных состояний уч-с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вязаны с непосредственной работой учителя на уроке (сюда же относится и психолого-педагогическое сопровождение всех элементов образовательного процесса)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ключают в себя программы по обучению заботе о своем здоровье и формированию культуры здоровья учащих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Номер слайда 5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7143-6C07-49CD-9AAB-352CAFB43392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68000" y="315720"/>
            <a:ext cx="8496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ачества учителя, оказывающие положительное воздействие на учащихся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к сочувствию, сопережив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к регулярной рефлекс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Умение владеть своими эмоц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Умение эффективно слуша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Проявление поисковой ак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Толерант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пособность прогнозировать результаты своей работы с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0"/>
                                        <p:tgtEl>
                                          <p:spTgt spid="1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0"/>
                                        <p:tgtEl>
                                          <p:spTgt spid="1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Номер слайда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24C0-743F-41A8-A9ED-358F0D8401A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3" name="Picture 5" descr="frame11"/>
          <p:cNvPicPr/>
          <p:nvPr/>
        </p:nvPicPr>
        <p:blipFill>
          <a:blip r:embed="rId1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344" name="WordArt 6"/>
          <p:cNvSpPr txBox="1"/>
          <p:nvPr/>
        </p:nvSpPr>
        <p:spPr>
          <a:xfrm>
            <a:off x="2268360" y="2060640"/>
            <a:ext cx="5696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сли вы не думаете о своём 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удущем, у вас его не будет...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    </a:t>
            </a: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ртран Рассел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Номер слайда 6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A6A5-0FF2-437B-AB0E-324F27818CF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355640" y="-360"/>
            <a:ext cx="42483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ая цель современной школ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а детей к жизни в мире, полном огромного объема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" name="Picture 6" descr="j029755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76360" y="2637000"/>
            <a:ext cx="252108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1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821-32DF-42DE-A784-AE2A01B8540F}" type="slidenum">
              <a:rPr b="0" lang="ru-RU" sz="1400" spc="-1" strike="noStrike">
                <a:solidFill>
                  <a:srgbClr val="eaeaea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29528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нятие учебных перегрузок, приводящих к состоянию переутомл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физической активности, профилактика гиподинам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правильного питания в школ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едупреждение вредного воздействия на здоровье учащихся факторов, непосредственно связанных с образовательным процессом (профилактика школьных болезней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50"/>
                            </p:stCondLst>
                            <p:childTnLst>
                              <p:par>
                                <p:cTn id="4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600"/>
                            </p:stCondLst>
                            <p:childTnLst>
                              <p:par>
                                <p:cTn id="4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850"/>
                            </p:stCondLst>
                            <p:childTnLst>
                              <p:par>
                                <p:cTn id="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AFC-2A7A-4B1C-A0FB-3BB058E7595B}" type="slidenum">
              <a:rPr b="0" lang="ru-RU" sz="1400" spc="-1" strike="noStrike">
                <a:solidFill>
                  <a:srgbClr val="eaeaea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храна и укрепление психологического здоровья учащихс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культуры здоровья учащихся и компетентности педагогов в вопросах здоровья и здоровьесберегающих технолог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ганизация сотрудничества с родителями учащихся по вопросам сохранения и укрепления здоровья их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50"/>
                            </p:stCondLst>
                            <p:childTnLst>
                              <p:par>
                                <p:cTn id="6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800"/>
                            </p:stCondLst>
                            <p:childTnLst>
                              <p:par>
                                <p:cTn id="7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Номер слайда 4"/>
          <p:cNvSpPr/>
          <p:nvPr/>
        </p:nvSpPr>
        <p:spPr>
          <a:xfrm>
            <a:off x="1371600" y="6477120"/>
            <a:ext cx="304920" cy="380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15AB-1969-4DC4-9A70-8DF3845ED3B6}" type="slidenum">
              <a:rPr b="0" lang="ru-RU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55" name="Diagram 6"/>
          <p:cNvGrpSpPr/>
          <p:nvPr/>
        </p:nvGrpSpPr>
        <p:grpSpPr>
          <a:xfrm>
            <a:off x="1801440" y="514440"/>
            <a:ext cx="5540760" cy="5828760"/>
            <a:chOff x="1801440" y="514440"/>
            <a:chExt cx="5540760" cy="5828760"/>
          </a:xfrm>
        </p:grpSpPr>
        <p:sp>
          <p:nvSpPr>
            <p:cNvPr id="1356" name="_s1028"/>
            <p:cNvSpPr/>
            <p:nvPr/>
          </p:nvSpPr>
          <p:spPr>
            <a:xfrm>
              <a:off x="2687760" y="514440"/>
              <a:ext cx="3768120" cy="3963600"/>
            </a:xfrm>
            <a:custGeom>
              <a:avLst/>
              <a:gdLst>
                <a:gd name="textAreaLeft" fmla="*/ 0 w 3768120"/>
                <a:gd name="textAreaRight" fmla="*/ 3768480 w 3768120"/>
                <a:gd name="textAreaTop" fmla="*/ 0 h 3963600"/>
                <a:gd name="textAreaBottom" fmla="*/ 3963960 h 39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_s1029"/>
            <p:cNvSpPr/>
            <p:nvPr/>
          </p:nvSpPr>
          <p:spPr>
            <a:xfrm rot="5400000">
              <a:off x="3476160" y="1544400"/>
              <a:ext cx="3963600" cy="3768120"/>
            </a:xfrm>
            <a:custGeom>
              <a:avLst/>
              <a:gdLst>
                <a:gd name="textAreaLeft" fmla="*/ 0 w 3963600"/>
                <a:gd name="textAreaRight" fmla="*/ 3963960 w 3963600"/>
                <a:gd name="textAreaTop" fmla="*/ 0 h 3768120"/>
                <a:gd name="textAreaBottom" fmla="*/ 3768480 h 37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_s1030"/>
            <p:cNvSpPr/>
            <p:nvPr/>
          </p:nvSpPr>
          <p:spPr>
            <a:xfrm rot="10800000">
              <a:off x="2687400" y="2379600"/>
              <a:ext cx="3768120" cy="3963600"/>
            </a:xfrm>
            <a:custGeom>
              <a:avLst/>
              <a:gdLst>
                <a:gd name="textAreaLeft" fmla="*/ 0 w 3768120"/>
                <a:gd name="textAreaRight" fmla="*/ 3768480 w 3768120"/>
                <a:gd name="textAreaTop" fmla="*/ 0 h 3963600"/>
                <a:gd name="textAreaBottom" fmla="*/ 3963960 h 39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_s1031"/>
            <p:cNvSpPr/>
            <p:nvPr/>
          </p:nvSpPr>
          <p:spPr>
            <a:xfrm rot="16200000">
              <a:off x="1703520" y="1544400"/>
              <a:ext cx="3963600" cy="3768120"/>
            </a:xfrm>
            <a:custGeom>
              <a:avLst/>
              <a:gdLst>
                <a:gd name="textAreaLeft" fmla="*/ 0 w 3963600"/>
                <a:gd name="textAreaRight" fmla="*/ 3963960 w 3963600"/>
                <a:gd name="textAreaTop" fmla="*/ 0 h 3768120"/>
                <a:gd name="textAreaBottom" fmla="*/ 3768480 h 37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_s1032"/>
            <p:cNvSpPr/>
            <p:nvPr/>
          </p:nvSpPr>
          <p:spPr>
            <a:xfrm>
              <a:off x="5575320" y="87732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200" spc="-1" strike="noStrike">
                  <a:solidFill>
                    <a:srgbClr val="ffff66"/>
                  </a:solidFill>
                  <a:latin typeface="Times New Roman"/>
                </a:rPr>
                <a:t>         </a:t>
              </a: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Учитель</a:t>
              </a: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_s1033"/>
            <p:cNvSpPr/>
            <p:nvPr/>
          </p:nvSpPr>
          <p:spPr>
            <a:xfrm>
              <a:off x="2149920" y="448596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Дети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_s1034"/>
            <p:cNvSpPr/>
            <p:nvPr/>
          </p:nvSpPr>
          <p:spPr>
            <a:xfrm>
              <a:off x="2146320" y="881280"/>
              <a:ext cx="14202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Информационные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технологии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_s1035"/>
            <p:cNvSpPr/>
            <p:nvPr/>
          </p:nvSpPr>
          <p:spPr>
            <a:xfrm>
              <a:off x="5577120" y="4482360"/>
              <a:ext cx="141984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200" spc="-1" strike="noStrike">
                  <a:solidFill>
                    <a:srgbClr val="ffff66"/>
                  </a:solidFill>
                  <a:latin typeface="Times New Roman"/>
                </a:rPr>
                <a:t>         </a:t>
              </a:r>
              <a:r>
                <a:rPr b="1" lang="en-US" sz="4000" spc="-1" strike="noStrike">
                  <a:solidFill>
                    <a:srgbClr val="ffff66"/>
                  </a:solidFill>
                  <a:latin typeface="Times New Roman"/>
                </a:rPr>
                <a:t>Здоровье</a:t>
              </a:r>
              <a:r>
                <a:rPr b="1" lang="en-US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64" name="WordArt 17"/>
          <p:cNvSpPr txBox="1"/>
          <p:nvPr/>
        </p:nvSpPr>
        <p:spPr>
          <a:xfrm>
            <a:off x="3780000" y="2205000"/>
            <a:ext cx="1831680" cy="22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D43-9061-43B3-9132-4A77456B74C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Цель здоровьесберегающих технологий обучения: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еспечить школьнику возможность сохранения здоровья за период обучения в школ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формировать у него необходимые знания, умения и навык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8" dur="3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CA1-4192-4AB7-98C9-C385C7AA09E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/>
          </p:nvPr>
        </p:nvSpPr>
        <p:spPr>
          <a:xfrm>
            <a:off x="1835280" y="404280"/>
            <a:ext cx="7129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Цель доклада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выявить, насколько приемлемы общепринятые типичные стили воздействия учителя на учащихся для педагогики здоровьесбережения в условиях информатизации учебно-познавательного процесс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Доклад приготовили Бровкина А. Н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Номер слайда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43C-9BC2-41B5-ADF8-9CB71DDC7EC4}" type="slidenum">
              <a:rPr b="0" lang="ru-RU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1" name="Picture 7" descr="j0205582"/>
          <p:cNvPicPr/>
          <p:nvPr/>
        </p:nvPicPr>
        <p:blipFill>
          <a:blip r:embed="rId1"/>
          <a:stretch/>
        </p:blipFill>
        <p:spPr>
          <a:xfrm>
            <a:off x="108000" y="115920"/>
            <a:ext cx="3311640" cy="273672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8" descr="j0301252"/>
          <p:cNvPicPr/>
          <p:nvPr/>
        </p:nvPicPr>
        <p:blipFill>
          <a:blip r:embed="rId2"/>
          <a:stretch/>
        </p:blipFill>
        <p:spPr>
          <a:xfrm>
            <a:off x="6227640" y="620640"/>
            <a:ext cx="2436840" cy="2084400"/>
          </a:xfrm>
          <a:prstGeom prst="rect">
            <a:avLst/>
          </a:prstGeom>
          <a:ln w="0">
            <a:noFill/>
          </a:ln>
        </p:spPr>
      </p:pic>
      <p:sp>
        <p:nvSpPr>
          <p:cNvPr id="1373" name="AutoShape 9"/>
          <p:cNvSpPr/>
          <p:nvPr/>
        </p:nvSpPr>
        <p:spPr>
          <a:xfrm>
            <a:off x="2843280" y="2781360"/>
            <a:ext cx="3241440" cy="2808360"/>
          </a:xfrm>
          <a:prstGeom prst="smileyFace">
            <a:avLst>
              <a:gd name="adj" fmla="val 9282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4" name="AutoShape 10"/>
          <p:cNvSpPr/>
          <p:nvPr/>
        </p:nvSpPr>
        <p:spPr>
          <a:xfrm>
            <a:off x="2484360" y="5300640"/>
            <a:ext cx="4103640" cy="1081080"/>
          </a:xfrm>
          <a:prstGeom prst="leftRightArrow">
            <a:avLst>
              <a:gd name="adj1" fmla="val 50000"/>
              <a:gd name="adj2" fmla="val 75566"/>
            </a:avLst>
          </a:prstGeom>
          <a:solidFill>
            <a:srgbClr val="0079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2987640" y="5661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276720" y="5589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ченик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7" name="WordArt 16"/>
          <p:cNvSpPr txBox="1"/>
          <p:nvPr/>
        </p:nvSpPr>
        <p:spPr>
          <a:xfrm rot="2106600">
            <a:off x="3058920" y="1773360"/>
            <a:ext cx="58672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1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ь востребован всегд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1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9:12:06Z</dcterms:created>
  <dc:creator>Бровкина А. Н.</dc:creator>
  <dc:description/>
  <dc:language>en-US</dc:language>
  <cp:lastModifiedBy>www.PHILka.RU</cp:lastModifiedBy>
  <dcterms:modified xsi:type="dcterms:W3CDTF">2012-03-22T07:15:00Z</dcterms:modified>
  <cp:revision>13</cp:revision>
  <dc:subject/>
  <dc:title>Здоровьесберегающие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