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852-6302-4DA8-8520-19703EA4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747-1DD5-4434-9141-519B3E3F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C29-C3FD-478D-9CAC-9C1C8184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B8C-64B3-45F6-AFE3-6D7487E1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5B0B-3DFF-486F-9BF8-1EE49547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ED7C-289C-4E07-9861-3A8FD580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21C3-05B7-4D26-8AE9-02CFDAA2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C70D-D89D-496D-BF7C-B8F822A1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2889-0453-42CB-A051-CA50028B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A34E-0FD2-4F2B-A169-5D305EA2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B63-0F7F-4A45-853A-EDDFBDBF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40A-B9F9-4F11-99D2-3AD5ACB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16B8-6F8E-46B0-BA9D-64D1DED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4441-E77D-4DFA-A89B-7EDB31D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AAA-7230-46AA-BED0-8B7BD029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690C-C60F-43FB-9C1A-E8BD15E3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2C2-703C-416C-BAA8-18DC8B22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B21-D4EC-47AD-AF28-8B8CFB6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910-30A0-497F-9F27-6D2AC89D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961-DD1F-4177-8EE8-8D9A04DF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6A3-2B10-419A-B85E-1A70822C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92A-53C0-4AB1-A319-AFEA6662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069-2662-4847-8660-1F40D27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F0F-B336-4741-A1F8-AD140C0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CA0-8E93-46DE-8757-6304829231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9D26-D54B-4AB4-A7F9-77D2C82DA5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9;&#1086;&#1074;&#1088;&#1077;&#1084;&#1077;&#1085;&#1085;&#1099;&#1081;%20&#1089;&#1072;&#1088;&#1072;&#1085;&#1089;&#1082;&amp;noreask=1&amp;img_url=kolyan.net%2Fuploads%2Fposts%2F2010-05%2F1274862626_0a0557619e0e7a869030fcf565003c03.jpeg&amp;pos=6&amp;rpt=simage&amp;lr=42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8;&#1093;&#1080;&#1090;&#1077;&#1082;&#1090;&#1091;&#1088;&#1072;%20&#1082;&#1072;&#1088;&#1090;&#1080;&#1085;&#1082;&#1080;&amp;img_url=smaylik.ru%2Fuploads%2Fposts%2F2000%2F1167%2Fimage.jpg&amp;pos=0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8;&#1093;&#1080;&#1090;&#1077;&#1082;&#1090;&#1091;&#1088;&#1072;%20&#1082;&#1072;&#1088;&#1090;&#1080;&#1085;&#1082;&#1080;&amp;img_url=www.saywhatclub.com%2Fevents%2Fseacon%2Fspace_needle.jpg&amp;pos=14&amp;rpt=simage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2;&#1088;&#1093;&#1080;&#1090;&#1077;&#1082;&#1090;&#1091;&#1088;&#1072;%20&#1082;&#1072;&#1088;&#1090;&#1080;&#1085;&#1082;&#1080;&amp;img_url=www.zagony.ru%2Fadmin_new%2Ffoto%2F2009-9-11%2F1252662782%2Fsamye_neobychnye_zdanija_79_foto_35.jpg&amp;pos=36&amp;rpt=simage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2;&#1088;&#1093;&#1080;&#1090;&#1077;&#1082;&#1090;&#1091;&#1088;&#1072;%20&#1082;&#1072;&#1088;&#1090;&#1080;&#1085;&#1082;&#1080;&amp;img_url=wallpaper.goodfon.ru%2Fimage%2F113273-1152x864.jpg&amp;pos=48&amp;rpt=simage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72;&#1088;&#1093;&#1080;&#1090;&#1077;&#1082;&#1090;&#1091;&#1088;&#1072;%20&#1082;&#1072;&#1088;&#1090;&#1080;&#1085;&#1082;&#1080;&amp;img_url=zhelezyaka.com%2Fi%2Fp%2F070524133921David%2520Fisher.jpg&amp;pos=88&amp;rpt=simage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72;&#1088;&#1093;&#1080;&#1090;&#1077;&#1082;&#1090;&#1091;&#1088;&#1072;%20&#1082;&#1072;&#1088;&#1090;&#1080;&#1085;&#1082;&#1080;&amp;img_url=mants.ru%2Fuploads%2Fposts%2F2011-08%2Fthumbs%2F1313584373_87.jpg&amp;pos=121&amp;rpt=simag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82;&#1091;&#1089;&#1089;&#1090;&#1074;&#1086;" TargetMode="External"/><Relationship Id="rId2" Type="http://schemas.openxmlformats.org/officeDocument/2006/relationships/hyperlink" Target="http://images.yandex.ru/yandsearch?text=&#1092;&#1086;&#1090;&#1086;%20&#1089;&#1086;&#1074;&#1088;&#1077;&#1084;&#1077;&#1085;&#1085;&#1099;&#1081;%20&#1089;&#1072;&#1088;&#1072;&#1085;&#1089;&#1082;&amp;noreask=1&amp;img_url=kolyan.net%2Fuploads%2Fposts%2F2010-05%2F1274862571_1235026466_111.jpg&amp;pos=10&amp;rpt=simage&amp;lr=42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images.yandex.ru/yandsearch?text=&#1089;&#1090;&#1080;&#1083;&#1080;%20&#1072;&#1088;&#1093;&#1080;&#1090;&#1077;&#1082;&#1090;&#1091;&#1088;&#1099;%20&#1082;&#1072;&#1088;&#1090;&#1080;&#1085;&#1082;&#1080;&amp;img_url=www.funnyartpictures.com%2F01funny-pictures-art%2Ffun-images%2Fmodern-architecture02.jpg&amp;pos=7&amp;rpt=simage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92;&#1086;&#1090;&#1086;%20&#1076;&#1077;&#1088;&#1077;&#1074;&#1103;&#1085;&#1085;&#1099;&#1081;%20&#1076;&#1086;&#1084;%20&#1089;&#1072;&#1088;&#1072;&#1085;&#1089;&#1082;&amp;img_url=images03.olx.ru%2Fui%2F11%2F26%2F69%2F1306822664_211411769_1----.jpg&amp;pos=67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92;&#1086;&#1090;&#1086;%20&#1087;&#1072;&#1085;&#1077;&#1083;&#1100;&#1085;&#1099;&#1081;%20&#1076;&#1086;&#1084;%20&#1089;&#1072;&#1088;&#1072;&#1085;&#1089;&#1082;&amp;img_url=img-fotki.yandex.ru%2Fget%2F6201%2F156106925.0%2F0_5f4d8_a2eb7690_XL&amp;pos=12&amp;rpt=simage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commons.wikimedia.org/wiki/File:Cathedrale_de_Coutances_bordercropped.jpg%3Fuselang=ru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commons.wikimedia.org/wiki/File:Tempietto05.jpg%3Fuselang=ru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commons.wikimedia.org/wiki/File:Santa_Susanna_(Rome)_-_facade.jpg%3Fuselang=ru" TargetMode="External"/><Relationship Id="rId7" Type="http://schemas.openxmlformats.org/officeDocument/2006/relationships/image" Target="../media/image10.jpeg"/><Relationship Id="rId8" Type="http://schemas.openxmlformats.org/officeDocument/2006/relationships/hyperlink" Target="file://upload.wikimedia.org/wikipedia/commons/6/66/Marly1.jpg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file://upload.wikimedia.org/wikipedia/commons/4/41/Casabatllo2.jpg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Гончарова Э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СОШ №24» го Сара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051440" cy="501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50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0280"/>
            <a:ext cx="4572000" cy="439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45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ктическая работа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рисуйте город будущег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052640"/>
            <a:ext cx="7704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836640"/>
            <a:ext cx="82803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907920"/>
            <a:ext cx="81360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49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92280"/>
            <a:ext cx="83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умайт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14716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отличаются современные постройки от архитектурных памятников прошлог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 здании отражена эпох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4176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7715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а - искусство проектировать, строить и художественно оформлять  здания.</a:t>
            </a: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ой также называют облик зданий и соору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565360"/>
            <a:ext cx="5761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БЛЕМА УРОКА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Для чего нужна архитектура?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ак она связана с эпохой?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2920" y="1700280"/>
            <a:ext cx="4038840" cy="4411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773360"/>
            <a:ext cx="4319640" cy="42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1773360"/>
            <a:ext cx="450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каком доме вы живёте?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Из какого материала он построен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13372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33720"/>
            <a:ext cx="4356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рхитектурный стиль-это совокупность основных черт и признаков архитектуры определённого времени и мест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рхитектурные сти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тика                                    Романский                                              Барокко                               Моде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иль эпохи Возрождения                                                                                       Роко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Майнц. Собор Санкт-Мартин-унд-Санкт-Штефан. Западная часть (1200—39)."/>
          <p:cNvPicPr/>
          <p:nvPr/>
        </p:nvPicPr>
        <p:blipFill>
          <a:blip r:embed="rId1"/>
          <a:stretch/>
        </p:blipFill>
        <p:spPr>
          <a:xfrm>
            <a:off x="0" y="1268280"/>
            <a:ext cx="1801800" cy="277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268280"/>
            <a:ext cx="1727280" cy="2706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4751280"/>
            <a:ext cx="3313080" cy="210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1268280"/>
            <a:ext cx="1923840" cy="266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File:Marly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4697280"/>
            <a:ext cx="3745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File:Casabatllo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659640" y="1268280"/>
            <a:ext cx="194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РХИТЕКТУРА НАШЕГО ГОР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пенская церков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Успенский спуск Успенская церковь и колокольня(Спуск от памятника патриарху Никону)"/>
          <p:cNvPicPr/>
          <p:nvPr/>
        </p:nvPicPr>
        <p:blipFill>
          <a:blip r:embed="rId1"/>
          <a:stretch/>
        </p:blipFill>
        <p:spPr>
          <a:xfrm>
            <a:off x="0" y="2349360"/>
            <a:ext cx="4643280" cy="4104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500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62024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л.Московская(ныне Л.Толсто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1274862638_95242990"/>
          <p:cNvPicPr/>
          <p:nvPr/>
        </p:nvPicPr>
        <p:blipFill>
          <a:blip r:embed="rId1"/>
          <a:stretch/>
        </p:blipFill>
        <p:spPr>
          <a:xfrm>
            <a:off x="0" y="1700280"/>
            <a:ext cx="4716360" cy="4321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427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асский соб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x_57b4d3b8"/>
          <p:cNvPicPr/>
          <p:nvPr/>
        </p:nvPicPr>
        <p:blipFill>
          <a:blip r:embed="rId1"/>
          <a:stretch/>
        </p:blipFill>
        <p:spPr>
          <a:xfrm>
            <a:off x="0" y="1700280"/>
            <a:ext cx="4643280" cy="424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35640" y="1700280"/>
            <a:ext cx="4608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4:37:30Z</dcterms:created>
  <dc:creator>руслан</dc:creator>
  <dc:description/>
  <dc:language>en-US</dc:language>
  <cp:lastModifiedBy>руслан</cp:lastModifiedBy>
  <dcterms:modified xsi:type="dcterms:W3CDTF">2012-12-12T07:28:41Z</dcterms:modified>
  <cp:revision>7</cp:revision>
  <dc:subject/>
  <dc:title>PowerPoint Presentation</dc:title>
</cp:coreProperties>
</file>