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A128-B120-43CF-B9C5-378582EC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256-3E09-4BA3-A448-86C951AB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BA1-2731-44C7-AA51-A3102173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2DA-451B-41CF-887C-DD4F2B43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24C6-7A60-46F5-B343-F7C88778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5022-F15B-4120-8EC9-EBACECF1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69F6-4425-4173-A266-D733C69D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F185-AF67-482C-9958-521E7538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0546-3C28-49A0-8063-DF0340D3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8867-BA6F-4726-99C1-B5B1E9F2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294E-10DB-4BAE-B471-88A17D7E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648-F94F-41F1-876E-D07DD0FE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DCCD-5608-470F-99A1-6D604B5A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C82F-17FE-4389-8A43-546C8398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2E9E-8562-4233-B6F8-98A1B0CC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80D1-CDA9-41E9-92B3-B61E60C3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CC3F-88A0-41D3-8582-A86A86A7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3D5-A56F-4BA9-999C-258528D4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863-CF95-4418-9DA5-A4C1BF4D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3ED-B7A0-45A4-963C-AFDA4005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DEE-D36A-40DF-A46E-4C990F0D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3DC-B91F-4473-8F1A-EA37A97F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2A3-FC69-499D-876F-990D8B53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9C2-FE9F-4FFA-9BF1-A71123E3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85AD-B0E7-4D99-922D-0ECD11363E0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855E-BC3B-4E01-B6AA-EB9210B2CA6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9;&#1086;&#1074;&#1088;&#1077;&#1084;&#1077;&#1085;&#1085;&#1099;&#1081;%20&#1089;&#1072;&#1088;&#1072;&#1085;&#1089;&#1082;&amp;noreask=1&amp;img_url=kolyan.net%2Fuploads%2Fposts%2F2010-05%2F1274862626_0a0557619e0e7a869030fcf565003c03.jpeg&amp;pos=6&amp;rpt=simage&amp;lr=42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2;&#1088;&#1093;&#1080;&#1090;&#1077;&#1082;&#1090;&#1091;&#1088;&#1072;%20&#1082;&#1072;&#1088;&#1090;&#1080;&#1085;&#1082;&#1080;&amp;img_url=smaylik.ru%2Fuploads%2Fposts%2F2000%2F1167%2Fimage.jpg&amp;pos=0&amp;rpt=simage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2;&#1088;&#1093;&#1080;&#1090;&#1077;&#1082;&#1090;&#1091;&#1088;&#1072;%20&#1082;&#1072;&#1088;&#1090;&#1080;&#1085;&#1082;&#1080;&amp;img_url=www.saywhatclub.com%2Fevents%2Fseacon%2Fspace_needle.jpg&amp;pos=14&amp;rpt=simage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72;&#1088;&#1093;&#1080;&#1090;&#1077;&#1082;&#1090;&#1091;&#1088;&#1072;%20&#1082;&#1072;&#1088;&#1090;&#1080;&#1085;&#1082;&#1080;&amp;img_url=www.zagony.ru%2Fadmin_new%2Ffoto%2F2009-9-11%2F1252662782%2Fsamye_neobychnye_zdanija_79_foto_35.jpg&amp;pos=36&amp;rpt=simage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72;&#1088;&#1093;&#1080;&#1090;&#1077;&#1082;&#1090;&#1091;&#1088;&#1072;%20&#1082;&#1072;&#1088;&#1090;&#1080;&#1085;&#1082;&#1080;&amp;img_url=wallpaper.goodfon.ru%2Fimage%2F113273-1152x864.jpg&amp;pos=48&amp;rpt=simage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text=&#1072;&#1088;&#1093;&#1080;&#1090;&#1077;&#1082;&#1090;&#1091;&#1088;&#1072;%20&#1082;&#1072;&#1088;&#1090;&#1080;&#1085;&#1082;&#1080;&amp;img_url=zhelezyaka.com%2Fi%2Fp%2F070524133921David%2520Fisher.jpg&amp;pos=88&amp;rpt=simage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&amp;text=&#1072;&#1088;&#1093;&#1080;&#1090;&#1077;&#1082;&#1090;&#1091;&#1088;&#1072;%20&#1082;&#1072;&#1088;&#1090;&#1080;&#1085;&#1082;&#1080;&amp;img_url=mants.ru%2Fuploads%2Fposts%2F2011-08%2Fthumbs%2F1313584373_87.jpg&amp;pos=121&amp;rpt=simage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9;&#1082;&#1091;&#1089;&#1089;&#1090;&#1074;&#1086;" TargetMode="External"/><Relationship Id="rId2" Type="http://schemas.openxmlformats.org/officeDocument/2006/relationships/hyperlink" Target="http://images.yandex.ru/yandsearch?text=&#1092;&#1086;&#1090;&#1086;%20&#1089;&#1086;&#1074;&#1088;&#1077;&#1084;&#1077;&#1085;&#1085;&#1099;&#1081;%20&#1089;&#1072;&#1088;&#1072;&#1085;&#1089;&#1082;&amp;noreask=1&amp;img_url=kolyan.net%2Fuploads%2Fposts%2F2010-05%2F1274862571_1235026466_111.jpg&amp;pos=10&amp;rpt=simage&amp;lr=42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images.yandex.ru/yandsearch?text=&#1089;&#1090;&#1080;&#1083;&#1080;%20&#1072;&#1088;&#1093;&#1080;&#1090;&#1077;&#1082;&#1090;&#1091;&#1088;&#1099;%20&#1082;&#1072;&#1088;&#1090;&#1080;&#1085;&#1082;&#1080;&amp;img_url=www.funnyartpictures.com%2F01funny-pictures-art%2Ffun-images%2Fmodern-architecture02.jpg&amp;pos=7&amp;rpt=simage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text=&#1092;&#1086;&#1090;&#1086;%20&#1076;&#1077;&#1088;&#1077;&#1074;&#1103;&#1085;&#1085;&#1099;&#1081;%20&#1076;&#1086;&#1084;%20&#1089;&#1072;&#1088;&#1072;&#1085;&#1089;&#1082;&amp;img_url=images03.olx.ru%2Fui%2F11%2F26%2F69%2F1306822664_211411769_1----.jpg&amp;pos=67&amp;rpt=simag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yandex.ru/yandsearch?text=&#1092;&#1086;&#1090;&#1086;%20&#1087;&#1072;&#1085;&#1077;&#1083;&#1100;&#1085;&#1099;&#1081;%20&#1076;&#1086;&#1084;%20&#1089;&#1072;&#1088;&#1072;&#1085;&#1089;&#1082;&amp;img_url=img-fotki.yandex.ru%2Fget%2F6201%2F156106925.0%2F0_5f4d8_a2eb7690_XL&amp;pos=12&amp;rpt=simage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commons.wikimedia.org/wiki/File:Cathedrale_de_Coutances_bordercropped.jpg%3Fuselang=ru" TargetMode="External"/><Relationship Id="rId3" Type="http://schemas.openxmlformats.org/officeDocument/2006/relationships/image" Target="../media/image8.jpeg"/><Relationship Id="rId4" Type="http://schemas.openxmlformats.org/officeDocument/2006/relationships/hyperlink" Target="file://commons.wikimedia.org/wiki/File:Tempietto05.jpg%3Fuselang=ru" TargetMode="External"/><Relationship Id="rId5" Type="http://schemas.openxmlformats.org/officeDocument/2006/relationships/image" Target="../media/image9.jpeg"/><Relationship Id="rId6" Type="http://schemas.openxmlformats.org/officeDocument/2006/relationships/hyperlink" Target="file://commons.wikimedia.org/wiki/File:Santa_Susanna_(Rome)_-_facade.jpg%3Fuselang=ru" TargetMode="External"/><Relationship Id="rId7" Type="http://schemas.openxmlformats.org/officeDocument/2006/relationships/image" Target="../media/image10.jpeg"/><Relationship Id="rId8" Type="http://schemas.openxmlformats.org/officeDocument/2006/relationships/hyperlink" Target="file://upload.wikimedia.org/wikipedia/commons/6/66/Marly1.jpg" TargetMode="External"/><Relationship Id="rId9" Type="http://schemas.openxmlformats.org/officeDocument/2006/relationships/image" Target="../media/image11.jpeg"/><Relationship Id="rId10" Type="http://schemas.openxmlformats.org/officeDocument/2006/relationships/hyperlink" Target="file://upload.wikimedia.org/wikipedia/commons/4/41/Casabatllo2.jpg" TargetMode="External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АРХИТЕКТУР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а Гончарова Э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СОШ №24» го Саран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051440" cy="501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067280" y="1628640"/>
            <a:ext cx="5076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00280"/>
            <a:ext cx="4572000" cy="4392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572000" y="1700280"/>
            <a:ext cx="4572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актическая работа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рисуйте город будущег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700280"/>
            <a:ext cx="79200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052640"/>
            <a:ext cx="770436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836640"/>
            <a:ext cx="828036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907920"/>
            <a:ext cx="813600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49360"/>
            <a:ext cx="76327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692280"/>
            <a:ext cx="8353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думайт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14716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м отличаются современные постройки от архитектурных памятников прошлого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в здании отражена эпох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8000" y="314172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41767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77151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рхитектура - искусство проектировать, строить и художественно оформлять  здания.</a:t>
            </a:r>
            <a:r>
              <a:rPr b="0" lang="ru-RU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рхитектурой также называют облик зданий и соору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03280" y="2565360"/>
            <a:ext cx="57610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ОБЛЕМА УРОКА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Для чего нужна архитектура?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ак она связана с эпохой?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4038480" cy="4411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42920" y="1700280"/>
            <a:ext cx="4038840" cy="4411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1773360"/>
            <a:ext cx="4319640" cy="424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0" y="1773360"/>
            <a:ext cx="4500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 каком доме вы живёте?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Из какого материала он построен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133720"/>
            <a:ext cx="4392720" cy="3727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133720"/>
            <a:ext cx="4356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рхитектурный стиль-это совокупность основных черт и признаков архитектуры определённого времени и мест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рхитектурные стил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тика                                    Романский                                              Барокко                               Моде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иль эпохи Возрождения                                                                                       Роко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Майнц. Собор Санкт-Мартин-унд-Санкт-Штефан. Западная часть (1200—39)."/>
          <p:cNvPicPr/>
          <p:nvPr/>
        </p:nvPicPr>
        <p:blipFill>
          <a:blip r:embed="rId1"/>
          <a:stretch/>
        </p:blipFill>
        <p:spPr>
          <a:xfrm>
            <a:off x="0" y="1268280"/>
            <a:ext cx="1801800" cy="2776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1268280"/>
            <a:ext cx="1727280" cy="27068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4751280"/>
            <a:ext cx="3313080" cy="2106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27640" y="1268280"/>
            <a:ext cx="1923840" cy="2664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File:Marly1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003640" y="4697280"/>
            <a:ext cx="3745080" cy="216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File:Casabatllo2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659640" y="1268280"/>
            <a:ext cx="1944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РХИТЕКТУРА НАШЕГО ГОРО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пенская церков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Успенский спуск Успенская церковь и колокольня(Спуск от памятника патриарху Никону)"/>
          <p:cNvPicPr/>
          <p:nvPr/>
        </p:nvPicPr>
        <p:blipFill>
          <a:blip r:embed="rId1"/>
          <a:stretch/>
        </p:blipFill>
        <p:spPr>
          <a:xfrm>
            <a:off x="0" y="2349360"/>
            <a:ext cx="4643280" cy="4104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3280" y="2349360"/>
            <a:ext cx="45007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62024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л.Московская(ныне Л.Толстог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8320" y="2349360"/>
            <a:ext cx="40384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1274862638_95242990"/>
          <p:cNvPicPr/>
          <p:nvPr/>
        </p:nvPicPr>
        <p:blipFill>
          <a:blip r:embed="rId1"/>
          <a:stretch/>
        </p:blipFill>
        <p:spPr>
          <a:xfrm>
            <a:off x="0" y="1700280"/>
            <a:ext cx="4716360" cy="4321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4276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асский соб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x_57b4d3b8"/>
          <p:cNvPicPr/>
          <p:nvPr/>
        </p:nvPicPr>
        <p:blipFill>
          <a:blip r:embed="rId1"/>
          <a:stretch/>
        </p:blipFill>
        <p:spPr>
          <a:xfrm>
            <a:off x="0" y="1700280"/>
            <a:ext cx="4643280" cy="4249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35640" y="1700280"/>
            <a:ext cx="4608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4:37:30Z</dcterms:created>
  <dc:creator>руслан</dc:creator>
  <dc:description/>
  <dc:language>en-US</dc:language>
  <cp:lastModifiedBy>руслан</cp:lastModifiedBy>
  <dcterms:modified xsi:type="dcterms:W3CDTF">2012-12-12T07:28:41Z</dcterms:modified>
  <cp:revision>7</cp:revision>
  <dc:subject/>
  <dc:title>PowerPoint Presentation</dc:title>
</cp:coreProperties>
</file>