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3B0-7A8C-46AE-A71C-F4ADEFE5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3A17-ADF8-4959-83C9-95427FB2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7116-A300-410F-9D74-B992215C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387D-D6F5-4EAF-8702-0CCFB8AC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73DE-5289-4790-8711-E2A710D8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B3AB-A6B0-4117-BBBF-32DE3459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E7DB-AA4A-4ACB-81F1-D4EC0B58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E396-2179-4C0A-B86E-1CD0C480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E46D-8549-4A4F-84C1-9D6A945C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578E-653F-4825-A36A-AD14C636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FD0F-2B8E-4959-95DB-F9BADCE0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589-22F7-4ABA-B6BB-EB7D7282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6BC5-9509-422A-93F8-00A2F0C5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0E42-3E9B-49BF-8B12-565D24E9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0C01-6B2E-4ADD-8BC5-A03256F8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72BC-4C95-49BE-97AB-9B0899E8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C96D-C7AB-4BC2-9ABD-B26A4BB9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DCF-D68B-4F8A-A7B4-4ADDC848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413-3AB4-43B1-B008-591867E4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AAB-0AA6-4DA5-AC37-70C980CE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E905-F6F5-46ED-AA3A-8B97746A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29B-A175-4057-9A30-2F80717A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992E-D8EC-4B3D-996B-C49E513E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4ED4-B003-445C-9B5F-11A4F215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383D-48B2-4F65-85A1-71BD291E5A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4931-8906-4E36-AF94-8AAC56786B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11280" y="692280"/>
            <a:ext cx="583272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ксты для чтен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 класс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Ено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58920" y="4723920"/>
            <a:ext cx="4537080" cy="14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БОУ гимназия  г. Узлов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ульской обла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Чижова И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Ено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Енот-весёлый и подвижный зверь. Ночами он выходит на охоту. Часто таскает кур. Енот любит ловить рыбу. Перед едой он моет добычу. За это его прозвали полоскун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58920" y="105264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. Когда охотится ено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. На кого охотится ено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. За что енота прозвали полоскун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dns\Desktop\Тексты для чтения 1 класс\138020.jpg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dns\Desktop\Тексты для чтения 1 класс\32_3.jpg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dns\Desktop\Тексты для чтения 1 класс\enot_poloskun.jpg"/>
          <p:cNvPicPr/>
          <p:nvPr/>
        </p:nvPicPr>
        <p:blipFill>
          <a:blip r:embed="rId1"/>
          <a:stretch/>
        </p:blipFill>
        <p:spPr>
          <a:xfrm>
            <a:off x="450720" y="189000"/>
            <a:ext cx="84250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:\Users\dns\Desktop\Тексты для чтения 1 класс\75209009_f_183321771.jpg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Users\dns\Desktop\Тексты для чтения 1 класс\12.06.200827468_15.jpg"/>
          <p:cNvPicPr/>
          <p:nvPr/>
        </p:nvPicPr>
        <p:blipFill>
          <a:blip r:embed="rId1"/>
          <a:stretch/>
        </p:blipFill>
        <p:spPr>
          <a:xfrm>
            <a:off x="409680" y="333360"/>
            <a:ext cx="84103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62840" y="4143240"/>
            <a:ext cx="71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adikal.ru/F/s41.radikal.ru/i092/1108/60/e918556f2ee2.jpg.html  блокн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тульный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65360" y="4719600"/>
            <a:ext cx="735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adikal.ru/F/s007.radikal.ru/i301/1103/99/6199f83a006a.png.htm мальч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карандаш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766080" y="5324040"/>
            <a:ext cx="68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adikal.ru/F/i082.radikal.ru/1104/4f/315eaf1515d8.png.htm  мальч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61760" y="5684400"/>
            <a:ext cx="668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adikal.ru/F/i060.radikal.ru/1008/11/c307d759d821.png.html ран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826920" y="601488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ий шаблон авто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815400" y="435240"/>
            <a:ext cx="74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 можете использовать данное оформление для создания своих презентац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 в своей презентации вы должны источник шабло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971640" y="1484280"/>
            <a:ext cx="7129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ко Наталья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32 г. Комсомольска-на-Ам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edsovet.s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шаблона использованы 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dns</cp:lastModifiedBy>
  <dcterms:modified xsi:type="dcterms:W3CDTF">2012-11-07T04:25:45Z</dcterms:modified>
  <cp:revision>6</cp:revision>
  <dc:subject/>
  <dc:title>Слайд 1</dc:title>
</cp:coreProperties>
</file>