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F4F-48AB-4AFB-8157-F5814921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26D-4472-49DD-94EA-7FA969E6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74C-2C2F-4D5B-AF80-3BA8D6FF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88B-2AF3-4AA1-AF46-E4C425C6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BADA-F1CE-4300-AB09-1986A679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ED02-22D9-4863-84E1-BBCCA6B6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C57E-D283-4509-A096-48283F70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A2D5-2282-4656-82B3-8E23C8B0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2B7-E4FD-49CD-9279-CD092D57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CB2B-A72C-43FF-BF0E-617BF14A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5CC0-A38F-42D8-8F31-8BE1D83E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177-EDDF-4FF9-BBE7-A1105DC2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1668-F4BD-47D0-8EB6-0680B5B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EBAA-1D80-4CA3-A71E-9420B8F3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354B-D827-44AF-80C9-70BCFD27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28CE-25E9-4636-ACD7-97732987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E9A1-346E-4CFF-9C26-4E15096A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B58-D595-4513-A0CA-753CAFA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7B2-6F72-4CFC-BC92-443C22F4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CF2-14E4-4F68-BAFC-C0D43D83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E0E-1350-44F1-A97B-11836799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F1F-546C-4D9A-BB42-0AD3297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443-1ED8-4DED-992F-479B75EF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720-D898-4B74-89A7-B6B3F695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1008-009D-4011-B764-5A4AAE134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F803-3000-4830-A333-704CBF59F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1280" y="692280"/>
            <a:ext cx="583272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ксты для чт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клас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н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58920" y="4723920"/>
            <a:ext cx="453708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БОУ гимназия  г. Узл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ульской обла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Чижова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н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нот-весёлый и подвижный зверь. Ночами он выходит на охоту. Часто таскает кур. Енот любит ловить рыбу. Перед едой он моет добычу. За это его прозвали полоскун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8920" y="105264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. Когда охотится ено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. На кого охотится ено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. За что енота прозвали полоскун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dns\Desktop\Тексты для чтения 1 класс\138020.jpg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dns\Desktop\Тексты для чтения 1 класс\32_3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dns\Desktop\Тексты для чтения 1 класс\enot_poloskun.jpg"/>
          <p:cNvPicPr/>
          <p:nvPr/>
        </p:nvPicPr>
        <p:blipFill>
          <a:blip r:embed="rId1"/>
          <a:stretch/>
        </p:blipFill>
        <p:spPr>
          <a:xfrm>
            <a:off x="450720" y="189000"/>
            <a:ext cx="8425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dns\Desktop\Тексты для чтения 1 класс\75209009_f_183321771.jpg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dns\Desktop\Тексты для чтения 1 класс\12.06.200827468_15.jpg"/>
          <p:cNvPicPr/>
          <p:nvPr/>
        </p:nvPicPr>
        <p:blipFill>
          <a:blip r:embed="rId1"/>
          <a:stretch/>
        </p:blipFill>
        <p:spPr>
          <a:xfrm>
            <a:off x="409680" y="333360"/>
            <a:ext cx="8410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840" y="4143240"/>
            <a:ext cx="71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adikal.ru/F/s41.radikal.ru/i092/1108/60/e918556f2ee2.jpg.html  блокн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тульный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5360" y="4719600"/>
            <a:ext cx="735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adikal.ru/F/s007.radikal.ru/i301/1103/99/6199f83a006a.png.htm мальч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рандаш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766080" y="5324040"/>
            <a:ext cx="68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adikal.ru/F/i082.radikal.ru/1104/4f/315eaf1515d8.png.htm  мальч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1760" y="5684400"/>
            <a:ext cx="668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adikal.ru/F/i060.radikal.ru/1008/11/c307d759d821.png.html ра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26920" y="60148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й шаблон авт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815400" y="435240"/>
            <a:ext cx="74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ожете использовать данное оформление для создания своих презентац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в своей презентации вы должны источник шабло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971640" y="1484280"/>
            <a:ext cx="7129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ко Наталь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32 г. Комсомольска-на-Ам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edsovet.s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шаблона использованы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dns</cp:lastModifiedBy>
  <dcterms:modified xsi:type="dcterms:W3CDTF">2012-11-07T04:25:45Z</dcterms:modified>
  <cp:revision>6</cp:revision>
  <dc:subject/>
  <dc:title>Слайд 1</dc:title>
</cp:coreProperties>
</file>