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B96-88B8-43B3-B8A3-A083E1CA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D4E1-4863-4907-BC8F-A1F3DE4A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1225-53DF-454D-BA60-1438CFEC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A4C-1722-4071-862C-80849CBA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5F7B-3CFA-45E9-8535-2B501B42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6652-45D5-4647-B469-31C482FD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00C4-64A5-4AA0-B0E3-39654E26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E902-C2A1-4356-B3C0-C9177CEF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EA55-E853-44A6-9C9B-DFAC17FC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CAA1-7551-4F0E-872D-9E165C18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6B8F-8819-4B8D-A699-F8451168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FEF2-4A4E-45B3-832B-879DBB03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00F5-46EC-4AFF-BEC7-DDC08FE4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DD11-C410-4967-AA87-50269088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D1D7-56B2-492B-B744-2DBA3506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F45A-5A91-4978-9FE5-2A954DD4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0542-6AB2-4140-9C25-0550BC94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8B6-39D0-49E8-8612-F8A48B84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FF4-BE0B-4682-B973-BAE84A82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0E2E-9746-41AF-8CBE-A0230C22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EB1A-3103-47B1-8881-8186ABBD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A23E-F77D-495B-A6E3-F481D932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7EBF-DB13-4B9F-9862-2B9E2BDA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1E7-136A-4995-9B81-B37FB707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40C8-682B-4766-806F-0FBD0E31A7C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4B80-9173-403F-9059-557EB4E4B58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749160" y="360360"/>
            <a:ext cx="7864560" cy="20113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" descr="62738966.jpg"/>
          <p:cNvPicPr/>
          <p:nvPr/>
        </p:nvPicPr>
        <p:blipFill>
          <a:blip r:embed="rId2"/>
          <a:stretch/>
        </p:blipFill>
        <p:spPr>
          <a:xfrm>
            <a:off x="2700360" y="2163600"/>
            <a:ext cx="399564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Ежа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-шла не-де-ля пос-ле рож-де-ни-я е-жат. У них по-я-ви-лись зуб-ки. Мать ста-ла у-хо-дить из гнез-да на по-ис-ки пи-щи.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549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 у-хо-дом е-жи-ха у-ку-ты-ва-ет сво-их де-тей лис-точ-ка-ми и тра-вин-ка-ми. Ле-жат ма-лень-ки-е «па-ке-ти-ки» в гнез-де. Теп-ло им в у-па-ков-ке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гда у ежат появляются зубки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чем ежиха уходит из гнезда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 в гнезде появляются комочки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2" name="Содержимое 3" descr="0_68a14_23866390_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4" name="Содержимое 3" descr="post-13-128223878844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6" name="Содержимое 3" descr="0_65b01_64ba4f27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8" name="Содержимое 3" descr="0_5e8fd_3eac84b4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13:53:54Z</dcterms:created>
  <dc:creator>acer</dc:creator>
  <dc:description/>
  <dc:language>en-US</dc:language>
  <cp:lastModifiedBy>acer</cp:lastModifiedBy>
  <dcterms:modified xsi:type="dcterms:W3CDTF">2012-10-27T08:57:43Z</dcterms:modified>
  <cp:revision>5</cp:revision>
  <dc:subject/>
  <dc:title>Тексты для чтения 1 класс</dc:title>
</cp:coreProperties>
</file>