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8AD4-B913-4B1B-9524-B6CF79D1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3EF-2F5B-46FF-940B-EDD0C0FC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3D2E-B350-4CB7-822E-876A95C0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7EF4-0D1E-476C-9164-60527AB4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D6DB-DDA4-4B0A-91F6-08011F3A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2102-083F-48F8-9469-88D12746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8FFE-D3C3-425F-9A59-8A5E73CD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DE90-1DC5-413E-8ADD-0D1EAA82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3FB5-822B-488D-A1B7-59B12324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97B3-F14A-40A1-8093-C4F7A420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15E9-0F8E-4928-AC36-AA7EA964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970-2228-430C-B179-D4428E76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4FF4-F75D-4FF4-BCA1-A65C13B7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9DDE-608F-4ABA-87E3-EBFD7B02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5405-C9EE-413B-9A69-471D626B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E655-0F77-4D8E-9217-39264519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B0D8-A080-4F73-B857-9C95F7D4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9E9B-9FE7-4B28-8D99-1059A532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00E-E4F5-4E23-ACF7-5FF1DE62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172D-C2B8-41DF-9039-D8869336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1A33-B127-4F7B-9FF4-D1164849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F663-C64F-4A59-B723-0D84E340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C0A4-840F-4A61-B38F-032AE56E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C6F9-6B45-406C-9086-78BC576B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B0D6-21DA-485A-A7F7-9C739DFC9AE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D606-2100-4CDF-A600-8F5B0A4A4FE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749160" y="360360"/>
            <a:ext cx="7864560" cy="20113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" descr="62738966.jpg"/>
          <p:cNvPicPr/>
          <p:nvPr/>
        </p:nvPicPr>
        <p:blipFill>
          <a:blip r:embed="rId2"/>
          <a:stretch/>
        </p:blipFill>
        <p:spPr>
          <a:xfrm>
            <a:off x="2700360" y="2163600"/>
            <a:ext cx="399564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Ежа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-шла не-де-ля пос-ле рож-де-ни-я е-жат. У них по-я-ви-лись зуб-ки. Мать ста-ла у-хо-дить из гнез-да на по-ис-ки пи-щи.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5493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 у-хо-дом е-жи-ха у-ку-ты-ва-ет сво-их де-тей лис-точ-ка-ми и тра-вин-ка-ми. Ле-жат ма-лень-ки-е «па-ке-ти-ки» в гнез-де. Теп-ло им в у-па-ков-ке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гда у ежат появляются зубки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чем ежиха уходит из гнезда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 в гнезде появляются комочки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2" name="Содержимое 3" descr="0_68a14_23866390_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4" name="Содержимое 3" descr="post-13-128223878844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6" name="Содержимое 3" descr="0_65b01_64ba4f27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8" name="Содержимое 3" descr="0_5e8fd_3eac84b4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13:53:54Z</dcterms:created>
  <dc:creator>acer</dc:creator>
  <dc:description/>
  <dc:language>en-US</dc:language>
  <cp:lastModifiedBy>acer</cp:lastModifiedBy>
  <dcterms:modified xsi:type="dcterms:W3CDTF">2012-10-27T08:57:43Z</dcterms:modified>
  <cp:revision>5</cp:revision>
  <dc:subject/>
  <dc:title>Тексты для чтения 1 класс</dc:title>
</cp:coreProperties>
</file>