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406-F9A9-4F5A-95D6-F94FD681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536-385D-4CD7-91B9-CE7BB6E9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AC1-A252-4262-8EE4-D86DA387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A5F-9305-4290-B3B1-CA82712B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3065-AB0C-4871-9194-7288215D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25BF-BA8F-44A0-9A15-1EC84DD6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D11C-97A9-4BA1-A4DF-2E84C4B3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A518-5574-4009-96FE-BD148FE7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C0FF-1F1D-4B41-8A8F-2733BA6C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9440-32F3-432D-9880-65B2714D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CA92-CFD4-45A2-8F3F-DB8D17E4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40C-FA36-404C-93EE-5358B75A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CAED-025E-4E86-85B2-CC9C1672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1F7C-4A65-44B2-A981-0E3E423E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2973-8E23-4E53-9116-4584807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D1B1-31D9-4401-87FE-C240B094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B070-F34D-4E89-A733-94DAEA31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B63-A223-4600-9EFA-A51F9192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14F-4ECB-4110-B966-7B49920A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788-10B1-4E7F-BD38-98F9E419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F2E-3D90-4476-88F1-23C6A12C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DA1-34B4-4C64-B646-4A751AC2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D73-5A0A-47B4-A013-A6B2894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AC5-4012-4910-8B29-475C826C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D09C-377C-4B9A-8027-2FB5A2034D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3EE3-D526-41CC-AFDB-5E75B1B87B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кст по чтению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1 классе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олоса  ры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ж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гимназия г.Узловая Туль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Documents and Settings\Admin\Рабочий стол\картинки\морской петух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лоса рыб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ы издают тихие звуки. Голоса некоторых рыб схожи с голосами птиц. Белуги «кричат» чибисом. Морской карась крякает. Ставриды трещат, как дрозды. Морской петух кук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90720" y="9140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 голоса у  ры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ая  рыба  кряк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ая  рыба  куку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 такие  чибис  и дроз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Admin\Рабочий стол\картинки\белуга1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лу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C:\Documents and Settings\Admin\Рабочий стол\картинки\морской карась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рской кар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Admin\Рабочий стол\картинки\морской карась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Documents and Settings\Admin\Рабочий стол\картинки\ставрид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авр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Documents and Settings\Admin\Рабочий стол\картинки\ставрида 1.jpeg"/>
          <p:cNvPicPr/>
          <p:nvPr/>
        </p:nvPicPr>
        <p:blipFill>
          <a:blip r:embed="rId1"/>
          <a:stretch/>
        </p:blipFill>
        <p:spPr>
          <a:xfrm>
            <a:off x="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:\Documents and Settings\Admin\Рабочий стол\картинки\морской пету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рской пет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eaher</cp:lastModifiedBy>
  <dcterms:modified xsi:type="dcterms:W3CDTF">2012-10-19T03:55:30Z</dcterms:modified>
  <cp:revision>9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