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422-2907-4C67-9CDD-CEE9AA79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E06-25E7-49A6-8B74-D475276B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BE5-1C85-4754-A94D-F49653D9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94ED-33EC-4432-BBD6-855FB3B3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7A16-640A-4264-9E2F-0E24C9EF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1E21-E27C-4FD0-86A4-3D0A585E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4FFB-47C1-4A4E-BB79-6EB4B2E5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49F7-EA92-47A3-B3CC-4BD49164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84CD-FD33-44A7-81F4-2826A009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C28F-48A3-4C9F-B864-DA781786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7811-D40D-4D3B-BABA-0A5FAB92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D9C-17E6-414A-896F-CCDA1DDC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D460-2BCE-4E61-A821-6A42AC8F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240F-8A8A-45E8-95AB-598C5C48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889F-B3D1-4DD4-9AFC-8C90C202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9062-7E5D-404F-A82C-261ED253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5DC6-FC49-454F-B361-35EA0BA1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EC2-603D-4050-BCB4-717E40E6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4D1-68DB-4920-A777-96F2AD4F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7A2-9018-4ADE-BCBD-A86E5FA4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4BA-95C7-4407-9221-9CBA88C0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FC2-E787-4BDE-95B6-AE824A0F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C74-751E-4127-96A1-96884EAD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DF7-D73C-4FAC-B4B4-D037F885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DE7B-A66B-4B14-8BA3-B9B863D7CB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prstGeom prst="pie">
            <a:avLst/>
          </a:pr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prstGeom prst="pie">
            <a:avLst/>
          </a:prstGeom>
          <a:solidFill>
            <a:srgbClr val="fff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18E8-C8F7-41A6-BBEB-FF23887AB3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кст по чтению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 1 классе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олоса  ры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жо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БОУ гимназия г.Узловая Туль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Documents and Settings\Admin\Рабочий стол\картинки\морской петух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лоса рыб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бы издают тихие звуки. Голоса некоторых рыб схожи с голосами птиц. Белуги «кричат» чибисом. Морской карась крякает. Ставриды трещат, как дрозды. Морской петух кук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90720" y="9140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ие  голоса у  рыб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ая  рыба  кряка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ая  рыба  куку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то  такие  чибис  и дрозд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Documents and Settings\Admin\Рабочий стол\картинки\белуга1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лу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C:\Documents and Settings\Admin\Рабочий стол\картинки\морской карась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рской кар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Admin\Рабочий стол\картинки\морской карась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Documents and Settings\Admin\Рабочий стол\картинки\ставрид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авр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Documents and Settings\Admin\Рабочий стол\картинки\ставрида 1.jpeg"/>
          <p:cNvPicPr/>
          <p:nvPr/>
        </p:nvPicPr>
        <p:blipFill>
          <a:blip r:embed="rId1"/>
          <a:stretch/>
        </p:blipFill>
        <p:spPr>
          <a:xfrm>
            <a:off x="0" y="0"/>
            <a:ext cx="922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C:\Documents and Settings\Admin\Рабочий стол\картинки\морской петух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орской пет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Teaher</cp:lastModifiedBy>
  <dcterms:modified xsi:type="dcterms:W3CDTF">2012-10-19T03:55:30Z</dcterms:modified>
  <cp:revision>9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