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AC5-5966-46C0-B857-E1F7E39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7C5-6159-4EA2-9645-8720029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292-16DA-416E-BA79-EF454D01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ED5-B18A-4DDF-BEF8-7F2FCCFA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94C-33F2-4BBE-821F-31735C3F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D55-C9B3-4A43-962B-3C6067A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627-1A35-492D-B439-6FCBF98B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0F1-BDD0-4DC2-9BB7-1D636A5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9E4-01FC-436A-A1BA-8AFA5F1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A89-5714-4530-9426-3C3FF92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171-CD71-4D74-9DF1-1B4AA46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7CA-C918-41F4-B391-6BEB455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EFA7BB-2AF5-4C83-A136-C4EC3A6EB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4643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ы для чт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15040" y="5285880"/>
            <a:ext cx="3828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 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льской 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ж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Teaher\Desktop\Тексты для чтения 1 класс\1299412648_lions_1198_smallres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Users\Teaher\Desktop\Тексты для чтения 1 класс\reWalls.com_12509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Teaher\Desktop\Тексты для чтения 1 класс\Лев пума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600200"/>
            <a:ext cx="8715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 – царь  зверей. Грозно ревёт  лев.  Раньше  львы водились  на  территории теперешней  Мос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85680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йчас  в  природе  львы уцелели  только  в Африке. Небольшие колонии  львов  есть  в лесу  Гир  и  Инд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32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ьвы   спят   в  маленьких островках  тени  или  в траве,  нагретой  солнцем саванны,  по  20  часов  в сут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713880"/>
            <a:ext cx="82281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раньше водились ль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сейчас водятся львы в дикой приро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знаменит ле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Teaher\Desktop\Тексты для чтения 1 класс\0_5e688_ead920b8_XL.jpe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Teaher\Desktop\Тексты для чтения 1 класс\0_41a1b_4d87b7bb_XL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Teaher\Desktop\Тексты для чтения 1 класс\850_1aacfe0c83d8aef6b923f1d72be6273a.jpg"/>
          <p:cNvPicPr/>
          <p:nvPr/>
        </p:nvPicPr>
        <p:blipFill>
          <a:blip r:embed="rId1"/>
          <a:stretch/>
        </p:blipFill>
        <p:spPr>
          <a:xfrm>
            <a:off x="214200" y="285840"/>
            <a:ext cx="4191120" cy="628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Teaher\Desktop\lev1.jpg"/>
          <p:cNvPicPr/>
          <p:nvPr/>
        </p:nvPicPr>
        <p:blipFill>
          <a:blip r:embed="rId2"/>
          <a:stretch/>
        </p:blipFill>
        <p:spPr>
          <a:xfrm>
            <a:off x="4429080" y="285840"/>
            <a:ext cx="435780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Teaher\Desktop\Тексты для чтения 1 класс\1212145451_0-6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/>
  <dc:description/>
  <dc:language>en-US</dc:language>
  <cp:lastModifiedBy>Teaher</cp:lastModifiedBy>
  <dcterms:modified xsi:type="dcterms:W3CDTF">2012-10-25T07:59:10Z</dcterms:modified>
  <cp:revision>7</cp:revision>
  <dc:subject/>
  <dc:title>Слайд 1</dc:title>
</cp:coreProperties>
</file>