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57D-D5FD-4D40-B7FA-E9025F9E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C8F-CCB4-45A4-9471-9CC790B3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B37-358E-47AB-8F7F-032CA1D5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45A-175D-4F18-82F8-29270765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CB8-8889-453D-9209-809985C2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325-6A4C-4B65-BCAF-9F5B3F9F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213-3C18-41B0-8EA9-EE116335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F0A-6B07-4AEE-A82A-93F48F8A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28B-DA0E-4160-ADE1-5CFB882D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E95-5BF2-4165-816B-413EB8BC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6ED-A6D3-4BF6-983A-69EFB5BE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764-10BB-4ECC-8E22-13F879F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711AC2-0588-4426-9DEE-8175CADBF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46436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ксты для чтен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клас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15040" y="5285880"/>
            <a:ext cx="3828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 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ульской 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ж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Teaher\Desktop\Тексты для чтения 1 класс\1299412648_lions_1198_smallres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C:\Users\Teaher\Desktop\Тексты для чтения 1 класс\reWalls.com_12509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Teaher\Desktop\Тексты для чтения 1 класс\Лев пума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600200"/>
            <a:ext cx="8715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в – царь  зверей. Грозно ревёт  лев.  Раньше  львы водились  на  территории теперешней  Моск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85680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йчас  в  природе  львы уцелели  только  в Африке. Небольшие колонии  львов  есть  в лесу  Гир  и  Инд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32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ьвы   спят   в  маленьких островках  тени  или  в траве,  нагретой  солнцем саванны,  по  20  часов  в сут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713880"/>
            <a:ext cx="82281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раньше водились ль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сейчас водятся львы в дикой природ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знаменит ле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Teaher\Desktop\Тексты для чтения 1 класс\0_5e688_ead920b8_XL.jpeg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Teaher\Desktop\Тексты для чтения 1 класс\0_41a1b_4d87b7bb_XL.jpe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Teaher\Desktop\Тексты для чтения 1 класс\850_1aacfe0c83d8aef6b923f1d72be6273a.jpg"/>
          <p:cNvPicPr/>
          <p:nvPr/>
        </p:nvPicPr>
        <p:blipFill>
          <a:blip r:embed="rId1"/>
          <a:stretch/>
        </p:blipFill>
        <p:spPr>
          <a:xfrm>
            <a:off x="214200" y="285840"/>
            <a:ext cx="4191120" cy="628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Teaher\Desktop\lev1.jpg"/>
          <p:cNvPicPr/>
          <p:nvPr/>
        </p:nvPicPr>
        <p:blipFill>
          <a:blip r:embed="rId2"/>
          <a:stretch/>
        </p:blipFill>
        <p:spPr>
          <a:xfrm>
            <a:off x="4429080" y="285840"/>
            <a:ext cx="435780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Teaher\Desktop\Тексты для чтения 1 класс\1212145451_0-6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/>
  <dc:description/>
  <dc:language>en-US</dc:language>
  <cp:lastModifiedBy>Teaher</cp:lastModifiedBy>
  <dcterms:modified xsi:type="dcterms:W3CDTF">2012-10-25T07:59:10Z</dcterms:modified>
  <cp:revision>7</cp:revision>
  <dc:subject/>
  <dc:title>Слайд 1</dc:title>
</cp:coreProperties>
</file>