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20B-CC53-4174-8E45-6E13F3F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170-EB82-407E-9635-03526ED9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BE7-5D79-44C0-A081-723C952B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343-CA43-4700-AB16-45C25A8B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2503-3387-418D-AB00-D48FE8AA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EE5-64E9-49B8-B4D5-0DA1826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A661-7DCC-4FE7-BC28-BE4ABAD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DA30-033F-4368-9C20-4406A0E0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60E-A69F-4804-879D-F6A975F3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C2A5-1703-49D2-98BE-8F312F8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2CE2-FD36-4D03-96A2-95BEC4B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D7F-DCFF-4061-A7AD-0EE6F317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D47-97F2-4ED1-B369-2F9135B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B582-2A5A-4397-BDCC-F2E0BB6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536F-A0E5-42CB-A4BF-47B02C33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7FB7-02E9-450B-B2FE-1FEE851F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8E3D-7510-4644-801C-C0F3F764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F1F-44BC-485C-86F3-8CEF18D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951-FC8D-4B8B-B9BB-0C67EF3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DB7-AE23-4721-8907-B6DF9E9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1F6-5193-425E-A8BD-A8DA265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853-C402-4127-BC79-1EA4647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849-FFB9-40B1-A47D-A30A631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7EC-0CDC-4A2D-B6C9-954D99D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B4E4-6A35-4973-865F-C2FE185E7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338-C34E-4CEE-A594-04AACA835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06:28Z</dcterms:created>
  <dc:creator>ASUS</dc:creator>
  <dc:description/>
  <dc:language>en-US</dc:language>
  <cp:lastModifiedBy>ASUS</cp:lastModifiedBy>
  <dcterms:modified xsi:type="dcterms:W3CDTF">2012-12-09T14:57:16Z</dcterms:modified>
  <cp:revision>2</cp:revision>
  <dc:subject/>
  <dc:title>Слайд 1</dc:title>
</cp:coreProperties>
</file>