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85F-CD3B-4555-8C60-1D3B1639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722-1410-44AF-AC61-CA3E99DD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374-AAB2-4D9A-B260-810E4CC0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546-7242-4A49-85DD-33619630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ED5-BD8E-4A23-99E3-8C05ECB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01C-8ADC-4BBB-800A-9E176FFB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9E5-D809-4E1D-AB5C-5E23710C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963-115E-49FE-BBD8-043C7CA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32A-70E9-4D1B-86DA-B09F0ECB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F93-3A30-407C-80FC-57DD5419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F44-0545-43A2-BDD8-3C1DB642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481-90DA-4DE9-9E3A-6935CB3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EBE9-5F35-4367-9A47-F1F5F1F2F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5184720" cy="633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Fowles is a (1)_______He collects (2)__________and (3)____________ facts about wild birds. For example he is interested in (4)_____________facts related to puffins, very (5)______________ sea birds. Mr.Fowles often goes to one of the islands in the North Sea to study the (6)_______________of puffins living there. He knows a lot about these birds: the (7)________and the (8)___________ of their wings, the number of the chicks they have, the birds’(9) ___________ and (10)___________. The local (11)__________ say Mr.Fowles is of great help to th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84360" y="692280"/>
            <a:ext cx="2746440" cy="518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op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2520" y="4762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4160" y="1052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6520" y="1700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2520" y="2637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2520" y="32130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35002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6880" y="4149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4370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724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olog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7:54:03Z</dcterms:created>
  <dc:creator>Admin</dc:creator>
  <dc:description/>
  <dc:language>en-US</dc:language>
  <cp:lastModifiedBy>Admin</cp:lastModifiedBy>
  <dcterms:modified xsi:type="dcterms:W3CDTF">2010-02-23T16:09:40Z</dcterms:modified>
  <cp:revision>3</cp:revision>
  <dc:subject/>
  <dc:title>Слайд 1</dc:title>
</cp:coreProperties>
</file>