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3822-00C7-451D-88B7-6DD46680A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6B54-6E38-44C3-84D4-E43026E63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0AF7-6DD4-4E9E-952A-FC2B411CD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D879-58E3-437F-B5C0-80BD300F8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FDA0-D296-43F9-B37A-9F00ACB7C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6D6E-3BD5-4ED0-9B86-0FD493B5F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364A-AF6F-499E-80EB-93BCD3EAF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937E-87D5-4709-8502-43E54DBD7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1129-7485-4B41-B840-94734FC32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AD34-3AD2-45B2-AB6E-84F08E1A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5536-DF81-4046-BBD2-2632F23D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B09C-2117-46A7-9AC3-49B94D65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38029-78FE-46B4-A0D4-B9C48B6B5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250920" y="188640"/>
            <a:ext cx="5184720" cy="633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r. Fowles is a (1)_______He collects (2)__________and (3)____________ facts about wild birds. For example he is interested in (4)_____________facts related to puffins, very (5)______________ sea birds. Mr.Fowles often goes to one of the islands in the North Sea to study the (6)_______________of puffins living there. He knows a lot about these birds: the (7)________and the (8)___________ of their wings, the number of the chicks they have, the birds’(9) ___________ and (10)___________. The local (11)__________ say Mr.Fowles is of great help to the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84360" y="692280"/>
            <a:ext cx="2746440" cy="5184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in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inte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di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us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popu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w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 devel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 g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. ec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71640" y="189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cient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4762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2520" y="47628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ter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34160" y="105264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iffe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06520" y="170028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unus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62520" y="2637000"/>
            <a:ext cx="123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2520" y="321300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i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03280" y="3500280"/>
            <a:ext cx="8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66880" y="414972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76360" y="4437000"/>
            <a:ext cx="8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row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03280" y="4724280"/>
            <a:ext cx="12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colog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1T17:54:03Z</dcterms:created>
  <dc:creator>Admin</dc:creator>
  <dc:description/>
  <dc:language>en-US</dc:language>
  <cp:lastModifiedBy>Admin</cp:lastModifiedBy>
  <dcterms:modified xsi:type="dcterms:W3CDTF">2010-02-23T16:09:40Z</dcterms:modified>
  <cp:revision>3</cp:revision>
  <dc:subject/>
  <dc:title>Слайд 1</dc:title>
</cp:coreProperties>
</file>