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874871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41280" y="685440"/>
            <a:ext cx="4375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F45B-A2CE-4DB5-BB06-02D072004E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C7FF-765B-4CFA-B4A6-A564412CBA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41280" y="685800"/>
            <a:ext cx="437544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A41-C314-43C4-AC5A-9721B633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4054680"/>
            <a:ext cx="78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EBE-94A2-4A47-94AA-0439C93C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405468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3000" y="405468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C69-50AF-4ABD-8703-42683637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0320" y="190512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2520" y="190512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405468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0320" y="405468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2520" y="405468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26C-F325-4711-B25D-195E3C26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5EE92-372B-4FD5-B123-C2E17B9A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C2713-B410-446C-B98A-FDCDC178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7C6C2-AA52-47F2-9FAC-8B84C31B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556BF-2156-4D6C-A62D-A997B9B2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A2F43-8D5F-4270-8324-AD24ABBF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8120" y="291960"/>
            <a:ext cx="787392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69F7A-2965-46A4-B3BD-B1EBDE46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8120" y="405468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99842-041A-48F9-8E40-405F6F32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1AE-B851-471B-A35F-A16C0BFC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73000" y="405468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4930C-96E8-42BA-A80A-C378B95E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8120" y="4054680"/>
            <a:ext cx="78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9DEF1-8196-4C69-B3A7-67E9CBCA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8120" y="4054680"/>
            <a:ext cx="78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C1D28-3C53-4F6C-8FD4-87D9041D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8120" y="405468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73000" y="405468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45ED4-4C42-4B69-A0C1-BF46FE43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00320" y="190512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62520" y="190512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8120" y="405468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00320" y="405468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62520" y="4054680"/>
            <a:ext cx="253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61903-7ADD-4CA5-8C9D-7FEC15AC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598-3699-454D-992D-F58279F6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14C-32A4-47F9-B422-45BB43AC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C846-C6E4-4835-9952-39FE0438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291960"/>
            <a:ext cx="787392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9B5-D10E-4D85-A254-09D57D5B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405468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873F-2D6C-4DE9-A7B4-C63A43D7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3000" y="405468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F3D-7A9C-4739-9DAA-294CC234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3000" y="1905120"/>
            <a:ext cx="384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4054680"/>
            <a:ext cx="78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4C9-FA78-4FCC-BFAF-74A887CF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244920"/>
            <a:ext cx="204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89440" y="6244920"/>
            <a:ext cx="276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70120" y="6244920"/>
            <a:ext cx="204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07FE-F129-4D99-B9E4-E51E3DD05C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72880" y="2803680"/>
            <a:ext cx="1800" cy="3035160"/>
          </a:xfrm>
          <a:custGeom>
            <a:avLst/>
            <a:gdLst>
              <a:gd name="textAreaLeft" fmla="*/ 0 w 1800"/>
              <a:gd name="textAreaRight" fmla="*/ 2160 w 180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989440" y="6244920"/>
            <a:ext cx="276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270120" y="6244920"/>
            <a:ext cx="204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F57F-3C65-45D7-8C3B-270C5A6929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37760" y="6244920"/>
            <a:ext cx="204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91628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455760" y="1268280"/>
            <a:ext cx="78372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ект урока по модулю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основы православной культуры"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-24300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Боговоплощени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3" descr="75dbce5cad7972fa5f0ad43fe40[1]"/>
          <p:cNvPicPr/>
          <p:nvPr/>
        </p:nvPicPr>
        <p:blipFill>
          <a:blip r:embed="rId1"/>
          <a:stretch/>
        </p:blipFill>
        <p:spPr>
          <a:xfrm>
            <a:off x="2414520" y="981000"/>
            <a:ext cx="4132440" cy="563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ib279[1]"/>
          <p:cNvPicPr/>
          <p:nvPr/>
        </p:nvPicPr>
        <p:blipFill>
          <a:blip r:embed="rId1"/>
          <a:stretch/>
        </p:blipFill>
        <p:spPr>
          <a:xfrm>
            <a:off x="1854360" y="333360"/>
            <a:ext cx="4643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Голгофа. Зачем Христос умер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0" descr="1[2]"/>
          <p:cNvPicPr/>
          <p:nvPr/>
        </p:nvPicPr>
        <p:blipFill>
          <a:blip r:embed="rId1"/>
          <a:stretch/>
        </p:blipFill>
        <p:spPr>
          <a:xfrm>
            <a:off x="868320" y="1905120"/>
            <a:ext cx="300024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0[1]"/>
          <p:cNvPicPr/>
          <p:nvPr/>
        </p:nvPicPr>
        <p:blipFill>
          <a:blip r:embed="rId2"/>
          <a:stretch/>
        </p:blipFill>
        <p:spPr>
          <a:xfrm>
            <a:off x="4443480" y="2133720"/>
            <a:ext cx="3863880" cy="26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2" descr="5286-20080123-jerusalem-holy-sepulchre-stairway-golgotha.jpg"/>
          <p:cNvPicPr/>
          <p:nvPr/>
        </p:nvPicPr>
        <p:blipFill>
          <a:blip r:embed="rId1"/>
          <a:stretch/>
        </p:blipFill>
        <p:spPr>
          <a:xfrm>
            <a:off x="444600" y="100008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0_4b9cc_82651fe7_XL.jpg"/>
          <p:cNvPicPr/>
          <p:nvPr/>
        </p:nvPicPr>
        <p:blipFill>
          <a:blip r:embed="rId2"/>
          <a:stretch/>
        </p:blipFill>
        <p:spPr>
          <a:xfrm>
            <a:off x="4803840" y="1000080"/>
            <a:ext cx="3106800" cy="41436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3013560" y="35712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aae"/>
                </a:solidFill>
                <a:latin typeface="Arial"/>
              </a:rPr>
              <a:t>Путь на Голгоф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6" descr="42_1"/>
          <p:cNvPicPr/>
          <p:nvPr/>
        </p:nvPicPr>
        <p:blipFill>
          <a:blip r:embed="rId1"/>
          <a:stretch/>
        </p:blipFill>
        <p:spPr>
          <a:xfrm>
            <a:off x="1709640" y="1125360"/>
            <a:ext cx="49690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6" descr="1189071880golgofa"/>
          <p:cNvPicPr/>
          <p:nvPr/>
        </p:nvPicPr>
        <p:blipFill>
          <a:blip r:embed="rId1"/>
          <a:stretch/>
        </p:blipFill>
        <p:spPr>
          <a:xfrm>
            <a:off x="1062000" y="1197000"/>
            <a:ext cx="66247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Жертва Хрис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Ryblev30a"/>
          <p:cNvPicPr/>
          <p:nvPr/>
        </p:nvPicPr>
        <p:blipFill>
          <a:blip r:embed="rId1"/>
          <a:stretch/>
        </p:blipFill>
        <p:spPr>
          <a:xfrm>
            <a:off x="1751040" y="1905120"/>
            <a:ext cx="52498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Православный кре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krest_1[1]"/>
          <p:cNvPicPr/>
          <p:nvPr/>
        </p:nvPicPr>
        <p:blipFill>
          <a:blip r:embed="rId1"/>
          <a:stretch/>
        </p:blipFill>
        <p:spPr>
          <a:xfrm>
            <a:off x="2997360" y="1700280"/>
            <a:ext cx="309708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4360" y="259920"/>
            <a:ext cx="78739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Католический и православный крест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Содержимое 4" descr="1261389824_bezymyannyj.jpg"/>
          <p:cNvPicPr/>
          <p:nvPr/>
        </p:nvPicPr>
        <p:blipFill>
          <a:blip r:embed="rId1"/>
          <a:stretch/>
        </p:blipFill>
        <p:spPr>
          <a:xfrm>
            <a:off x="4946760" y="1285920"/>
            <a:ext cx="2857320" cy="49291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krest-b.gif"/>
          <p:cNvPicPr/>
          <p:nvPr/>
        </p:nvPicPr>
        <p:blipFill>
          <a:blip r:embed="rId2"/>
          <a:stretch/>
        </p:blipFill>
        <p:spPr>
          <a:xfrm>
            <a:off x="1015920" y="1285920"/>
            <a:ext cx="30718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4120" y="549000"/>
            <a:ext cx="78739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ahoma"/>
              </a:rPr>
              <a:t>7.Рефлекс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Вопросы и задания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1. Что означают слова воплощение, Богочеловек?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2. Для чего Бог стал человеком?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3. Объясни, почему крест, орудие пытки и свидетельство страданий Христа, стал символом самой Любви?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4. Рассмотри крест, объясни каждую составляющую его частей.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5. Как вы понимаете слова о пути из рассказа о линиях креста? О каком пути идёт речь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ahoma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7760" y="1905120"/>
            <a:ext cx="386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95" name="Picture 7" descr="Santa_Sofia_-_Crist_Pantocrator[2]"/>
          <p:cNvPicPr/>
          <p:nvPr/>
        </p:nvPicPr>
        <p:blipFill>
          <a:blip r:embed="rId1"/>
          <a:stretch/>
        </p:blipFill>
        <p:spPr>
          <a:xfrm>
            <a:off x="5079960" y="1905120"/>
            <a:ext cx="259560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WordArt 8"/>
          <p:cNvSpPr txBox="1"/>
          <p:nvPr/>
        </p:nvSpPr>
        <p:spPr>
          <a:xfrm>
            <a:off x="241200" y="2565360"/>
            <a:ext cx="44769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ристос и Его крес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ahoma"/>
              </a:rPr>
              <a:t>8.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Христос своей жизнью подал пример нашей жизни, а своей смертию разрушил власть ада, которая давлела над человечеств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ahoma"/>
              </a:rPr>
              <a:t>Цели и 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87160" y="2179440"/>
            <a:ext cx="745956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-Довести до сознания детей знания о том, как Бог стал челове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-Познакомить с символикой Кре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-Значение Креста в жизни православного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ahoma"/>
              </a:rPr>
              <a:t>Оборудов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Мультимедийная устан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Учеб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Иллюстрации: древнерусские иконы, икона «Распятие»,изображение православного креста, современные открытки, фотограф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ahoma"/>
              </a:rPr>
              <a:t>Ожидаемые результа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Сформировано представление как и для чего  Бог стал челове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Дети знают, почему крест, орудие пытки и свидетельство страданий Христа, стал символом самой Любв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Учащиеся имеют представление о символике Кре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8000" y="333000"/>
            <a:ext cx="78739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ahoma"/>
              </a:rPr>
              <a:t>Ход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1. Организационный мом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2. Актуализация зн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3. Целеполаг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Вы узнает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-Как Бог стал челове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-Почему Христос не уклонился от каз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-Символику кре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99"/>
                </a:solidFill>
                <a:uFillTx/>
                <a:latin typeface="Tahoma"/>
              </a:rPr>
              <a:t>4.Постановка проблемных вопрос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1.Где чаще всего видишь крес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Что он по твоему выража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2. Согласны ли вы  с тем, что самая большая жертва – жертвовать своей жизнью ради спасения люд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ahoma"/>
              </a:rPr>
              <a:t>5.Работа над новым материалом</a:t>
            </a: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cc"/>
                </a:solidFill>
                <a:uFillTx/>
                <a:latin typeface="Tahoma"/>
              </a:rPr>
              <a:t>Работа в группах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1 группа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Объяснить понятие Боговоплощ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2 групп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Голгофа. Зачем Христос умер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3 групп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Жертва Хри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4 групп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Православный крес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8120" y="291960"/>
            <a:ext cx="78739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99"/>
                </a:solidFill>
                <a:uFillTx/>
                <a:latin typeface="Tahoma"/>
              </a:rPr>
              <a:t>6.Работа в группах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8120" y="1905120"/>
            <a:ext cx="787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Знакомство с зада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Выполнение зад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Обсуждение в групп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Выступление представителей от каждой груп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0:59:07Z</dcterms:created>
  <dc:creator>school5</dc:creator>
  <dc:description/>
  <dc:language>en-US</dc:language>
  <cp:lastModifiedBy>люба</cp:lastModifiedBy>
  <dcterms:modified xsi:type="dcterms:W3CDTF">2012-05-27T18:58:12Z</dcterms:modified>
  <cp:revision>23</cp:revision>
  <dc:subject/>
  <dc:title>Проект урока  по модулю  « Основы православной культуры»</dc:title>
</cp:coreProperties>
</file>