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87487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41280" y="685440"/>
            <a:ext cx="4375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C22-990C-4563-9141-6366A2767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DBD9-3C7A-426D-A7D8-7AC580CB6F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41280" y="685800"/>
            <a:ext cx="4375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E46-E0A0-4F1C-A144-4D359F18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2BC-9FF6-4046-92F0-1B3CFA4F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3C3-4B50-4EA8-A8AF-F98E86FD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5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5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15F-8ACC-4DBC-B8F5-40DE7AB1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BFCD4-F85D-44B1-86A1-D7EBCC90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296EA-DD2D-4F5F-9BC6-359A506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EFBFD-CF27-456B-B6DD-25E2389C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263B9-B488-4D59-9871-5FB51E09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90A67-A230-46D8-B752-2384B3C0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8120" y="291960"/>
            <a:ext cx="7873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4142-4091-404E-A8E0-7AE343AD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C716-6433-4B11-885B-20EE9E9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8C1-434B-4DCB-AAA5-437798CA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43D92-53CC-4863-A639-60ADAFC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0B04B-AA77-451C-ADC2-37B6196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CEB7F-9CF5-434F-8377-CBF26FCA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6393-FC53-4B2B-B829-F158B09E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003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625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003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625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4F91-0EEF-487D-8E5A-5A5778E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222-E445-421F-BBFE-AAF643A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2A9-B8E8-4C86-8A95-E6337740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7FC-5C0E-4A42-9018-F4ACD369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91960"/>
            <a:ext cx="7873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A2C-4171-4F7B-BB09-D3D1A0C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841-7747-4CC7-8576-DE9661C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2E4-878A-42F4-952A-AA7F992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4D6-092A-453A-A98B-3D3D5B3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244920"/>
            <a:ext cx="276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37CC-239A-4922-80A1-992D2DE9D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72880" y="2803680"/>
            <a:ext cx="1800" cy="3035160"/>
          </a:xfrm>
          <a:custGeom>
            <a:avLst/>
            <a:gdLst>
              <a:gd name="textAreaLeft" fmla="*/ 0 w 1800"/>
              <a:gd name="textAreaRight" fmla="*/ 2160 w 180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989440" y="6244920"/>
            <a:ext cx="276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27012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B2E1-F94B-4EC1-A8B6-9A2CFF6F09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3776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91628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455760" y="1268280"/>
            <a:ext cx="78372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урока по модулю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сновы православной культуры"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-24300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оговоплощ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3" descr="75dbce5cad7972fa5f0ad43fe40[1]"/>
          <p:cNvPicPr/>
          <p:nvPr/>
        </p:nvPicPr>
        <p:blipFill>
          <a:blip r:embed="rId1"/>
          <a:stretch/>
        </p:blipFill>
        <p:spPr>
          <a:xfrm>
            <a:off x="2414520" y="981000"/>
            <a:ext cx="4132440" cy="56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b279[1]"/>
          <p:cNvPicPr/>
          <p:nvPr/>
        </p:nvPicPr>
        <p:blipFill>
          <a:blip r:embed="rId1"/>
          <a:stretch/>
        </p:blipFill>
        <p:spPr>
          <a:xfrm>
            <a:off x="1854360" y="333360"/>
            <a:ext cx="464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Голгофа. Зачем Христос уме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1[2]"/>
          <p:cNvPicPr/>
          <p:nvPr/>
        </p:nvPicPr>
        <p:blipFill>
          <a:blip r:embed="rId1"/>
          <a:stretch/>
        </p:blipFill>
        <p:spPr>
          <a:xfrm>
            <a:off x="868320" y="1905120"/>
            <a:ext cx="300024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[1]"/>
          <p:cNvPicPr/>
          <p:nvPr/>
        </p:nvPicPr>
        <p:blipFill>
          <a:blip r:embed="rId2"/>
          <a:stretch/>
        </p:blipFill>
        <p:spPr>
          <a:xfrm>
            <a:off x="4443480" y="2133720"/>
            <a:ext cx="3863880" cy="26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5286-20080123-jerusalem-holy-sepulchre-stairway-golgotha.jpg"/>
          <p:cNvPicPr/>
          <p:nvPr/>
        </p:nvPicPr>
        <p:blipFill>
          <a:blip r:embed="rId1"/>
          <a:stretch/>
        </p:blipFill>
        <p:spPr>
          <a:xfrm>
            <a:off x="444600" y="10000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0_4b9cc_82651fe7_XL.jpg"/>
          <p:cNvPicPr/>
          <p:nvPr/>
        </p:nvPicPr>
        <p:blipFill>
          <a:blip r:embed="rId2"/>
          <a:stretch/>
        </p:blipFill>
        <p:spPr>
          <a:xfrm>
            <a:off x="4803840" y="1000080"/>
            <a:ext cx="3106800" cy="41436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3013560" y="3571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aae"/>
                </a:solidFill>
                <a:latin typeface="Arial"/>
              </a:rPr>
              <a:t>Путь на Голгоф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42_1"/>
          <p:cNvPicPr/>
          <p:nvPr/>
        </p:nvPicPr>
        <p:blipFill>
          <a:blip r:embed="rId1"/>
          <a:stretch/>
        </p:blipFill>
        <p:spPr>
          <a:xfrm>
            <a:off x="1709640" y="1125360"/>
            <a:ext cx="4969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1189071880golgofa"/>
          <p:cNvPicPr/>
          <p:nvPr/>
        </p:nvPicPr>
        <p:blipFill>
          <a:blip r:embed="rId1"/>
          <a:stretch/>
        </p:blipFill>
        <p:spPr>
          <a:xfrm>
            <a:off x="1062000" y="1197000"/>
            <a:ext cx="6624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Жертва Хри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Ryblev30a"/>
          <p:cNvPicPr/>
          <p:nvPr/>
        </p:nvPicPr>
        <p:blipFill>
          <a:blip r:embed="rId1"/>
          <a:stretch/>
        </p:blipFill>
        <p:spPr>
          <a:xfrm>
            <a:off x="1751040" y="190512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Православный кре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krest_1[1]"/>
          <p:cNvPicPr/>
          <p:nvPr/>
        </p:nvPicPr>
        <p:blipFill>
          <a:blip r:embed="rId1"/>
          <a:stretch/>
        </p:blipFill>
        <p:spPr>
          <a:xfrm>
            <a:off x="2997360" y="1700280"/>
            <a:ext cx="309708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259920"/>
            <a:ext cx="7873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Католический и православный крест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Содержимое 4" descr="1261389824_bezymyannyj.jpg"/>
          <p:cNvPicPr/>
          <p:nvPr/>
        </p:nvPicPr>
        <p:blipFill>
          <a:blip r:embed="rId1"/>
          <a:stretch/>
        </p:blipFill>
        <p:spPr>
          <a:xfrm>
            <a:off x="4946760" y="1285920"/>
            <a:ext cx="2857320" cy="4929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krest-b.gif"/>
          <p:cNvPicPr/>
          <p:nvPr/>
        </p:nvPicPr>
        <p:blipFill>
          <a:blip r:embed="rId2"/>
          <a:stretch/>
        </p:blipFill>
        <p:spPr>
          <a:xfrm>
            <a:off x="1015920" y="1285920"/>
            <a:ext cx="3071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549000"/>
            <a:ext cx="7873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7.Рефлекс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Вопросы и задания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1. Что означают слова воплощение, Богочеловек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2. Для чего Бог стал человеком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3. Объясни, почему крест, орудие пытки и свидетельство страданий Христа, стал символом самой Любви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4. Рассмотри крест, объясни каждую составляющую его частей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5. Как вы понимаете слова о пути из рассказа о линиях креста? О каком пути идёт реч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7760" y="1905120"/>
            <a:ext cx="386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5" name="Picture 7" descr="Santa_Sofia_-_Crist_Pantocrator[2]"/>
          <p:cNvPicPr/>
          <p:nvPr/>
        </p:nvPicPr>
        <p:blipFill>
          <a:blip r:embed="rId1"/>
          <a:stretch/>
        </p:blipFill>
        <p:spPr>
          <a:xfrm>
            <a:off x="5079960" y="1905120"/>
            <a:ext cx="259560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241200" y="2565360"/>
            <a:ext cx="44769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истос и Его крес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8.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Христос своей жизнью подал пример нашей жизни, а своей смертию разрушил власть ада, которая давлела над человечест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7160" y="2179440"/>
            <a:ext cx="74595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Довести до сознания детей знания о том, как Бог стал челове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Познакомить с символикой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Значение Креста в жизни православного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Оборудов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Мультимедийная устан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Учеб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Иллюстрации: древнерусские иконы, икона «Распятие»,изображение православного креста, современные открытки, фотограф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Сформировано представление как и для чего  Бог стал челове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Дети знают, почему крест, орудие пытки и свидетельство страданий Христа, стал символом самой Люб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Учащиеся имеют представление о символике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8000" y="333000"/>
            <a:ext cx="7873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Ход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1. 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2. Актуализация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3. Целеполаг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 узнае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Как Бог стал челове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Почему Христос не уклонился от ка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Символику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4.Постановка проблемных вопрос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1.Где чаще всего видишь крес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Что он по твоему выраж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2. Согласны ли вы  с тем, что самая большая жертва – жертвовать своей жизнью ради спасения люд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5.Работа над новым материалом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cc"/>
                </a:solidFill>
                <a:uFillTx/>
                <a:latin typeface="Tahoma"/>
              </a:rPr>
              <a:t>Работа в группа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1 группа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Объяснить понятие Боговопло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2 груп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Голгофа. Зачем Христос уме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3 групп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Жертва Хри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4 груп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Православный кр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6.Работа в группах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Знакомство с зад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полнен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бсуждение в груп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ступление представителей от каждой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0:59:07Z</dcterms:created>
  <dc:creator>school5</dc:creator>
  <dc:description/>
  <dc:language>en-US</dc:language>
  <cp:lastModifiedBy>люба</cp:lastModifiedBy>
  <dcterms:modified xsi:type="dcterms:W3CDTF">2012-05-27T18:58:12Z</dcterms:modified>
  <cp:revision>23</cp:revision>
  <dc:subject/>
  <dc:title>Проект урока  по модулю  « Основы православной культуры»</dc:title>
</cp:coreProperties>
</file>