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4B43-6CFF-46A2-A72B-9DC4F1BB5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F0AE-84BE-46A9-A75B-92458832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8C1B-EDFB-41AF-A675-CCE8693C3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E4A2-3806-4B39-B433-463EA0ACD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3DE4-6BFA-4059-A773-6AC7B414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950E-AEE5-453F-8BEC-CC69DFD6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A71A-D3C3-496B-959B-278F2785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FA6B-0C92-4673-A2A1-A0CD1898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E75A-3ADF-40A5-80A7-83868351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CAF4-4780-49D8-9198-4927047E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A8E4-A2E7-4D93-B521-0B055E8C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2F02-3BF9-4926-B680-54294A68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BA95-54E5-472D-A7EB-E4889EC9D2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ектную работу по Сказкам Александра Сергеевича Пушкина выполнил ученик 3 класса Бердалиев Санж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35053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1447920" y="3429000"/>
            <a:ext cx="3657600" cy="3314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5181480" y="3352680"/>
            <a:ext cx="30481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1990800" cy="1809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7315200" y="1371600"/>
            <a:ext cx="167652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tretch/>
        </p:blipFill>
        <p:spPr>
          <a:xfrm>
            <a:off x="0" y="1752480"/>
            <a:ext cx="2286000" cy="1505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4"/>
          <a:stretch/>
        </p:blipFill>
        <p:spPr>
          <a:xfrm>
            <a:off x="4800600" y="1523880"/>
            <a:ext cx="2295360" cy="1667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казки Пушк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0"/>
          <p:cNvSpPr/>
          <p:nvPr/>
        </p:nvSpPr>
        <p:spPr>
          <a:xfrm>
            <a:off x="304920" y="3441600"/>
            <a:ext cx="80010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сский поэт А.С. Пушкин родился в Москве в 1799 году. Стояла хорошая летняя погода. Родители Пушкина происходили из знатных семей - дедушка мамы Пушкина был негр, а брат папы Пушкина - известный поэт, тоже Пушк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 Пушкин был маленьким, беды большой не было. Но вскоре Пушкин подрос и знал уже наизусть все французские стихи, которые только мог найти в библиотеке своего от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 Пушкина поняли, что ребенок у них одарен поэтическим талантом: они попросили дядю Пушкина, известного поэта Пушкина, что-нибудь придум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ядя Пушкина, известный поэт Пушкин, как раз ехал в Петербург. Он обратился к своему знакомому А.И. Тургеневу, чтоб тот пристроил племянника в Царскосельский Лиц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цей был не обычной школой, а чем-то особенным. Никто, правда, не знал, чем именно, но все понимали, что Лицей - это не гимназия какая-нибудь. В Лицее Пушкин подружился с Антоном Дельвигом, Иваном Пущиным и другими лицеистами. Вместе они шалили, сочиняли стихи и пили пунш. Пушкина в Лицее дразнили Французом, хотя он был русско-африканского происхо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 время случилась Отечественная война 1812 года. Наполеон вторгся в Россию, сжег Москву и вынужден был бежать. В 1815 году Отечественная война 1812 года закончилась. А вскоре Пушкин вышел из Лицея, окончив курс учебы. К этому времени он был уже известным поэтом. Его даже благословил поэт Державин, услыхавши стихотворение "Воспоминания в Царском Селе". Державин был уже старенький, но что к чему - поним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Ю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3657600" cy="2895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4495680" y="1600200"/>
            <a:ext cx="3886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2"/>
          <a:stretch/>
        </p:blipFill>
        <p:spPr>
          <a:xfrm>
            <a:off x="380880" y="4572000"/>
            <a:ext cx="3657600" cy="20574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10"/>
          <p:cNvSpPr/>
          <p:nvPr/>
        </p:nvSpPr>
        <p:spPr>
          <a:xfrm>
            <a:off x="5029200" y="1600200"/>
            <a:ext cx="3657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есть лет Пушкин провёл в Царскосельском лицее, открытом 19 октября 1811 года. Здесь юный поэт пережил события Отечественной войны 1812 года. Здесь впервые открылся и был высоко оценён его поэтический дар. Воспоминания о годах, проведённых в Лицее, о лицейском братстве навсегда остались в душе поэ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лод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5049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шкин поселился в Петербурге и начал вести вольнодумный образ жизни. В промежутках между писанием поэмы "Руслан и Людмила" Пушкин иногда приходил в театр и показывал там портреты известных террористов. Он также заразился дурной болезнью. Радикализм Пушкина стал известен властям. Его эпиграммы ходили по всей России. Царя он называл деспотом, а крепкого хозяйственника Аракчеева - холопом. Одновременно Пушкин дружил с героем Отечественной войны 1812 года Чаадаевым и писал замечательные стихи. Поэт Жуковский подарил Пушкину свой портр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704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0" y="2133720"/>
            <a:ext cx="1952640" cy="1695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1647720" cy="2057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4"/>
          <a:stretch/>
        </p:blipFill>
        <p:spPr>
          <a:xfrm>
            <a:off x="0" y="3886200"/>
            <a:ext cx="1533600" cy="1819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5"/>
          <a:stretch/>
        </p:blipFill>
        <p:spPr>
          <a:xfrm>
            <a:off x="1676520" y="4114800"/>
            <a:ext cx="2133360" cy="1552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6"/>
          <a:stretch/>
        </p:blipFill>
        <p:spPr>
          <a:xfrm>
            <a:off x="2057400" y="2133720"/>
            <a:ext cx="144792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9T11:18:02Z</dcterms:created>
  <dc:creator>школа</dc:creator>
  <dc:description/>
  <dc:language>en-US</dc:language>
  <cp:lastModifiedBy>1</cp:lastModifiedBy>
  <dcterms:modified xsi:type="dcterms:W3CDTF">2012-12-11T20:03:34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