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DE0-44F7-466A-BAC5-59978232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DE6-7D4A-408C-A3AD-FF174847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0C3-0239-4D5D-B218-E2E549FF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648-8CF6-42C4-84B9-E71A0A9E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AB0-08B5-4BF9-95FE-AB81A5E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02D-AA60-4D3B-8E5C-F94E88CA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65E-5FE1-49F2-A7F9-EFC1CFC2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12C-0711-4C24-9C46-5AD0EC4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6BE-DD7F-4406-BCD2-3EE62A4D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3EA-043A-40D1-BCDB-9A7DBA6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FB3-1222-400C-966B-D566B96D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A2F-04E0-4022-8883-9D0E0CEA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9CBA-BBDB-4846-9852-6646F8AD7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ную работу по Сказкам Александра Сергеевича Пушкина выполнил ученик 3 класса Бердалиев Санж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3657600" cy="331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304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1990800" cy="180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0" y="175248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2295360" cy="1667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и Пуш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304920" y="3441600"/>
            <a:ext cx="8001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й поэт А.С. Пушкин родился в Москве в 1799 году. Стояла хорошая летняя погода. Родители Пушкина происходили из знатных семей - дедушка мамы Пушкина был негр, а брат папы Пушкина - известный поэт, тоже Пушк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Пушкин был маленьким, беды большой не было. Но вскоре Пушкин подрос и знал уже наизусть все французские стихи, которые только мог найти в библиотеке своего от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Пушкина поняли, что ребенок у них одарен поэтическим талантом: они попросили дядю Пушкина, известного поэта Пушкина, что-нибудь приду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ядя Пушкина, известный поэт Пушкин, как раз ехал в Петербург. Он обратился к своему знакомому А.И. Тургеневу, чтоб тот пристроил племянника в Царскосельский Л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й был не обычной школой, а чем-то особенным. Никто, правда, не знал, чем именно, но все понимали, что Лицей - это не гимназия какая-нибудь. В Лицее Пушкин подружился с Антоном Дельвигом, Иваном Пущиным и другими лицеистами. Вместе они шалили, сочиняли стихи и пили пунш. Пушкина в Лицее дразнили Французом, хотя он был русско-африканского происх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время случилась Отечественная война 1812 года. Наполеон вторгся в Россию, сжег Москву и вынужден был бежать. В 1815 году Отечественная война 1812 года закончилась. А вскоре Пушкин вышел из Лицея, окончив курс учебы. К этому времени он был уже известным поэтом. Его даже благословил поэт Державин, услыхавши стихотворение "Воспоминания в Царском Селе". Державин был уже старенький, но что к чему - поним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4495680" y="1600200"/>
            <a:ext cx="3886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0"/>
          <p:cNvSpPr/>
          <p:nvPr/>
        </p:nvSpPr>
        <p:spPr>
          <a:xfrm>
            <a:off x="5029200" y="1600200"/>
            <a:ext cx="3657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ь лет Пушкин провёл в Царскосельском лицее, открытом 19 октября 1811 года. Здесь юный поэт пережил события Отечественной войны 1812 года. Здесь впервые открылся и был высоко оценён его поэтический дар. Воспоминания о годах, проведённых в Лицее, о лицейском братстве навсегда остались в душе 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049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 поселился в Петербурге и начал вести вольнодумный образ жизни. В промежутках между писанием поэмы "Руслан и Людмила" Пушкин иногда приходил в театр и показывал там портреты известных террористов. Он также заразился дурной болезнью. Радикализм Пушкина стал известен властям. Его эпиграммы ходили по всей России. Царя он называл деспотом, а крепкого хозяйственника Аракчеева - холопом. Одновременно Пушкин дружил с героем Отечественной войны 1812 года Чаадаевым и писал замечательные стихи. Поэт Жуковский подарил Пушкину свой портр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70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0" y="2133720"/>
            <a:ext cx="1952640" cy="169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6477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0" y="3886200"/>
            <a:ext cx="1533600" cy="181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1676520" y="4114800"/>
            <a:ext cx="2133360" cy="155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2057400" y="2133720"/>
            <a:ext cx="14479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1:18:02Z</dcterms:created>
  <dc:creator>школа</dc:creator>
  <dc:description/>
  <dc:language>en-US</dc:language>
  <cp:lastModifiedBy>1</cp:lastModifiedBy>
  <dcterms:modified xsi:type="dcterms:W3CDTF">2012-12-11T20:03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