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EBC-E3DB-4038-BA20-0F154AF5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A91-786B-41E5-9E59-6EEBFAA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30E-AB6B-4F25-B2F1-D11D4771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452-9175-46EE-B134-4BA302B0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F1C-2987-4E0C-8C74-24C58B3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083-2BBD-4805-945A-0D764956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D76-2C64-4DF6-929A-8532538D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3AE-CCC6-46FC-8855-859B5F8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5A2-645F-4D51-83C7-1BBF9F1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5B7-7F18-476F-8DBF-487EED4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B77-F470-47FB-8CEB-7E2A866D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201-6018-41A6-8E4A-AB6F6D4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0A7-4CA5-49EF-AEFD-2D13D5071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1"/>
          <a:stretch/>
        </p:blipFill>
        <p:spPr>
          <a:xfrm>
            <a:off x="281160" y="1590840"/>
            <a:ext cx="8654760" cy="148716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642960" y="357120"/>
            <a:ext cx="7772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- 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- ка. В городе четыре улицы: Одуванчиков, Мар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 - ка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 Город охраняет смелый щенок Буль - ка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 Жители городка лю - бят отдыхать на реке О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очном горо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айка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а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ка. Город охраняет смелый щено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ь - ка. В городе четыре у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ванчиков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кольчиков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льков. Ещё в го - роде есть 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шек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и городка лю -бят отдыхать на рек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знайка, Знайка и Пуль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род охраняет смелый щено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ль - 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городе четыре улицы: Одуванчиков, Мар - гарито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ов и Васильков. Ещё в го - роде есть аллея Ромашек. Жители городка лю - бят отдыхать на реке Огурц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4643280" y="2071800"/>
            <a:ext cx="1071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4643280" y="2143080"/>
            <a:ext cx="1071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3500280" y="2571840"/>
            <a:ext cx="1428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>
            <a:off x="3500280" y="2643120"/>
            <a:ext cx="1428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1600200"/>
            <a:ext cx="8929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15  упр. 248, правило с. 11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1 упр. 248, правило с. 12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     упр. 248, правило с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кие имена существительные пишутся с заглавной бук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32_0.tmp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14240" y="1857240"/>
            <a:ext cx="1789200" cy="2000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14240" y="4357800"/>
            <a:ext cx="167652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3500280" y="2000160"/>
            <a:ext cx="15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3500280" y="4357800"/>
            <a:ext cx="1467000" cy="15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6072120" y="2071800"/>
            <a:ext cx="1552680" cy="159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6">
            <a:lum contrast="40000"/>
          </a:blip>
          <a:stretch/>
        </p:blipFill>
        <p:spPr>
          <a:xfrm>
            <a:off x="6072120" y="4143240"/>
            <a:ext cx="1952640" cy="177192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143000" y="37861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1143000" y="614376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643200" y="37861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3571920" y="592920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6286680" y="35719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6429240" y="5857920"/>
            <a:ext cx="1643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, фамилии люд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ки живот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планет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кие имена существительные пишутся с заглавной бук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П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С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С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П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шёл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ёж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ча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рёж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21436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ь под вечер с поля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а серёжку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я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 серёжку на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ё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ёжк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ежал посту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в окошко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ыскалась твоя серёжка!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7895_0.tmp"/>
          <p:cNvPicPr/>
          <p:nvPr/>
        </p:nvPicPr>
        <p:blipFill>
          <a:blip r:embed="rId1"/>
          <a:stretch/>
        </p:blipFill>
        <p:spPr>
          <a:xfrm>
            <a:off x="39600" y="214200"/>
            <a:ext cx="9086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веточном городе живут Незнайка, Знайка и Пуль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веточный гор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9:02:29Z</dcterms:created>
  <dc:creator>User</dc:creator>
  <dc:description/>
  <dc:language>en-US</dc:language>
  <cp:lastModifiedBy>User</cp:lastModifiedBy>
  <dcterms:modified xsi:type="dcterms:W3CDTF">2009-01-21T10:14:03Z</dcterms:modified>
  <cp:revision>7</cp:revision>
  <dc:subject/>
  <dc:title>Слайд 1</dc:title>
</cp:coreProperties>
</file>