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6BE-DC7A-4476-BFA2-A7A01470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36A-DE07-4196-A58C-BC49BE23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369-94C4-49B5-8AB8-59CFF9CB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FD2-9DFC-413B-96DC-D34C258E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47C-3293-4E59-9BDE-EF681145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7F7-A491-47E1-A63D-587D6929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3B1-F41A-4313-86CE-11C153D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FFE-6D5E-46CF-A7D8-AF6C934B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6E2-8379-4CD7-86A4-85826001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5FC-12E8-498A-9476-BCC5777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388-8128-4844-9C95-C8619B5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5C2-D765-4D2C-B02B-A814FA0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4863-5151-45B8-88E9-3FFC738FE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дзаголовок 2" descr=""/>
          <p:cNvPicPr/>
          <p:nvPr/>
        </p:nvPicPr>
        <p:blipFill>
          <a:blip r:embed="rId1"/>
          <a:stretch/>
        </p:blipFill>
        <p:spPr>
          <a:xfrm>
            <a:off x="281160" y="1590840"/>
            <a:ext cx="8654760" cy="148716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642960" y="357120"/>
            <a:ext cx="7772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ловарная рабо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 Город охраняет смелый щенок Буль- 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 Город охраняет смелый щенок Буль- ка. В городе четыре улицы: Одуванчиков, Мар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ов и Василь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 Город охраняет смелый щенок Буль - ка. В городе четыре улицы: Одуванчиков, Мар 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ов и Васильков. Ещё в го - роде есть аллея Рома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 Город охраняет смелый щенок Буль - ка. В городе четыре улицы: Одуванчиков, Мар 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ов и Васильков. Ещё в го - роде есть аллея Ромашек. Жители городка лю - бят отдыхать на реке Огурцо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очном город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найка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ка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ька. Город охраняет смелый щено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ь - ка. В городе четыре у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ванчиков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 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кольчиков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льков. Ещё в го - роде есть 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ашек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и городка лю -бят отдыхать на рек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цо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знайка, Знайка и Пуль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род охраняет смелый щено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ль - 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городе четыре улицы: Одуванчиков, Мар 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ов и Васильков. Ещё в го - роде есть аллея Ромашек. Жители городка лю - бят отдыхать на реке Огурцо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5"/>
          <p:cNvSpPr/>
          <p:nvPr/>
        </p:nvSpPr>
        <p:spPr>
          <a:xfrm>
            <a:off x="4643280" y="2071800"/>
            <a:ext cx="1071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7"/>
          <p:cNvSpPr/>
          <p:nvPr/>
        </p:nvSpPr>
        <p:spPr>
          <a:xfrm>
            <a:off x="4643280" y="2143080"/>
            <a:ext cx="1071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9"/>
          <p:cNvSpPr/>
          <p:nvPr/>
        </p:nvSpPr>
        <p:spPr>
          <a:xfrm>
            <a:off x="3500280" y="2571840"/>
            <a:ext cx="1428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11"/>
          <p:cNvSpPr/>
          <p:nvPr/>
        </p:nvSpPr>
        <p:spPr>
          <a:xfrm>
            <a:off x="3500280" y="2643120"/>
            <a:ext cx="1428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840" y="1600200"/>
            <a:ext cx="8929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15  упр. 248, правило с. 11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21 упр. 248, правило с. 125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     упр. 248, правило с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акие имена существительные пишутся с заглавной бук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32_0.tmp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14240" y="1857240"/>
            <a:ext cx="1789200" cy="200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14240" y="4357800"/>
            <a:ext cx="1676520" cy="181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3500280" y="2000160"/>
            <a:ext cx="15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3500280" y="4357800"/>
            <a:ext cx="1467000" cy="154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6072120" y="2071800"/>
            <a:ext cx="1552680" cy="159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6">
            <a:lum contrast="40000"/>
          </a:blip>
          <a:stretch/>
        </p:blipFill>
        <p:spPr>
          <a:xfrm>
            <a:off x="6072120" y="4143240"/>
            <a:ext cx="1952640" cy="177192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1143000" y="378612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1143000" y="614376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3643200" y="378612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3571920" y="592920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6286680" y="357192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2"/>
          <p:cNvSpPr/>
          <p:nvPr/>
        </p:nvSpPr>
        <p:spPr>
          <a:xfrm>
            <a:off x="6429240" y="585792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, фамилии люде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чки животны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планет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акие имена существительные пишутся с заглавной бук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21436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ясь под вечер с поля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а серёжку Поля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 серёжку нашёл Серёжк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 постучал в окошко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ыскалась твоя серёжка!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21436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ясь под вечер с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я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а серёжку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я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 серёжку нашёл Серёжк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 постучал в окошко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ыскалась твоя серёжка!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221436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ясь под вечер с поля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а серёжку Поля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 серёжку нашёл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ёж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 постучал в окошко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ыскалась твоя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ёж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21436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ь под вечер с поля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а серёжку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я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 серёжку на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ёжк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 посту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в окошко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ыскалась твоя серёжка!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7895_0.tmp"/>
          <p:cNvPicPr/>
          <p:nvPr/>
        </p:nvPicPr>
        <p:blipFill>
          <a:blip r:embed="rId1"/>
          <a:stretch/>
        </p:blipFill>
        <p:spPr>
          <a:xfrm>
            <a:off x="39600" y="214200"/>
            <a:ext cx="90867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9:02:29Z</dcterms:created>
  <dc:creator>User</dc:creator>
  <dc:description/>
  <dc:language>en-US</dc:language>
  <cp:lastModifiedBy>User</cp:lastModifiedBy>
  <dcterms:modified xsi:type="dcterms:W3CDTF">2009-01-21T10:14:03Z</dcterms:modified>
  <cp:revision>7</cp:revision>
  <dc:subject/>
  <dc:title>Слайд 1</dc:title>
</cp:coreProperties>
</file>