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7BA-CCEC-4158-8D3B-4BB47F8B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F46-3E4D-4D6D-886B-B54F9DE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BE3-C33E-4079-83AF-96DDE0B9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AAC-7C8C-44FE-94C1-B379E75D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34E-3268-41DB-B122-D0824F66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977-5405-4338-BE61-DB20780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1B8-D430-44E5-9376-FA056551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294-442B-410C-ACAF-BDD1436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3A7-A743-4FDD-B84A-4E180198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230-05EF-4ADC-9520-EECA4145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23E-08CB-4F36-A5C7-857B9CF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36F-FD06-4065-AE59-3C8E9D4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D3C-A004-432A-96D9-7F89D7D40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8196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57200"/>
            <a:ext cx="5334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ятитель Земли Русск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9552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80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вышел из кельи в сени. Там осиял его необычайный свет, и в сиянии его он увидел Пресвятую Богородицу с двумя апостолами Петром и Иоан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40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Сергий дожил до семидесяти восьми лет, проведя всю свою жизнь в великом воздержании и трудах и совершив много чуд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73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304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чувствуя свою кончину, он призвал к себе иноков и много поучал их: "Внимайте себе, братие. Прежде имейте страх Божий, чистоту душевную и любовь нелицемерну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, преподав им благословение и прощение, он причастился Пречистых Христовых Тайн и предал святую душу свою в руки Божии. Это было 25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65360" y="1828800"/>
            <a:ext cx="366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рез тридцать лет после погребения, а именно 5 июля 1422 года, были обретены нетленными честные его мощи, от коих исходило неизреченное благоухание и много больных получало исцел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237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ято-Троице-Сергиева Лавра, г. Сергиев-По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765600" cy="472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4572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мять его 5 (18) июля и 25 сентября (8 октяб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22840" cy="449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09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ок помолился, благословил его и сказал: «Отныне, чадо, да даст тебе Бог понять все, что нужно для тебя, чтобы ты мог потом и других научить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370320" cy="419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арфоломей принял пострижение в монашество с именем Сергий, имея от роду 2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5284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6094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Сергий, придя в пустыню, не без намерения поселился вдали от воды, а ради умножения труда, чтобы ношением воды утруждать свое т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9816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личные чудеса, совершаемые Преподобным, прославили его. Князья, бояре и люди простые из разных городов и стран во множестве приходили к Преподобному для того, чтобы только увидеть его и насладиться беседой с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19572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зглянув в окно, он увидел необыкновенно большой свет, идущий с Неба, так что ночь казалась ему светлее дня, и вторично услышал голос, который говорил ему: «Сергий, ты молишься о чадах твоих, и молитва твоя услыша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308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380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ятой Митрополит Алексий, находясь уже в преклонных летах и чувствуя приближение своей смерти, призвал к себе Преподобного Сер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343400" cy="311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3049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подобный в то время, когда происходила решительная битва русских с татарами, стоял на молитве в своей обители вместе с иноками и, будучи прозорлив, сказал им, что Великий Князь Димитрий уже победил татар и, назвав по имени всех павших на поле брани воинов, совершил о них моли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5:36:40Z</dcterms:created>
  <dc:creator>1</dc:creator>
  <dc:description/>
  <dc:language>en-US</dc:language>
  <cp:lastModifiedBy>1</cp:lastModifiedBy>
  <dcterms:modified xsi:type="dcterms:W3CDTF">2012-12-12T16:51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