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5CD-7B61-4D62-AABF-8D5C71FA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426-CC48-4032-BF38-8B066E4A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694-F094-4A21-85A3-51E6E5AA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191-4E3E-43B8-A98F-3E9028A8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609-2218-4EFB-BBEC-07EAD139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43C-D778-4080-A264-57C40B1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D7F-8C3E-43EB-96D8-424FC1AA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BD2-6CAC-44C7-BD0A-43375561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E56-3C03-41C5-8174-34ECB35B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E0A-E934-4389-8ABC-528E505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296-5F4A-45D6-BA62-5D2E80B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3E8-FE54-425B-9769-732AA13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79D1-18A0-4403-8F18-CE7D83851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8196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457200"/>
            <a:ext cx="5334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ПОДОБНЫЙ СЕРГИЙ РАДОНЕ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вятитель Земли Русск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39552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808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подобный вышел из кельи в сени. Там осиял его необычайный свет, и в сиянии его он увидел Пресвятую Богородицу с двумя апостолами Петром и Иоан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029200" cy="40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подобный Сергий дожил до семидесяти восьми лет, проведя всю свою жизнь в великом воздержании и трудах и совершив много чуд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05520" cy="373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304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чувствуя свою кончину, он призвал к себе иноков и много поучал их: "Внимайте себе, братие. Прежде имейте страх Божий, чистоту душевную и любовь нелицемерную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, преподав им благословение и прощение, он причастился Пречистых Христовых Тайн и предал святую душу свою в руки Божии. Это было 25 сентя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65360" y="1828800"/>
            <a:ext cx="3667320" cy="449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049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рез тридцать лет после погребения, а именно 5 июля 1422 года, были обретены нетленными честные его мощи, от коих исходило неизреченное благоухание и много больных получало исцел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4237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380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вято-Троице-Сергиева Лавра, г. Сергиев-По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765600" cy="472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4572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амять его 5 (18) июля и 25 сентября (8 октябр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22840" cy="4496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09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ок помолился, благословил его и сказал: «Отныне, чадо, да даст тебе Бог понять все, что нужно для тебя, чтобы ты мог потом и других научить.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370320" cy="4190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арфоломей принял пострижение в монашество с именем Сергий, имея от роду 2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5284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6094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подобный Сергий, придя в пустыню, не без намерения поселился вдали от воды, а ради умножения труда, чтобы ношением воды утруждать свое т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9816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зличные чудеса, совершаемые Преподобным, прославили его. Князья, бояре и люди простые из разных городов и стран во множестве приходили к Преподобному для того, чтобы только увидеть его и насладиться беседой с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19572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зглянув в окно, он увидел необыкновенно большой свет, идущий с Неба, так что ночь казалась ему светлее дня, и вторично услышал голос, который говорил ему: «Сергий, ты молишься о чадах твоих, и молитва твоя услыша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308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3808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вятой Митрополит Алексий, находясь уже в преклонных летах и чувствуя приближение своей смерти, призвал к себе Преподобного Сер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343400" cy="3110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30492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подобный в то время, когда происходила решительная битва русских с татарами, стоял на молитве в своей обители вместе с иноками и, будучи прозорлив, сказал им, что Великий Князь Димитрий уже победил татар и, назвав по имени всех павших на поле брани воинов, совершил о них молит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5:36:40Z</dcterms:created>
  <dc:creator>1</dc:creator>
  <dc:description/>
  <dc:language>en-US</dc:language>
  <cp:lastModifiedBy>1</cp:lastModifiedBy>
  <dcterms:modified xsi:type="dcterms:W3CDTF">2012-12-12T16:51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