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3C5-9127-429F-A8CE-39A8FB63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F48-DF12-4947-B8F6-152B622B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F0EC-527B-4F44-A8C5-A3968283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FA6A-499A-42F0-9BBE-B990EC88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490C-332B-4D63-827D-10E49C53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C458-E2A5-4C32-8F04-B66DB64E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A8F7-596A-4F6C-BC7F-BF21DDFF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3B7B-DD2F-4AD1-A514-0E9A18FE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90D8-C23B-4D4A-979E-F5B87435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BBBF-DA80-4D77-A027-0A4C9F7D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FAE4-6BD7-4273-BC12-005A94D9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21F-C9E4-45B7-9735-9AE0ED2A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3172-8755-41F4-BF38-6D87AB6F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8DBF-4541-487D-9018-280CCB64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1C5B-EE1E-49C9-8CFE-95D738BD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DB68-6FD0-452F-9CA1-73025858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C3D0-5651-4EFF-9784-F97BF5EA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C6E3-EBD0-4A47-B20F-C2A4B90E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C8F8-9806-4820-B19C-C4446B43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51A3-426F-4832-AD87-BB7DDB69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A8D8-1673-4F62-8CA6-2BF5FC56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366-16F9-445E-A554-6E56306A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F31-EE5D-42A5-A3A3-254FF0A1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6939-8D77-4A35-9539-40925CF5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8DEE-9532-454F-B6B0-56A4960F94B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C14D-DB3A-45A6-99DF-75CB24FF8A4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5688000" cy="7174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ISE OF THE TEENAGER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1960s saw the birth of the (0)   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life was never the same again. It was the start of a social revolution in Britain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revolution was partly a (1) 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the post war year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ng people woke up to the idea that that they could have an (2) 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lifestyle (3) 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om their parent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enagers started to break free from the traditions and rules of previous generations in fashion, lifestyle and (4) _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ey wanted their own music, clothes and (5)_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o their own thing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Rolling Stones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ere a symbol of teenage (6) _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bbing became popular. The most (7) 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lub w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Go 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Newcastle with Jimi Hendrix*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Animals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Anima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nt on to achieve (8) 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uccess with hits like 'House of the Rising Sun' and 'We've Gotta Get out of this Place'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9) 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ulture had become a (10) 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ce, and the teenager was to dominate popular culture for the next three decades.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3280" y="549000"/>
            <a:ext cx="4194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0) tee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re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identif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 behav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) fre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) r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7) f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8) 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9) young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0)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455148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4502880" y="33336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ee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4357800" y="9079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3348000" y="1700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332000" y="1916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3544920" y="25844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1258920" y="342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rebe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1239840" y="299736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1117800" y="386064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fam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4768200" y="43131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inter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1258920" y="494172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971640" y="522936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ower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29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Презентация по словообразованию 9 класс</a:t>
            </a:r>
            <a:br>
              <a:rPr sz="5000"/>
            </a:b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УМК  Афанасьевой О.В.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  Гопак Галина Пет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Федоровская сош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ргутский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05:57:07Z</dcterms:created>
  <dc:creator>ПК1</dc:creator>
  <dc:description/>
  <dc:language>en-US</dc:language>
  <cp:lastModifiedBy>Пользователь</cp:lastModifiedBy>
  <dcterms:modified xsi:type="dcterms:W3CDTF">2012-12-12T14:17:45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