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AF1F-B183-4C77-8334-0AF4C99B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5AA6-1EBE-4017-9E9E-B892962F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D230-1ADF-4280-950D-4F6BECF5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B54F-5E28-4629-87B9-BC509570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F6C3-EDEE-4C3E-A21A-D2D2912D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F12F-3FA3-41D7-A7C3-FF3487B9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F6DE-3ADB-4580-BD1E-91929500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C041-F32C-4FA2-A97C-94CE2F37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8AD5-E39E-4276-98B1-02C700D1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FC47-BA47-4B87-A06A-C155D711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E6EA-C528-4B35-9620-3D5256F3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FDEF-A5D5-4A91-837C-72572D68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EF62-A796-4975-A871-35EAD765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13B6-65C5-4BC6-BE0C-6F7E5C1A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3DAA-3813-4FF1-8056-5726FCD9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6258-B18D-4CC7-B8C6-03CFFA5B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2CB0-C0ED-4889-88F5-5949ECD0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6A50-9CC6-409B-BCDF-ECEAFB97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2757-A267-41D1-AA28-91F9F758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6FB2-3F16-4AAD-9DB3-3817F8C7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60BF-8F28-4BA4-9905-DBF3498A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056C-D1ED-4C8C-9F3F-6FD0F1BC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EDF4-7B93-439F-A23E-3E0ABD8E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29D9-D77A-4D29-8EB5-ACEFDC11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5008-E8DB-4E94-B38D-F05348C388F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293A-D82B-432D-8AD5-00B86691F4E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5688000" cy="7174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ISE OF THE TEENAGER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1960s saw the birth of the (0)   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life was never the same again. It was the start of a social revolution in Britain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revolution was partly a (1) 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the post war year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ng people woke up to the idea that that they could have an (2) 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lifestyle (3) 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rom their parent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enagers started to break free from the traditions and rules of previous generations in fashion, lifestyle and (4) _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ey wanted their own music, clothes and (5)_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o their own thing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Rolling Stones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ere a symbol of teenage (6) _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bbing became popular. The most (7) 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lub w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Go G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Newcastle with Jimi Hendrix*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Animals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Anima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nt on to achieve (8) 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uccess with hits like 'House of the Rising Sun' and 'We've Gotta Get out of this Place'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9) 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ulture had become a (10) 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ce, and the teenager was to dominate popular culture for the next three decades.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3280" y="549000"/>
            <a:ext cx="41943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0) tee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re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identif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 behav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) fre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) r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7) f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8) 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9) young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0) p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455148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4502880" y="33336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tee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4357800" y="90792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3348000" y="1700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id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1332000" y="1916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3544920" y="258444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1258920" y="342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rebe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1239840" y="299736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1117800" y="386064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fam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4768200" y="431316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inter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1258920" y="494172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971640" y="522936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ower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29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Презентация по словообразованию 9 класс</a:t>
            </a:r>
            <a:br>
              <a:rPr sz="5000"/>
            </a:b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УМК  Афанасьевой О.В.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  Гопак Галина Пет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 Федоровская сош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ргутский рай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05:57:07Z</dcterms:created>
  <dc:creator>ПК1</dc:creator>
  <dc:description/>
  <dc:language>en-US</dc:language>
  <cp:lastModifiedBy>Пользователь</cp:lastModifiedBy>
  <dcterms:modified xsi:type="dcterms:W3CDTF">2012-12-12T14:17:45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