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1E3AB-9B08-4455-BF41-225789266CC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74FD1-2397-44E2-99B8-495BEA18774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50905-0161-415B-851C-D17D623082C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63E61-2763-4BB2-B0CD-8FA58210C2D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526D-73FF-4937-9F10-9D4E3C6C5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76AA-9278-4A6D-9C44-FE321B9A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FB9C-7AA2-4D70-B00F-9DDA0ACC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83D2-FA84-473F-852D-7A9457972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6096-A3BA-4108-A9E9-0AC6ECCC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F9BB-367F-406A-88C2-2FB89432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FFC4-3111-45B2-A0E5-3ED8F9D2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E4FE-13EB-4D0A-940A-F17C88CB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84DA-BD1F-4E4C-A920-BCDFF179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04F9-AD51-4E58-A610-3D871890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F900-0EF3-4188-8A6A-CEC75C5A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957B-F2C8-46C3-A141-7883D344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13D484F-9CA4-4415-9823-ED952EB1CCB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1397160" y="565200"/>
            <a:ext cx="5357520" cy="19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екст по чтению для 1 класс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6365880" y="5351400"/>
            <a:ext cx="371484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читель начальных классов МБОУ гимназии Чижова И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етающая  лягуш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6360" y="1136520"/>
            <a:ext cx="9176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-31536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 далёких южных лесах  живут  летающие  лягушки.  У них на  лапках  широкие  пере-понки.  Перепонки  помогают  лягушкам  перелетать  с дере-ва  на  дерев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6360" y="636480"/>
            <a:ext cx="9247320" cy="606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-33948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. Где  можно  встретить летающую  лягушк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Что помогает лягушке лета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 Куда летают летающие лягушк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3" descr="0_68f71_df1c7f50_XL.jp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Содержимое 4" descr="1.jp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Содержимое 4" descr="4.jpg"/>
          <p:cNvPicPr/>
          <p:nvPr/>
        </p:nvPicPr>
        <p:blipFill>
          <a:blip r:embed="rId1"/>
          <a:stretch/>
        </p:blipFill>
        <p:spPr>
          <a:xfrm>
            <a:off x="0" y="0"/>
            <a:ext cx="1018548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Содержимое 4" descr="015.jp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Содержимое 4" descr="Rhacophorus_reinwardtii.jp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Содержимое 4" descr="1278538139_5.jp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0:41:27Z</dcterms:created>
  <dc:creator/>
  <dc:description/>
  <dc:language>en-US</dc:language>
  <cp:lastModifiedBy>Admin</cp:lastModifiedBy>
  <dcterms:modified xsi:type="dcterms:W3CDTF">2012-12-11T19:45:37Z</dcterms:modified>
  <cp:revision>6</cp:revision>
  <dc:subject/>
  <dc:title>Слайд 1</dc:title>
</cp:coreProperties>
</file>