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85B73-F54C-43F5-9EE3-B060C9725F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E7DFA-4E55-44F7-9BB6-5288931EFA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F81F4-000A-4258-B6B8-E7ECA950B0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FBF0F-2F66-4F2A-85C1-21297D55CC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1A4-45B3-41CD-B36E-46F7EAB6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51E5-BBAB-484E-A64C-0FDE86E1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1A1-E1F6-4DC0-9FF3-AB769CB1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17B2-0CE2-407C-A8AB-50F78DE9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A34B-3761-4B86-91F8-601DF792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3ED-19AE-4616-A819-95A59425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B905-96D1-488D-907E-8FC69EB2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7DD-E464-49BC-85E1-831DE504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8AF8-FD34-4E32-AEB5-B8719394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8DF6-C1C0-4A40-96A7-95365C3F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A0D-A1C3-44F5-9761-FEEAF03E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D8D-6CCD-4A67-B34C-8C5AD5A8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BBF386-26F6-4806-8F13-44E5BFDA6B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1397160" y="565200"/>
            <a:ext cx="5357520" cy="19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екст по чтению для 1 клас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6365880" y="5351400"/>
            <a:ext cx="371484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 МБОУ гимназии Чижова И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тающая  лягуш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6360" y="1136520"/>
            <a:ext cx="9176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-31536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 далёких южных лесах  живут  летающие  лягушки.  У них на  лапках  широкие  пере-понки.  Перепонки  помогают  лягушкам  перелетать  с дере-ва  на  дере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6360" y="636480"/>
            <a:ext cx="9247320" cy="606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-3394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Где  можно  встретить летающую  лягуш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Что помогает лягушке лет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Куда летают летающие лягуш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0_68f71_df1c7f50_XL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4" descr="1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4" descr="4.jpg"/>
          <p:cNvPicPr/>
          <p:nvPr/>
        </p:nvPicPr>
        <p:blipFill>
          <a:blip r:embed="rId1"/>
          <a:stretch/>
        </p:blipFill>
        <p:spPr>
          <a:xfrm>
            <a:off x="0" y="0"/>
            <a:ext cx="1018548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Содержимое 4" descr="015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4" descr="Rhacophorus_reinwardtii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4" descr="1278538139_5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0:41:27Z</dcterms:created>
  <dc:creator/>
  <dc:description/>
  <dc:language>en-US</dc:language>
  <cp:lastModifiedBy>Admin</cp:lastModifiedBy>
  <dcterms:modified xsi:type="dcterms:W3CDTF">2012-12-11T19:45:37Z</dcterms:modified>
  <cp:revision>6</cp:revision>
  <dc:subject/>
  <dc:title>Слайд 1</dc:title>
</cp:coreProperties>
</file>