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D12AD-B6F7-41E2-8A8D-0EDDB1F79F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312BA-FE22-45E2-A163-726EB23D2E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D79A3-0C5D-4E54-AD75-02EFD6E934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26C7B-69C1-4DE1-8652-407FC4B9C9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969-9C59-450A-8A2F-82B12B10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B71-1532-4CB9-8425-9A0B55A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C1D-BAB7-4AEB-B9E1-DC22E96B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BDA-6E21-4645-87B0-FC903DAB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D95-EDB2-4BA4-B694-C2B8A50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2FC-006D-4526-B66D-60876C93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409-2E0F-4547-8F4E-C998CE1B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2A1-8E1E-4F37-B9AE-F63C5199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495-277A-438C-9E30-7EB182A4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0DE-BAE2-4DC2-ACBA-58715E12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3F2-4FDD-4B91-A304-F54A602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3B0-6339-4C7F-9AB2-DA092FCE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340133-C874-4C3D-8986-F9B9F7CA83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397160" y="565200"/>
            <a:ext cx="535752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кст по чтению для 1 клас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йч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6365880" y="5351400"/>
            <a:ext cx="3714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 гимназии Чиж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йч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нней  весной  родились маленькие  зайчата.  Ласково  пригревает  солныш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пеливо  ждут  зайчата свою  м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360" y="707760"/>
            <a:ext cx="92473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радовались теплу, высуну-лись из гнезда.  Хорошо спря-тались  они  в  сухой траве.  Здесь  их  не  найдёт  хищная рысь, не  увидит  хитрая  лис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да у зайцев появляется потом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ждут зайчата свою м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 кого прячутся зайча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Documents and Settings\Admin\Рабочий стол\картинки\Зайчпк.jpg"/>
          <p:cNvPicPr/>
          <p:nvPr/>
        </p:nvPicPr>
        <p:blipFill>
          <a:blip r:embed="rId1"/>
          <a:stretch/>
        </p:blipFill>
        <p:spPr>
          <a:xfrm>
            <a:off x="1897200" y="279360"/>
            <a:ext cx="577368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Admin\Рабочий стол\картинки\Заяц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/>
  <dc:description/>
  <dc:language>en-US</dc:language>
  <cp:lastModifiedBy>Teaher</cp:lastModifiedBy>
  <dcterms:modified xsi:type="dcterms:W3CDTF">2012-10-19T03:48:26Z</dcterms:modified>
  <cp:revision>5</cp:revision>
  <dc:subject/>
  <dc:title>Слайд 1</dc:title>
</cp:coreProperties>
</file>