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A9C81-FA53-49D1-B6FB-EAA288BADE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237C-5583-473A-8DBE-350A65AE4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68088-A835-42A9-9F65-A58098A66D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9FBD2-4643-4735-A8B0-A8C0C822F5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B20-60A2-40AB-9698-0381863A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32B-01CB-40C3-8860-8732707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90F-5565-462D-9F38-134E5C59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B21-F69A-438F-B1A9-22146F29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C1E-CD73-4AE3-B6C9-6F2E63A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AE2-9515-4E78-9D1E-E163A26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B03-9152-485F-B3C4-188776C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4D1-D50C-47F1-A231-FAEC6DBE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9AB-B044-43E6-B8EF-3EFCA3E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D16-569D-4B26-B18F-8369141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74A-659E-474F-A553-406D0D75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BC9-B971-4345-A95A-D171638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C28D27-D337-4289-AD17-0794EDEAF3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97160" y="565200"/>
            <a:ext cx="53575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для 1 кла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йч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365880" y="5351400"/>
            <a:ext cx="3714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гимназии Чиж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йч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нней  весной  родились маленькие  зайчата.  Ласково  пригревает  солныш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пеливо  ждут  зайчата свою  м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360" y="707760"/>
            <a:ext cx="92473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довались теплу, высуну-лись из гнезда.  Хорошо спря-тались  они  в  сухой траве.  Здесь  их  не  найдёт  хищная рысь, не  увидит  хитрая  лис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 у зайцев появляется потом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ждут зайчата свою м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кого прячутся зайча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Admin\Рабочий стол\картинки\Зайчпк.jpg"/>
          <p:cNvPicPr/>
          <p:nvPr/>
        </p:nvPicPr>
        <p:blipFill>
          <a:blip r:embed="rId1"/>
          <a:stretch/>
        </p:blipFill>
        <p:spPr>
          <a:xfrm>
            <a:off x="1897200" y="279360"/>
            <a:ext cx="577368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Admin\Рабочий стол\картинки\Заяц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Teaher</cp:lastModifiedBy>
  <dcterms:modified xsi:type="dcterms:W3CDTF">2012-10-19T03:48:26Z</dcterms:modified>
  <cp:revision>5</cp:revision>
  <dc:subject/>
  <dc:title>Слайд 1</dc:title>
</cp:coreProperties>
</file>