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8.jpeg" ContentType="image/jpeg"/>
  <Override PartName="/ppt/media/image34.jpeg" ContentType="image/jpeg"/>
  <Override PartName="/ppt/media/image15.gif" ContentType="image/gif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7.jpeg" ContentType="image/jpeg"/>
  <Override PartName="/ppt/media/image1.wmf" ContentType="image/x-wmf"/>
  <Override PartName="/ppt/media/image16.gif" ContentType="image/gif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F125-A911-43CB-B74D-597D5DBE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FAD04-10AF-4C6E-B696-0BF53DC7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1B7F-CF59-419B-BFBB-5994346C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6EE4-F6C2-44DA-9EB9-A7DE7422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D72D-9292-4936-B276-CE160A20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811B-A224-46C2-8B84-91BABEDA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E7B5-1F6A-414C-AE63-E483549E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393C-A58B-4592-867B-DC2E7552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9E3A-CF9E-4904-AF12-2785F521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1B43-8621-4A6D-BFBE-6A3BE6EC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4373-941B-4171-9291-2444F154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280E-9B01-4DDA-B1D1-C416BCB5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3608-5615-49CE-BA0C-9421639B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AEC0-4D8A-48B3-9E9C-3DF1332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E16F-50CE-44E0-AA1E-109191C9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1392-47DB-4C29-96C5-6BAE73BB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14AF-7E4C-4B42-AAF2-CD97C84B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0A58B-6EFE-4D0F-8C05-EBF4DA33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FD4F-39C1-466C-BCF1-9DA7D1EB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8467-AF1A-477B-8783-2142CF57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3E502-1E5B-4B4D-ABA3-F03672D2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C11B-4E52-45D0-B563-D42CBB4A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4D38-D598-4DF1-A953-65C2B8FA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83FB-3F36-462C-ADB4-47352EAF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B6CC-9D06-4829-A038-0CA28715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885E-ED32-48E0-86D3-3E0F3620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AC08-F2BA-4A4B-8D8F-ED01B4CB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86A1-6FEA-442D-81B9-A4175769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1AB9-476B-4331-AB2C-28DE188F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06DE-2F00-4D51-8536-019A9906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426DB-D949-422C-8B8C-ED19AD91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65C4E-16A5-40C7-8617-B0263BE7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9B3B-7888-4DF4-B58B-4511E361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0733-6A2A-4B58-A879-EB8923ED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0033-180B-4069-BD62-F671D49C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6918-6DE6-44B7-916D-44FD823A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1147-EFD8-4293-A950-456F5FEC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0CDA7-23BE-422D-9F47-024B4565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39992-7E0B-440F-84F3-2E712E2C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B5EA8-9CF9-4663-ADD3-203D1B2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5FCD7-227E-48CE-981B-D12507F8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40CE1-6835-4DE3-ADE2-BEA14AF3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598A2-B19E-4F52-A3BA-AE2CDA58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2494C-F2A1-4287-B15D-6697AE39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C129-E41E-4702-BC8B-259C176B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8C54-037F-4BD0-AA68-4061C4F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5B35D-95E0-429F-BCCC-8729A639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20555-4E76-4613-B1AA-C3F84402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45C9-0AFF-47ED-B4DB-5C36ED02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70C0-D4F8-4CE7-AE09-5D7FFBC3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08F2F-CFDD-4C64-834D-7710FD5A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99710-D88C-4F5A-9881-F3C500DF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53BB6-A70C-48B5-8F31-62014678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2F445-56C0-4A22-B044-FD7193D8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E9F69-2C88-42AD-9460-ACB83074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D78B-1973-426D-B57D-7824C870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5B44-8ED3-40F8-8644-3E4BA584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17141-D7AF-4224-8A8F-0F1F7962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6FCCE-3CB1-40AD-B1F6-76E6B717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5E1F7-0DAE-4C9D-BF19-955500C4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2E999-E16B-48E3-A30E-B1E85DF2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1FCB0-42CF-44D9-BE92-8B0BE708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D4D90-2477-4491-8C17-8F50B0CB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C9F8D-A4E1-461B-A392-FB47A935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C407E-7920-4272-A64E-82AD3C79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5C33E-9857-46EE-A304-688922A6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D740-BE4B-48C9-868D-C13FC3DA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BDFE-0794-43AE-A4F7-79D321B1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D6DB5-A2A2-431A-810B-CD676EE9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529E-70C0-49F6-A028-7D31F212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B2DC1-2C96-4A68-BE0D-0809EAB4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AE8C7-DEDC-485E-94F8-844F5A09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B1506-71BD-40FC-BB72-6A248370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A2F77-D534-44BD-B785-C7E59A56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D385A-5E61-44D8-AB3F-AB037F1C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63558-BBA2-406F-82B4-CAD280C5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98F4F-097D-4E35-BE3B-C1BDBF53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A7B6-45EE-4B38-A1CA-3B70C95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1EB3-B2E1-489D-B4E3-06F8CEE1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E4418-8306-4454-8857-6084B4B0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D0562-30E6-4321-8DC2-551DE334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76C5B-884C-49CE-B919-FAA92B53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F5027-F2E1-4E95-9583-0B0067CA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CF21A-0408-4CAD-B22E-AA38281C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7BEA-7635-4B25-9FA3-85308F46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F1012-FCF6-4414-9BAD-BDBDFDF8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47003-2142-4AD8-B44C-5EFB2E32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684B3-E2B9-4782-86DD-84AB65F6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F9B5-6877-455A-8050-4769C4D7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88303-A1E5-4940-B3A0-DB40CE58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216A8-316D-498C-B375-75B6C01B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3B50C-22B9-4B87-BD5C-F721C3E8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64BA0-F3F4-4174-A48B-E3B220EE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BF67E-3319-4088-B385-35A9ABCC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5AA78-A8D6-40A1-9117-2C3DFFFD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4BC71-1373-4683-A272-D3C970FC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DA95-4B21-4E3F-A762-E25DC9A632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9820-C1D4-4258-A19F-C355566745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6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6F46-DA9D-4FA9-B066-FEB2AE51B7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2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D8B8-6274-4473-824E-01529D2548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17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19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324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330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334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38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42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E9CC-80DC-44F5-AA96-8A849512EF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01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02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16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20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24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428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432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912F-32B6-4B39-8A39-F313A65405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483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9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2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2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7A2B-770A-467E-A327-3F4E71749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22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5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58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5" name="PlaceHolder 3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A6EE-7F78-4AEC-8CEE-E1B9CB9D6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1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%CB" TargetMode="External"/><Relationship Id="rId2" Type="http://schemas.openxmlformats.org/officeDocument/2006/relationships/hyperlink" Target="http://ru.wikipedia.org/wiki%CB" TargetMode="External"/><Relationship Id="rId3" Type="http://schemas.openxmlformats.org/officeDocument/2006/relationships/hyperlink" Target="http://ru.wikipedia.org/wiki%CB" TargetMode="External"/><Relationship Id="rId4" Type="http://schemas.openxmlformats.org/officeDocument/2006/relationships/hyperlink" Target="http://ru.wikipedia.org/wiki%CB" TargetMode="External"/><Relationship Id="rId5" Type="http://schemas.openxmlformats.org/officeDocument/2006/relationships/hyperlink" Target="http://ru.wikipedia.org/wiki%CB" TargetMode="External"/><Relationship Id="rId6" Type="http://schemas.openxmlformats.org/officeDocument/2006/relationships/hyperlink" Target="http://ru.wikipedia.org/wiki%CB" TargetMode="External"/><Relationship Id="rId7" Type="http://schemas.openxmlformats.org/officeDocument/2006/relationships/hyperlink" Target="http://ru.wikipedia.org/wiki%CB" TargetMode="External"/><Relationship Id="rId8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Georgia"/>
              </a:rPr>
              <a:t>Урок  литературы  в  10  класс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Автор  -  </a:t>
            </a: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ЗУЕВА  ЛЮДМИЛА  ВАСИЛЬЕВНА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,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учитель высшей  квалификационной  катег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ОУ  СОШ  № 9  имени  В.Т. Степанченко  города  Рже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Тверской 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2012 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5" name="vim%5B1%5D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810240" cy="27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2A9E-9E2E-4315-BD10-A630235BDB7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«НЕЛЮБИМЫЕ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ebf25a"/>
                </a:solidFill>
                <a:latin typeface="Georgia"/>
              </a:rPr>
              <a:t>этих  героинь  объединя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нешний блеск и внутренняя пусто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- вместо искренних чувств – холодный расчё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- семья, дети  не  играют в жизни существенной    роли   (Элен с отвращением думает 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озможности иметь дете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- безнравственно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- ложный патриот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3" name="mbiblio201big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684" name="21978680_1207285798_P_er_i_YElen1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43828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B7C2-D706-4D2B-968D-81AEA4B1A8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«ЛЮБИМЫЕ»  ГЕРОИНИ</a:t>
            </a:r>
            <a:br>
              <a:rPr sz="4200"/>
            </a:b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Толстог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7" name="02labqevm1289500663%5B1%5D" descr=""/>
          <p:cNvPicPr/>
          <p:nvPr/>
        </p:nvPicPr>
        <p:blipFill>
          <a:blip r:embed="rId1"/>
          <a:stretch/>
        </p:blipFill>
        <p:spPr>
          <a:xfrm>
            <a:off x="0" y="1523880"/>
            <a:ext cx="9524880" cy="5334120"/>
          </a:xfrm>
          <a:prstGeom prst="rect">
            <a:avLst/>
          </a:prstGeom>
          <a:ln w="0">
            <a:noFill/>
          </a:ln>
        </p:spPr>
      </p:pic>
      <p:pic>
        <p:nvPicPr>
          <p:cNvPr id="688" name="5509%5B1%5D" descr=""/>
          <p:cNvPicPr/>
          <p:nvPr/>
        </p:nvPicPr>
        <p:blipFill>
          <a:blip r:embed="rId2"/>
          <a:stretch/>
        </p:blipFill>
        <p:spPr>
          <a:xfrm>
            <a:off x="0" y="1676520"/>
            <a:ext cx="4724280" cy="3276360"/>
          </a:xfrm>
          <a:prstGeom prst="rect">
            <a:avLst/>
          </a:prstGeom>
          <a:ln w="0">
            <a:noFill/>
          </a:ln>
        </p:spPr>
      </p:pic>
      <p:pic>
        <p:nvPicPr>
          <p:cNvPr id="689" name="b06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4647960" cy="3429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533520" y="50292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НАТАША  РОСТ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952880" y="2895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княжна  МАРЬЯ  БОЛКОН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E030-FCE9-4032-A554-CF20921C6D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«ЛЮБИМЫЕ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олстой  не  пытается  создать  идеаль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образы,  а  берёт  их  и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жизн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4" name="213c578f4c0b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57150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2C3B-72D4-45D5-B13C-92971BAB1FD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293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7" name="0020-020-Natasha-Rostov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1523880" y="1522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Georgia"/>
              </a:rPr>
              <a:t>                                          </a:t>
            </a:r>
            <a:r>
              <a:rPr b="1" lang="en-US" sz="2800" spc="-1" strike="noStrike">
                <a:solidFill>
                  <a:srgbClr val="c44100"/>
                </a:solidFill>
                <a:latin typeface="Georgia"/>
              </a:rPr>
              <a:t>«ЛЮБИМЫ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311E-8178-431C-A7A1-4D9DD84BC44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новные  черты  «любимых» героинь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Толстого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далеко не красавицы внешне, но излуч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красоту  внутренню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 полнота  жизни,  поэтичность, искрен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 высокая духовность,  чест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 для них счастье - в семье,  в дет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 умение  любить (жизнь  сердц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 истинный  патриотиз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1" name="2060%5B1%5D" descr=""/>
          <p:cNvPicPr/>
          <p:nvPr/>
        </p:nvPicPr>
        <p:blipFill>
          <a:blip r:embed="rId1"/>
          <a:stretch/>
        </p:blipFill>
        <p:spPr>
          <a:xfrm>
            <a:off x="609480" y="4800600"/>
            <a:ext cx="1731960" cy="2057400"/>
          </a:xfrm>
          <a:prstGeom prst="rect">
            <a:avLst/>
          </a:prstGeom>
          <a:ln w="0">
            <a:noFill/>
          </a:ln>
        </p:spPr>
      </p:pic>
      <p:pic>
        <p:nvPicPr>
          <p:cNvPr id="702" name="etomoguchijgolosnarodanadoprislushatxsjaknemu-30%5B1%5D" descr=""/>
          <p:cNvPicPr/>
          <p:nvPr/>
        </p:nvPicPr>
        <p:blipFill>
          <a:blip r:embed="rId2"/>
          <a:stretch/>
        </p:blipFill>
        <p:spPr>
          <a:xfrm>
            <a:off x="4952880" y="4495680"/>
            <a:ext cx="4017960" cy="2362320"/>
          </a:xfrm>
          <a:prstGeom prst="rect">
            <a:avLst/>
          </a:prstGeom>
          <a:ln w="0">
            <a:noFill/>
          </a:ln>
        </p:spPr>
      </p:pic>
      <p:pic>
        <p:nvPicPr>
          <p:cNvPr id="703" name="2054%5B1%5D" descr=""/>
          <p:cNvPicPr/>
          <p:nvPr/>
        </p:nvPicPr>
        <p:blipFill>
          <a:blip r:embed="rId3"/>
          <a:stretch/>
        </p:blipFill>
        <p:spPr>
          <a:xfrm>
            <a:off x="2819520" y="480060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FAD5-7FA4-4925-87D5-C8AC6F8F778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6" name="02labqevm1289500663%5B1%5D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85000"/>
          </a:xfrm>
          <a:prstGeom prst="rect">
            <a:avLst/>
          </a:prstGeom>
          <a:ln w="0">
            <a:noFill/>
          </a:ln>
        </p:spPr>
      </p:pic>
      <p:pic>
        <p:nvPicPr>
          <p:cNvPr id="707" name="11510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4191120" cy="5943600"/>
          </a:xfrm>
          <a:prstGeom prst="rect">
            <a:avLst/>
          </a:prstGeom>
          <a:ln w="0">
            <a:noFill/>
          </a:ln>
        </p:spPr>
      </p:pic>
      <p:pic>
        <p:nvPicPr>
          <p:cNvPr id="708" name="shop_items_catalog_image1558%5B1%5D" descr=""/>
          <p:cNvPicPr/>
          <p:nvPr/>
        </p:nvPicPr>
        <p:blipFill>
          <a:blip r:embed="rId3"/>
          <a:stretch/>
        </p:blipFill>
        <p:spPr>
          <a:xfrm>
            <a:off x="0" y="289548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709" name="83685%5B1%5D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2468520" cy="2743200"/>
          </a:xfrm>
          <a:prstGeom prst="rect">
            <a:avLst/>
          </a:prstGeom>
          <a:ln w="0">
            <a:noFill/>
          </a:ln>
        </p:spPr>
      </p:pic>
      <p:pic>
        <p:nvPicPr>
          <p:cNvPr id="710" name="132133" descr=""/>
          <p:cNvPicPr/>
          <p:nvPr/>
        </p:nvPicPr>
        <p:blipFill>
          <a:blip r:embed="rId5"/>
          <a:stretch/>
        </p:blipFill>
        <p:spPr>
          <a:xfrm>
            <a:off x="2743200" y="5486400"/>
            <a:ext cx="3200400" cy="1371600"/>
          </a:xfrm>
          <a:prstGeom prst="rect">
            <a:avLst/>
          </a:prstGeom>
          <a:ln w="0">
            <a:noFill/>
          </a:ln>
        </p:spPr>
      </p:pic>
      <p:pic>
        <p:nvPicPr>
          <p:cNvPr id="711" name="2346%5B1%5D" descr=""/>
          <p:cNvPicPr/>
          <p:nvPr/>
        </p:nvPicPr>
        <p:blipFill>
          <a:blip r:embed="rId6"/>
          <a:stretch/>
        </p:blipFill>
        <p:spPr>
          <a:xfrm>
            <a:off x="2590920" y="457200"/>
            <a:ext cx="2286000" cy="2666880"/>
          </a:xfrm>
          <a:prstGeom prst="rect">
            <a:avLst/>
          </a:prstGeom>
          <a:ln w="0">
            <a:noFill/>
          </a:ln>
        </p:spPr>
      </p:pic>
      <p:pic>
        <p:nvPicPr>
          <p:cNvPr id="712" name="iCALYN9NU" descr=""/>
          <p:cNvPicPr/>
          <p:nvPr/>
        </p:nvPicPr>
        <p:blipFill>
          <a:blip r:embed="rId7"/>
          <a:stretch/>
        </p:blipFill>
        <p:spPr>
          <a:xfrm>
            <a:off x="5791320" y="5486400"/>
            <a:ext cx="3352680" cy="1295280"/>
          </a:xfrm>
          <a:prstGeom prst="rect">
            <a:avLst/>
          </a:prstGeom>
          <a:ln w="0">
            <a:noFill/>
          </a:ln>
        </p:spPr>
      </p:pic>
      <p:pic>
        <p:nvPicPr>
          <p:cNvPr id="713" name="shmarinov3%5B1%5D" descr=""/>
          <p:cNvPicPr/>
          <p:nvPr/>
        </p:nvPicPr>
        <p:blipFill>
          <a:blip r:embed="rId8"/>
          <a:stretch/>
        </p:blipFill>
        <p:spPr>
          <a:xfrm>
            <a:off x="2971800" y="3124080"/>
            <a:ext cx="213372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7DC9-D0EC-4C0C-B331-A91C4ABF1B6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Работа  в  группах </a:t>
            </a:r>
            <a:br>
              <a:rPr sz="3200"/>
            </a:br>
            <a:r>
              <a:rPr b="1" lang="en-US" sz="3600" spc="-1" strike="noStrike">
                <a:solidFill>
                  <a:srgbClr val="ffffcc"/>
                </a:solidFill>
                <a:latin typeface="Georgia"/>
              </a:rPr>
              <a:t>(составление и защита проекта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1  групп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Наташа  Рост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2  групп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няжна Марья Болкон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3  групп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лен,  Жюли Караг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4  групп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оня,  Вера Рост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B175-3085-4A7A-8D34-48434B9669A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Georgia"/>
              </a:rPr>
              <a:t>Делаем  выводы</a:t>
            </a:r>
            <a:br>
              <a:rPr sz="4200"/>
            </a:br>
            <a:r>
              <a:rPr b="1" lang="en-US" sz="3200" spc="-1" strike="noStrike">
                <a:solidFill>
                  <a:srgbClr val="6600ff"/>
                </a:solidFill>
                <a:latin typeface="Georgia"/>
              </a:rPr>
              <a:t>Каков  женский  идеал Л.Н. Толстого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Дочь – сестра – жена – мать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такой  путь  проходят любимые героини  Л.Н. Толст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ebf25a"/>
                </a:solidFill>
                <a:latin typeface="Georgia"/>
              </a:rPr>
              <a:t>Женщина – мать, жена 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идеал  писател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ADA4-871D-4B27-8107-7DC955AB197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eorgia"/>
              </a:rPr>
              <a:t>Домашнее  задани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Написать сочинение-рассужд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Роль  женщины  в  современном  мир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ать  развёрнутый ответ на вопрос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ffffcc"/>
                </a:solidFill>
                <a:latin typeface="Georgia"/>
              </a:rPr>
              <a:t>«Нужны ли в наше  время Наташи Ростовы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3009-5035-4DA1-826A-FDFADA4DF53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914400" y="30492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aramond"/>
              </a:rPr>
              <a:t>БЛАГОДАРЮ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85800" y="144792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а   работу !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4" name="04labs5kp1267200078%5B1%5D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81536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3009-77B8-490B-A951-6A7C30D2BEC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8" name="02labs5kp1267199672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 txBox="1"/>
          <p:nvPr/>
        </p:nvSpPr>
        <p:spPr>
          <a:xfrm>
            <a:off x="152280" y="-990720"/>
            <a:ext cx="8458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 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женская тема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0880" y="2819520"/>
            <a:ext cx="8305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Georgia"/>
              </a:rPr>
              <a:t>в  романе  Л.Н.Толстого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28600" y="5410080"/>
            <a:ext cx="8610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"Война   и   мир"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26A4-86E8-44DF-AC1F-6E87709F030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666633"/>
                </a:solidFill>
                <a:latin typeface="Georgia"/>
              </a:rPr>
              <a:t>Используемые ресурсы у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6201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1.  Серия «Школьная библиотека».  Л.Н. Толстой  «Война и мир». В четырёх томах.  Москва. Издательство «Просвещение». 1989 г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2.  Русская литература </a:t>
            </a:r>
            <a:r>
              <a:rPr b="0" lang="en-US" sz="1800" spc="-1" strike="noStrike">
                <a:solidFill>
                  <a:srgbClr val="333300"/>
                </a:solidFill>
                <a:latin typeface="Georgia"/>
              </a:rPr>
              <a:t>XIX </a:t>
            </a: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века.  10 класс. Учебник для общеобразовательных учреждений. Базовый и профильный уровни. В двух частях. Под редакцией В.И Коровина.   Москва.  «Просвещение» 2008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3.  Н.В. Егорова, И.В. Золотарёва.  Поурочные разработки по литературе.  10  класс.  Москва.  «ВАКО»  2009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4.  Материалы Интернета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       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2"/>
              </a:rPr>
              <a:t>ru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4"/>
              </a:rPr>
              <a:t>wikipedia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5"/>
              </a:rPr>
              <a:t>.org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6"/>
              </a:rPr>
              <a:t>wiki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7"/>
              </a:rPr>
              <a:t>%CB</a:t>
            </a:r>
            <a:r>
              <a:rPr b="1" lang="en-US" sz="1800" spc="-1" strike="noStrike">
                <a:solidFill>
                  <a:srgbClr val="826000"/>
                </a:solidFill>
                <a:latin typeface="Georgia"/>
              </a:rPr>
              <a:t>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005DB-7106-4192-BA20-C358E10FBAD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0018-018-Pisatel-reshaet-takie-filosofskie-voprosy-kak-chelovek-i-obschestvo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762120" y="6019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8001d"/>
                </a:solidFill>
                <a:latin typeface="Verdana"/>
              </a:rPr>
              <a:t>                                      </a:t>
            </a:r>
            <a:r>
              <a:rPr b="1" lang="en-US" sz="2400" spc="-1" strike="noStrike">
                <a:solidFill>
                  <a:srgbClr val="7a0017"/>
                </a:solidFill>
                <a:latin typeface="Georgia"/>
              </a:rPr>
              <a:t>Это роман  о  роли  женщины  в  семье,  в   обще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D81E-978E-4FD3-8FC0-82B2585086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7" name="scrn_big_3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4582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Как много надо женщине!  Как  мало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Чтобы  лучился  счастьем  её  взгля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И  что ему нужна,  она  бы  знал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Она  простит, пусть  даже  виноват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Как  мало  надо  женщине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Как  много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BCB8-360E-40C4-8D33-9625B57375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24F8-2771-403E-9C7D-C3AC4CD8F7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53f35"/>
                </a:solidFill>
                <a:latin typeface="Arial"/>
              </a:rPr>
              <a:t>             </a:t>
            </a:r>
            <a:r>
              <a:rPr b="1" i="1" lang="en-US" sz="4400" spc="-1" strike="noStrike">
                <a:solidFill>
                  <a:srgbClr val="a47900"/>
                </a:solidFill>
                <a:latin typeface="Georgia"/>
              </a:rPr>
              <a:t>Цель  урока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7650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53f35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- </a:t>
            </a: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Georgia"/>
              </a:rPr>
              <a:t>учебная: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раскрытие взгляда  писателя на роль  женщины в обществе, в семье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8000"/>
                </a:solidFill>
                <a:latin typeface="Georgia"/>
              </a:rPr>
              <a:t>- </a:t>
            </a: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Georgia"/>
              </a:rPr>
              <a:t>развивающа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развитие умений анализировать текст, сопоставлять, давать характеристику геро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8000"/>
                </a:solidFill>
                <a:latin typeface="Georgia"/>
              </a:rPr>
              <a:t>- </a:t>
            </a: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Georgia"/>
              </a:rPr>
              <a:t>воспитывающа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воспитание женщины-дочери, матери, жены, сестр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63" name="11510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15238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6666"/>
                </a:solidFill>
                <a:latin typeface="Georgia"/>
              </a:rPr>
              <a:t>Начнём  с «мудрых»  мыслей и  их  преломлении в  романе Толстого «Война и мир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76100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        </a:t>
            </a: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«Мужчина  и женщина – это две ноты, без которых струны человеческого сердца не дают правильного и полного аккорда» (Д.Мадзини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         </a:t>
            </a: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«Любовь – это желание жить» (К. Тилье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         </a:t>
            </a: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«Любовь одна, но подделок под нее – тысячи» (Ф. Ларошфуко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6" name="0_8f529_80654cba_L" descr=""/>
          <p:cNvPicPr/>
          <p:nvPr/>
        </p:nvPicPr>
        <p:blipFill>
          <a:blip r:embed="rId2"/>
          <a:stretch/>
        </p:blipFill>
        <p:spPr>
          <a:xfrm>
            <a:off x="0" y="411480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667" name="iCAFV046P" descr=""/>
          <p:cNvPicPr/>
          <p:nvPr/>
        </p:nvPicPr>
        <p:blipFill>
          <a:blip r:embed="rId3"/>
          <a:stretch/>
        </p:blipFill>
        <p:spPr>
          <a:xfrm>
            <a:off x="5105520" y="4114800"/>
            <a:ext cx="3886200" cy="2438280"/>
          </a:xfrm>
          <a:prstGeom prst="rect">
            <a:avLst/>
          </a:prstGeom>
          <a:ln w="0">
            <a:noFill/>
          </a:ln>
        </p:spPr>
      </p:pic>
      <p:pic>
        <p:nvPicPr>
          <p:cNvPr id="668" name="2568540-adeff1b82b1d3b7c" descr=""/>
          <p:cNvPicPr/>
          <p:nvPr/>
        </p:nvPicPr>
        <p:blipFill>
          <a:blip r:embed="rId4"/>
          <a:stretch/>
        </p:blipFill>
        <p:spPr>
          <a:xfrm>
            <a:off x="4038480" y="5029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69" name="2454768-4052d81e590953e3" descr=""/>
          <p:cNvPicPr/>
          <p:nvPr/>
        </p:nvPicPr>
        <p:blipFill>
          <a:blip r:embed="rId5"/>
          <a:stretch/>
        </p:blipFill>
        <p:spPr>
          <a:xfrm>
            <a:off x="0" y="15228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B88B5-A9B5-4DA9-B00E-2288DF55A09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Этап  «погружения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Женская  тема  в  творчестве  Л.Н.Толст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2" name="02labs5kp1267199672%5B1%5D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3D71-48C8-4381-9642-F6804A220A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Актуальность  тем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«Война и мир» - полемичес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твет писателя  сторонника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женской эмансипа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Женские  образы в рома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тносятся  как  бы к дву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«полюсам»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- «любимые»  герои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- «нелюбимые» герои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5" name="0000002382%5B1%5D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3581280" cy="541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0BDB-1D50-41A9-9A5F-450BA8CC70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«НЕЛЮБИМЫЕ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87692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ногочисленные  типы  великосветских  красавиц,  хозяек великолепных салонов в Петербурге и Москве – </a:t>
            </a:r>
            <a:r>
              <a:rPr b="1" lang="en-US" sz="2400" spc="-1" strike="noStrike">
                <a:solidFill>
                  <a:srgbClr val="d9d400"/>
                </a:solidFill>
                <a:latin typeface="Georgia"/>
              </a:rPr>
              <a:t>ЭЛЕН,  АННА  ПАВЛОВНА  ШЕРЕР,  ЖЮЛИ  КАРАГИН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ечтает о своём салоне холодная и апатичная </a:t>
            </a:r>
            <a:r>
              <a:rPr b="1" lang="en-US" sz="2400" spc="-1" strike="noStrike">
                <a:solidFill>
                  <a:srgbClr val="d9d400"/>
                </a:solidFill>
                <a:latin typeface="Georgia"/>
              </a:rPr>
              <a:t>ВЕРА  БЕР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8" name="0_8f529_80654cba_L" descr=""/>
          <p:cNvPicPr/>
          <p:nvPr/>
        </p:nvPicPr>
        <p:blipFill>
          <a:blip r:embed="rId1"/>
          <a:stretch/>
        </p:blipFill>
        <p:spPr>
          <a:xfrm>
            <a:off x="0" y="114300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679" name="8d5ac02102da%5B1%5D" descr=""/>
          <p:cNvPicPr/>
          <p:nvPr/>
        </p:nvPicPr>
        <p:blipFill>
          <a:blip r:embed="rId2"/>
          <a:stretch/>
        </p:blipFill>
        <p:spPr>
          <a:xfrm>
            <a:off x="2590920" y="106668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680" name="0_4fc41_92093d54_XL%5B1%5D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266724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8477-3577-4DA0-A89C-3CAFF469FF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6:26:47Z</dcterms:created>
  <dc:creator>ЛЮДМИЛА</dc:creator>
  <dc:description/>
  <dc:language>en-US</dc:language>
  <cp:lastModifiedBy>Di</cp:lastModifiedBy>
  <dcterms:modified xsi:type="dcterms:W3CDTF">2012-05-02T15:04:35Z</dcterms:modified>
  <cp:revision>77</cp:revision>
  <dc:subject>Уроки литературы в 10 классе</dc:subject>
  <dc:title>Женская тема в романе Толстого "Война и мир"</dc:title>
</cp:coreProperties>
</file>