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29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28.jpeg" ContentType="image/jpeg"/>
  <Override PartName="/ppt/media/image34.jpeg" ContentType="image/jpeg"/>
  <Override PartName="/ppt/media/image15.gif" ContentType="image/gif"/>
  <Override PartName="/ppt/media/image30.jpeg" ContentType="image/jpeg"/>
  <Override PartName="/ppt/media/image2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png" ContentType="image/png"/>
  <Override PartName="/ppt/media/image3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7.jpeg" ContentType="image/jpeg"/>
  <Override PartName="/ppt/media/image1.wmf" ContentType="image/x-wmf"/>
  <Override PartName="/ppt/media/image16.gif" ContentType="image/gif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AA333-F740-476B-90B9-C2FD21026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5E7C5-B815-4802-A679-4BEC6C819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8CE52-B68F-4D72-8D2A-4054DEDE3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4AC01-936F-4B95-B00F-9F2264915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5B284-5D7F-4C29-BC8B-9291CFBA8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2A4AC-B3F2-4938-BF78-F8E4CB45D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017FE-665F-41BB-9B4B-47170185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3C385-E86E-4342-B6F1-3C330D20E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1B7FA-0B0A-4086-AEA3-05615BEF3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66414-7A7D-4824-986B-102FB53AE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146C4-EC7B-46D0-A191-EF386599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B1AD7-A51B-4FB3-9714-94E91DC2B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F4F0E-C248-437E-9313-2CD7D6B8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25529-24B7-43E1-A078-AC0013D3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EDE22-E61A-404C-8E4B-9B1452B30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9E1A2-BE85-4B38-AEFC-142004B43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8C04A-6877-490F-81EB-4A695B0EF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3DF30-FD8F-4D53-A36A-7AAB2CCDD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15E3C-C0FE-4818-A4B8-1AA047E61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0B7BA-659D-44E1-9860-3E894924C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CF100-1199-454E-AFE7-00A341B46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E76C6-6FE5-414B-BA35-8081697E7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4DF9F-C34B-4074-A3BA-851D1EA5F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5C405-5C79-444C-A883-9D595AC1C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E493B-1FFE-42D1-82CA-14D137FF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08249-6F24-4A68-9518-1684ED2B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924E2-300C-4342-B4C6-17E13662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CE4BB-F3CF-4276-8AD5-96AFB5340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D9641-E35C-485E-95F1-77CE0534C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DC304-E0A4-4285-893F-A86EF35C7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E51DA-54EE-4DE8-B819-FA8CF7EC0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5F0F6-4FAC-4A67-AFF5-8FB9881BB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E04F4-0826-4D1D-ABCF-DFCA21BC0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6CD09-2DD7-49C6-ADD4-F7A5A5760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34809-BE94-4616-BDDD-9551299BF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331BD-839D-4A4F-AC2C-BD97361BC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B3770-B08F-450F-ACAD-D4716CDB4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18D44-0BB9-460D-B5E6-4B7524CB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BDB47-941C-457C-91C7-E2B0C468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4249F-4129-4EC6-B56B-41B5BAD7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D39AD-474C-4A55-BB77-492770E1D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4D35A-9541-4BD7-BDBA-714640776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A8960-6336-4179-AF2E-675F64C45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F5627-6BD8-41AE-8274-B972F0FA3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FDAD2-19C2-4E54-B7B2-4A8BA6FA8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9F4AF-DD4B-4CAF-A6B0-A055D4303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2EA6C-BBCB-4571-8BCE-B0AD459DA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BE0BD-7183-44F8-8BFB-5BA80ECE6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134AF-03A1-4CFC-8140-CF9DF541C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6DFAA-88E0-47E8-A397-F2D3B5C27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B0D72-130B-402F-9263-0F215128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F98AB-C236-40AF-928F-CC273B90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7CD3D-DD55-42FB-B4B4-3BD35A65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773CC-B148-4463-A170-F05011334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89DC5-9BD4-4544-9559-82D06F0C9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4B5D8-3A4E-4671-96EB-A4CE73C49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4D9AD-4DB8-4CE1-A869-828F5F70C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F18BE-62C4-4224-8AA5-0FDF63BEA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9DF1D9-F402-4683-9A9A-FA9148A6B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7D4B7-70D2-4054-A4C8-452C928EF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0A6D01-EA60-464A-8466-FB7AAD190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F169A4-653A-494D-A9D7-A35FEDEB7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5407C-299F-499B-A3E2-78267DD57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DABF8-3E84-41CC-A992-45A8D658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3D349-4CDD-4B34-8BFC-4E68461C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CD05F-5131-4DA3-97B8-A00B9744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E0F22-D051-4C36-8AAD-FEB60CB0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B7A436-BFD9-4A2B-B76D-8C259BB76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4AEB1-8232-4065-BDDC-49A678ECE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8EFBD-5C3F-4D01-8B0C-D3A73F0EA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B7B97D-3B1B-4D48-832D-4EF2A1896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E31D21-E46B-4BFF-A893-896170252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DD8BD5-1461-4E01-852E-5DBE55C4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EB3705-054D-4109-AD85-647652B4E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F4D6E2-E422-48F0-9897-115AA2A7E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B57E9-D6A0-4A69-8CFF-2C3D58392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8B20C3-4F35-4079-B351-5F66A6C5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C0CD3-6581-404A-9307-B457FA35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6B0CD-B328-4075-94DD-8903833F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71BD4-072A-45A1-9AA0-9AD915F2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79170-35A9-42A9-8625-0440E7B5C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EC50C-0272-41EA-B318-A80C63BE7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FC6B90-F8AC-484F-B628-7F9D87FBA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78775F-A044-4F2F-907C-351691A13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6064F3-AE04-402C-BF36-AF6E47BD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45362C-660D-474F-9443-B2A07AABA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94AD7C-7580-466B-A0CD-81832BB36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B4CB1-28A1-455D-A2CF-CF966BE8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B0855-5284-4531-9D79-034E04D6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588FF5-8268-423E-8B72-46097E073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E73A79-5E1F-42C9-B5EC-6BF60E24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DF363D-1007-4205-A43A-69906D97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16E1F8-B59B-43B7-9264-94BEAAA5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31B3DF-E857-445F-8C6B-D4E57903D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4E6D0E-3EC0-46B2-9F54-52A292EEA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6C8AE1-E4CE-4550-98FE-942E286E1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25.xml"/><Relationship Id="rId35" Type="http://schemas.openxmlformats.org/officeDocument/2006/relationships/slideLayout" Target="../slideLayouts/slideLayout26.xml"/><Relationship Id="rId36" Type="http://schemas.openxmlformats.org/officeDocument/2006/relationships/slideLayout" Target="../slideLayouts/slideLayout27.xml"/><Relationship Id="rId37" Type="http://schemas.openxmlformats.org/officeDocument/2006/relationships/slideLayout" Target="../slideLayouts/slideLayout28.xml"/><Relationship Id="rId38" Type="http://schemas.openxmlformats.org/officeDocument/2006/relationships/slideLayout" Target="../slideLayouts/slideLayout29.xml"/><Relationship Id="rId39" Type="http://schemas.openxmlformats.org/officeDocument/2006/relationships/slideLayout" Target="../slideLayouts/slideLayout30.xml"/><Relationship Id="rId40" Type="http://schemas.openxmlformats.org/officeDocument/2006/relationships/slideLayout" Target="../slideLayouts/slideLayout31.xml"/><Relationship Id="rId41" Type="http://schemas.openxmlformats.org/officeDocument/2006/relationships/slideLayout" Target="../slideLayouts/slideLayout32.xml"/><Relationship Id="rId42" Type="http://schemas.openxmlformats.org/officeDocument/2006/relationships/slideLayout" Target="../slideLayouts/slideLayout33.xml"/><Relationship Id="rId43" Type="http://schemas.openxmlformats.org/officeDocument/2006/relationships/slideLayout" Target="../slideLayouts/slideLayout34.xml"/><Relationship Id="rId44" Type="http://schemas.openxmlformats.org/officeDocument/2006/relationships/slideLayout" Target="../slideLayouts/slideLayout35.xml"/><Relationship Id="rId4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37.xml"/><Relationship Id="rId32" Type="http://schemas.openxmlformats.org/officeDocument/2006/relationships/slideLayout" Target="../slideLayouts/slideLayout38.xml"/><Relationship Id="rId33" Type="http://schemas.openxmlformats.org/officeDocument/2006/relationships/slideLayout" Target="../slideLayouts/slideLayout39.xml"/><Relationship Id="rId34" Type="http://schemas.openxmlformats.org/officeDocument/2006/relationships/slideLayout" Target="../slideLayouts/slideLayout40.xml"/><Relationship Id="rId35" Type="http://schemas.openxmlformats.org/officeDocument/2006/relationships/slideLayout" Target="../slideLayouts/slideLayout41.xml"/><Relationship Id="rId36" Type="http://schemas.openxmlformats.org/officeDocument/2006/relationships/slideLayout" Target="../slideLayouts/slideLayout42.xml"/><Relationship Id="rId37" Type="http://schemas.openxmlformats.org/officeDocument/2006/relationships/slideLayout" Target="../slideLayouts/slideLayout43.xml"/><Relationship Id="rId38" Type="http://schemas.openxmlformats.org/officeDocument/2006/relationships/slideLayout" Target="../slideLayouts/slideLayout44.xml"/><Relationship Id="rId39" Type="http://schemas.openxmlformats.org/officeDocument/2006/relationships/slideLayout" Target="../slideLayouts/slideLayout45.xml"/><Relationship Id="rId40" Type="http://schemas.openxmlformats.org/officeDocument/2006/relationships/slideLayout" Target="../slideLayouts/slideLayout46.xml"/><Relationship Id="rId41" Type="http://schemas.openxmlformats.org/officeDocument/2006/relationships/slideLayout" Target="../slideLayouts/slideLayout47.xml"/><Relationship Id="rId42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2C5A1-3DEA-4465-A270-CEF5B996825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55C8D-8D8C-4E4B-BB2E-FA935F80125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26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30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31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32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33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5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4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2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3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4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5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6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8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49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50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1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2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3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4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6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7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8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9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0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1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2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3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4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5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6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7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8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69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B5A2E-FBC8-42BB-B8CA-5E144515A04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4"/>
    <p:sldLayoutId id="2147483676" r:id="rId35"/>
    <p:sldLayoutId id="2147483677" r:id="rId36"/>
    <p:sldLayoutId id="2147483678" r:id="rId37"/>
    <p:sldLayoutId id="2147483679" r:id="rId38"/>
    <p:sldLayoutId id="2147483680" r:id="rId39"/>
    <p:sldLayoutId id="2147483681" r:id="rId40"/>
    <p:sldLayoutId id="2147483682" r:id="rId41"/>
    <p:sldLayoutId id="2147483683" r:id="rId42"/>
    <p:sldLayoutId id="2147483684" r:id="rId43"/>
    <p:sldLayoutId id="2147483685" r:id="rId44"/>
    <p:sldLayoutId id="2147483686" r:id="rId4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2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26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27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31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3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5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4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6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dt" idx="1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ftr" idx="1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sldNum" idx="1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EB939-3696-48ED-98C3-6B55F743F82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1"/>
    <p:sldLayoutId id="2147483689" r:id="rId32"/>
    <p:sldLayoutId id="2147483690" r:id="rId33"/>
    <p:sldLayoutId id="2147483691" r:id="rId34"/>
    <p:sldLayoutId id="2147483692" r:id="rId35"/>
    <p:sldLayoutId id="2147483693" r:id="rId36"/>
    <p:sldLayoutId id="2147483694" r:id="rId37"/>
    <p:sldLayoutId id="2147483695" r:id="rId38"/>
    <p:sldLayoutId id="2147483696" r:id="rId39"/>
    <p:sldLayoutId id="2147483697" r:id="rId40"/>
    <p:sldLayoutId id="2147483698" r:id="rId41"/>
    <p:sldLayoutId id="2147483699" r:id="rId42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317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19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324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29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330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3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334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338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342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5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D700E-86FD-4D59-A56F-247A948E8F9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401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402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9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5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416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420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424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428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432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5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2" name="PlaceHolder 1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B8DC5-4D59-4080-9B6C-14554BE194F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483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dt" idx="19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ftr" idx="20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sldNum" idx="21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BA65A-599A-4EAB-9EF2-D2D998BB7E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dt" idx="22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556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586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87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588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589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590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4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8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599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05" name="PlaceHolder 3"/>
          <p:cNvSpPr>
            <a:spLocks noGrp="1"/>
          </p:cNvSpPr>
          <p:nvPr>
            <p:ph type="ftr" idx="23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 type="sldNum" idx="24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CAD93-C5B9-4595-AA12-0DAAA37F46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1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35.jpeg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ru.wikipedia.org/wiki%CB" TargetMode="External"/><Relationship Id="rId2" Type="http://schemas.openxmlformats.org/officeDocument/2006/relationships/hyperlink" Target="http://ru.wikipedia.org/wiki%CB" TargetMode="External"/><Relationship Id="rId3" Type="http://schemas.openxmlformats.org/officeDocument/2006/relationships/hyperlink" Target="http://ru.wikipedia.org/wiki%CB" TargetMode="External"/><Relationship Id="rId4" Type="http://schemas.openxmlformats.org/officeDocument/2006/relationships/hyperlink" Target="http://ru.wikipedia.org/wiki%CB" TargetMode="External"/><Relationship Id="rId5" Type="http://schemas.openxmlformats.org/officeDocument/2006/relationships/hyperlink" Target="http://ru.wikipedia.org/wiki%CB" TargetMode="External"/><Relationship Id="rId6" Type="http://schemas.openxmlformats.org/officeDocument/2006/relationships/hyperlink" Target="http://ru.wikipedia.org/wiki%CB" TargetMode="External"/><Relationship Id="rId7" Type="http://schemas.openxmlformats.org/officeDocument/2006/relationships/hyperlink" Target="http://ru.wikipedia.org/wiki%CB" TargetMode="External"/><Relationship Id="rId8" Type="http://schemas.openxmlformats.org/officeDocument/2006/relationships/slideLayout" Target="../slideLayouts/slideLayout7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228600" y="277920"/>
            <a:ext cx="86104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Georgia"/>
              </a:rPr>
              <a:t>Урок  литературы  в  10  класс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      </a:t>
            </a: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Автор  -  </a:t>
            </a:r>
            <a:r>
              <a:rPr b="1" i="1" lang="ru-RU" sz="1800" spc="-1" strike="noStrike">
                <a:solidFill>
                  <a:srgbClr val="ffffff"/>
                </a:solidFill>
                <a:latin typeface="Georgia"/>
              </a:rPr>
              <a:t>ЗУЕВА  ЛЮДМИЛА  ВАСИЛЬЕВНА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 ,  </a:t>
            </a: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учитель высшей  квалификационной  категор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            </a:t>
            </a: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МОУ  СОШ  № 9  имени  В.Т. Степанченко  города  Рже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                </a:t>
            </a: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Тверской  обла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                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2012  го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5" name="vim%5B1%5D" descr=""/>
          <p:cNvPicPr/>
          <p:nvPr/>
        </p:nvPicPr>
        <p:blipFill>
          <a:blip r:embed="rId1"/>
          <a:stretch/>
        </p:blipFill>
        <p:spPr>
          <a:xfrm>
            <a:off x="5181480" y="3886200"/>
            <a:ext cx="3810240" cy="279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Зуева Л.В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3706B-5C8A-4A7A-9400-E6F0E972FE8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«НЕЛЮБИМЫЕ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1" lang="ru-RU" sz="3200" spc="-1" strike="noStrike">
                <a:solidFill>
                  <a:srgbClr val="ebf25a"/>
                </a:solidFill>
                <a:latin typeface="Georgia"/>
              </a:rPr>
              <a:t>этих  героинь  объединяет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внешний блеск и внутренняя пустот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- вместо искренних чувств – холодный расчёт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- семья, дети  не  играют в жизни существенной    роли   (Элен с отвращением думает 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        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возможности иметь детей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- безнравственность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- ложный патриотиз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3" name="mbiblio201big" descr=""/>
          <p:cNvPicPr/>
          <p:nvPr/>
        </p:nvPicPr>
        <p:blipFill>
          <a:blip r:embed="rId1"/>
          <a:stretch/>
        </p:blipFill>
        <p:spPr>
          <a:xfrm>
            <a:off x="6019920" y="3962520"/>
            <a:ext cx="2971800" cy="2743200"/>
          </a:xfrm>
          <a:prstGeom prst="rect">
            <a:avLst/>
          </a:prstGeom>
          <a:ln w="0">
            <a:noFill/>
          </a:ln>
        </p:spPr>
      </p:pic>
      <p:pic>
        <p:nvPicPr>
          <p:cNvPr id="684" name="21978680_1207285798_P_er_i_YElen1" descr=""/>
          <p:cNvPicPr/>
          <p:nvPr/>
        </p:nvPicPr>
        <p:blipFill>
          <a:blip r:embed="rId2"/>
          <a:stretch/>
        </p:blipFill>
        <p:spPr>
          <a:xfrm>
            <a:off x="533520" y="4800600"/>
            <a:ext cx="243828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Зуева Л.В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52225-6CEF-4EAE-9C3B-3B41175A330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«ЛЮБИМЫЕ»  ГЕРОИНИ</a:t>
            </a:r>
            <a:br>
              <a:rPr sz="4200"/>
            </a:b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Толстого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4582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7" name="02labqevm1289500663%5B1%5D" descr=""/>
          <p:cNvPicPr/>
          <p:nvPr/>
        </p:nvPicPr>
        <p:blipFill>
          <a:blip r:embed="rId1"/>
          <a:stretch/>
        </p:blipFill>
        <p:spPr>
          <a:xfrm>
            <a:off x="0" y="1523880"/>
            <a:ext cx="9524880" cy="5334120"/>
          </a:xfrm>
          <a:prstGeom prst="rect">
            <a:avLst/>
          </a:prstGeom>
          <a:ln w="0">
            <a:noFill/>
          </a:ln>
        </p:spPr>
      </p:pic>
      <p:pic>
        <p:nvPicPr>
          <p:cNvPr id="688" name="5509%5B1%5D" descr=""/>
          <p:cNvPicPr/>
          <p:nvPr/>
        </p:nvPicPr>
        <p:blipFill>
          <a:blip r:embed="rId2"/>
          <a:stretch/>
        </p:blipFill>
        <p:spPr>
          <a:xfrm>
            <a:off x="0" y="1676520"/>
            <a:ext cx="4724280" cy="3276360"/>
          </a:xfrm>
          <a:prstGeom prst="rect">
            <a:avLst/>
          </a:prstGeom>
          <a:ln w="0">
            <a:noFill/>
          </a:ln>
        </p:spPr>
      </p:pic>
      <p:pic>
        <p:nvPicPr>
          <p:cNvPr id="689" name="b06" descr=""/>
          <p:cNvPicPr/>
          <p:nvPr/>
        </p:nvPicPr>
        <p:blipFill>
          <a:blip r:embed="rId3"/>
          <a:stretch/>
        </p:blipFill>
        <p:spPr>
          <a:xfrm>
            <a:off x="4648320" y="3276720"/>
            <a:ext cx="4647960" cy="3429000"/>
          </a:xfrm>
          <a:prstGeom prst="rect">
            <a:avLst/>
          </a:prstGeom>
          <a:ln w="0">
            <a:noFill/>
          </a:ln>
        </p:spPr>
      </p:pic>
      <p:sp>
        <p:nvSpPr>
          <p:cNvPr id="690" name=""/>
          <p:cNvSpPr/>
          <p:nvPr/>
        </p:nvSpPr>
        <p:spPr>
          <a:xfrm>
            <a:off x="533520" y="5029200"/>
            <a:ext cx="32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    </a:t>
            </a: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НАТАША  РОСТО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952880" y="289548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княжна  МАРЬЯ  БОЛКОН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Зуева Л.В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5437C-23B6-4DE0-9366-F3FBB4DA6C1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«ЛЮБИМЫЕ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Толстой  не  пытается  создать  идеальны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образы,  а  берёт  их  из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жизни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4" name="213c578f4c0b" descr=""/>
          <p:cNvPicPr/>
          <p:nvPr/>
        </p:nvPicPr>
        <p:blipFill>
          <a:blip r:embed="rId1"/>
          <a:stretch/>
        </p:blipFill>
        <p:spPr>
          <a:xfrm>
            <a:off x="3276720" y="3505320"/>
            <a:ext cx="57150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Зуева Л.В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30ED6-E806-4B22-97B3-5658DF4DB1E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29320"/>
            <a:ext cx="82296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7" name="0020-020-Natasha-Rostov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8" name=""/>
          <p:cNvSpPr/>
          <p:nvPr/>
        </p:nvSpPr>
        <p:spPr>
          <a:xfrm>
            <a:off x="1523880" y="152280"/>
            <a:ext cx="63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Georgia"/>
              </a:rPr>
              <a:t>                                          </a:t>
            </a:r>
            <a:r>
              <a:rPr b="1" lang="en-US" sz="2800" spc="-1" strike="noStrike">
                <a:solidFill>
                  <a:srgbClr val="c44100"/>
                </a:solidFill>
                <a:latin typeface="Georgia"/>
              </a:rPr>
              <a:t>«ЛЮБИМЫЕ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Зуева Л.В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85CDE-B928-49B8-97B3-C38E306B72A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Основные  черты  «любимых» героинь 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Толстого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далеко не красавицы внешне, но излучаю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красоту  внутреннюю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- полнота  жизни,  поэтичность, искренность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- высокая духовность,  честность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- для них счастье - в семье,  в детях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- умение  любить (жизнь  сердца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- истинный  патриотиз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01" name="2060%5B1%5D" descr=""/>
          <p:cNvPicPr/>
          <p:nvPr/>
        </p:nvPicPr>
        <p:blipFill>
          <a:blip r:embed="rId1"/>
          <a:stretch/>
        </p:blipFill>
        <p:spPr>
          <a:xfrm>
            <a:off x="609480" y="4800600"/>
            <a:ext cx="1731960" cy="2057400"/>
          </a:xfrm>
          <a:prstGeom prst="rect">
            <a:avLst/>
          </a:prstGeom>
          <a:ln w="0">
            <a:noFill/>
          </a:ln>
        </p:spPr>
      </p:pic>
      <p:pic>
        <p:nvPicPr>
          <p:cNvPr id="702" name="etomoguchijgolosnarodanadoprislushatxsjaknemu-30%5B1%5D" descr=""/>
          <p:cNvPicPr/>
          <p:nvPr/>
        </p:nvPicPr>
        <p:blipFill>
          <a:blip r:embed="rId2"/>
          <a:stretch/>
        </p:blipFill>
        <p:spPr>
          <a:xfrm>
            <a:off x="4952880" y="4495680"/>
            <a:ext cx="4017960" cy="2362320"/>
          </a:xfrm>
          <a:prstGeom prst="rect">
            <a:avLst/>
          </a:prstGeom>
          <a:ln w="0">
            <a:noFill/>
          </a:ln>
        </p:spPr>
      </p:pic>
      <p:pic>
        <p:nvPicPr>
          <p:cNvPr id="703" name="2054%5B1%5D" descr=""/>
          <p:cNvPicPr/>
          <p:nvPr/>
        </p:nvPicPr>
        <p:blipFill>
          <a:blip r:embed="rId3"/>
          <a:stretch/>
        </p:blipFill>
        <p:spPr>
          <a:xfrm>
            <a:off x="2819520" y="4800600"/>
            <a:ext cx="175248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Зуева Л.В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615B3-FC2B-4F44-BDDF-03BBC380406B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06" name="02labqevm1289500663%5B1%5D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85000"/>
          </a:xfrm>
          <a:prstGeom prst="rect">
            <a:avLst/>
          </a:prstGeom>
          <a:ln w="0">
            <a:noFill/>
          </a:ln>
        </p:spPr>
      </p:pic>
      <p:pic>
        <p:nvPicPr>
          <p:cNvPr id="707" name="11510" descr=""/>
          <p:cNvPicPr/>
          <p:nvPr/>
        </p:nvPicPr>
        <p:blipFill>
          <a:blip r:embed="rId2"/>
          <a:stretch/>
        </p:blipFill>
        <p:spPr>
          <a:xfrm>
            <a:off x="4800600" y="914400"/>
            <a:ext cx="4191120" cy="5943600"/>
          </a:xfrm>
          <a:prstGeom prst="rect">
            <a:avLst/>
          </a:prstGeom>
          <a:ln w="0">
            <a:noFill/>
          </a:ln>
        </p:spPr>
      </p:pic>
      <p:pic>
        <p:nvPicPr>
          <p:cNvPr id="708" name="shop_items_catalog_image1558%5B1%5D" descr=""/>
          <p:cNvPicPr/>
          <p:nvPr/>
        </p:nvPicPr>
        <p:blipFill>
          <a:blip r:embed="rId3"/>
          <a:stretch/>
        </p:blipFill>
        <p:spPr>
          <a:xfrm>
            <a:off x="0" y="2895480"/>
            <a:ext cx="2952720" cy="3810240"/>
          </a:xfrm>
          <a:prstGeom prst="rect">
            <a:avLst/>
          </a:prstGeom>
          <a:ln w="0">
            <a:noFill/>
          </a:ln>
        </p:spPr>
      </p:pic>
      <p:pic>
        <p:nvPicPr>
          <p:cNvPr id="709" name="83685%5B1%5D" descr=""/>
          <p:cNvPicPr/>
          <p:nvPr/>
        </p:nvPicPr>
        <p:blipFill>
          <a:blip r:embed="rId4"/>
          <a:stretch/>
        </p:blipFill>
        <p:spPr>
          <a:xfrm>
            <a:off x="152280" y="152280"/>
            <a:ext cx="2468520" cy="2743200"/>
          </a:xfrm>
          <a:prstGeom prst="rect">
            <a:avLst/>
          </a:prstGeom>
          <a:ln w="0">
            <a:noFill/>
          </a:ln>
        </p:spPr>
      </p:pic>
      <p:pic>
        <p:nvPicPr>
          <p:cNvPr id="710" name="132133" descr=""/>
          <p:cNvPicPr/>
          <p:nvPr/>
        </p:nvPicPr>
        <p:blipFill>
          <a:blip r:embed="rId5"/>
          <a:stretch/>
        </p:blipFill>
        <p:spPr>
          <a:xfrm>
            <a:off x="2743200" y="5486400"/>
            <a:ext cx="3200400" cy="1371600"/>
          </a:xfrm>
          <a:prstGeom prst="rect">
            <a:avLst/>
          </a:prstGeom>
          <a:ln w="0">
            <a:noFill/>
          </a:ln>
        </p:spPr>
      </p:pic>
      <p:pic>
        <p:nvPicPr>
          <p:cNvPr id="711" name="2346%5B1%5D" descr=""/>
          <p:cNvPicPr/>
          <p:nvPr/>
        </p:nvPicPr>
        <p:blipFill>
          <a:blip r:embed="rId6"/>
          <a:stretch/>
        </p:blipFill>
        <p:spPr>
          <a:xfrm>
            <a:off x="2590920" y="457200"/>
            <a:ext cx="2286000" cy="2666880"/>
          </a:xfrm>
          <a:prstGeom prst="rect">
            <a:avLst/>
          </a:prstGeom>
          <a:ln w="0">
            <a:noFill/>
          </a:ln>
        </p:spPr>
      </p:pic>
      <p:pic>
        <p:nvPicPr>
          <p:cNvPr id="712" name="iCALYN9NU" descr=""/>
          <p:cNvPicPr/>
          <p:nvPr/>
        </p:nvPicPr>
        <p:blipFill>
          <a:blip r:embed="rId7"/>
          <a:stretch/>
        </p:blipFill>
        <p:spPr>
          <a:xfrm>
            <a:off x="5791320" y="5486400"/>
            <a:ext cx="3352680" cy="1295280"/>
          </a:xfrm>
          <a:prstGeom prst="rect">
            <a:avLst/>
          </a:prstGeom>
          <a:ln w="0">
            <a:noFill/>
          </a:ln>
        </p:spPr>
      </p:pic>
      <p:pic>
        <p:nvPicPr>
          <p:cNvPr id="713" name="shmarinov3%5B1%5D" descr=""/>
          <p:cNvPicPr/>
          <p:nvPr/>
        </p:nvPicPr>
        <p:blipFill>
          <a:blip r:embed="rId8"/>
          <a:stretch/>
        </p:blipFill>
        <p:spPr>
          <a:xfrm>
            <a:off x="2971800" y="3124080"/>
            <a:ext cx="2133720" cy="236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Зуева Л.В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08301-A1D8-479B-A2C4-90E31C0397A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Georgia"/>
              </a:rPr>
              <a:t>Работа  в  группах </a:t>
            </a:r>
            <a:br>
              <a:rPr sz="3200"/>
            </a:br>
            <a:r>
              <a:rPr b="1" lang="en-US" sz="3600" spc="-1" strike="noStrike">
                <a:solidFill>
                  <a:srgbClr val="ffffcc"/>
                </a:solidFill>
                <a:latin typeface="Georgia"/>
              </a:rPr>
              <a:t>(составление и защита проекта)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1  групп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Georgia"/>
              </a:rPr>
              <a:t>Наташа  Ростов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2  групп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княжна Марья Болконск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3  групп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Элен,  Жюли Карагин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4  групп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Соня,  Вера Ростов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Зуева Л.В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D82AA-2DC4-4594-8AA5-1C0B35EF0C0D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763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Georgia"/>
              </a:rPr>
              <a:t>Делаем  выводы</a:t>
            </a:r>
            <a:br>
              <a:rPr sz="4200"/>
            </a:br>
            <a:r>
              <a:rPr b="1" lang="en-US" sz="3200" spc="-1" strike="noStrike">
                <a:solidFill>
                  <a:srgbClr val="6600ff"/>
                </a:solidFill>
                <a:latin typeface="Georgia"/>
              </a:rPr>
              <a:t>Каков  женский  идеал Л.Н. Толстого?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3200" spc="-1" strike="noStrike">
                <a:solidFill>
                  <a:srgbClr val="ebf25a"/>
                </a:solidFill>
                <a:latin typeface="Tahoma"/>
              </a:rPr>
              <a:t>Дочь – сестра – жена – мать</a:t>
            </a:r>
            <a:r>
              <a:rPr b="0" lang="en-US" sz="3200" spc="-1" strike="noStrike">
                <a:solidFill>
                  <a:srgbClr val="ebf25a"/>
                </a:solidFill>
                <a:latin typeface="Tahoma"/>
              </a:rPr>
              <a:t>  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такой  путь  проходят любимые героини  Л.Н. Толстог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4000" spc="-1" strike="noStrike">
                <a:solidFill>
                  <a:srgbClr val="ebf25a"/>
                </a:solidFill>
                <a:latin typeface="Georgia"/>
              </a:rPr>
              <a:t>Женщина – мать, жена –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идеал  писателя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Зуева Л.В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EA684-1C41-44D5-AB7F-670DF87C8302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eorgia"/>
              </a:rPr>
              <a:t>Домашнее  задание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Написать сочинение-рассуждени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«Роль  женщины  в  современном  мире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ил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дать  развёрнутый ответ на вопрос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    </a:t>
            </a:r>
            <a:r>
              <a:rPr b="0" lang="ru-RU" sz="3200" spc="-1" strike="noStrike">
                <a:solidFill>
                  <a:srgbClr val="ffffcc"/>
                </a:solidFill>
                <a:latin typeface="Georgia"/>
              </a:rPr>
              <a:t>«Нужны ли в наше  время Наташи Ростовы?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Зуева Л.В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0707E-86B1-4766-8803-02724D0D902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4582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914400" y="304920"/>
            <a:ext cx="7315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Garamond"/>
              </a:rPr>
              <a:t>БЛАГОДАРЮ</a:t>
            </a:r>
            <a:endParaRPr b="1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Garamond"/>
              <a:ea typeface="Garamond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685800" y="1447920"/>
            <a:ext cx="79246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за   работу !</a:t>
            </a:r>
            <a:endParaRPr b="1" lang="en-US" sz="5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24" name="04labs5kp1267200078%5B1%5D" descr=""/>
          <p:cNvPicPr/>
          <p:nvPr/>
        </p:nvPicPr>
        <p:blipFill>
          <a:blip r:embed="rId3"/>
          <a:stretch/>
        </p:blipFill>
        <p:spPr>
          <a:xfrm>
            <a:off x="380880" y="3200400"/>
            <a:ext cx="8153640" cy="3429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Зуева Л.В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81023-B88F-4B2F-82E3-CF60014D002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8" name="02labs5kp1267199672%5B1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9" name=""/>
          <p:cNvSpPr txBox="1"/>
          <p:nvPr/>
        </p:nvSpPr>
        <p:spPr>
          <a:xfrm>
            <a:off x="152280" y="-990720"/>
            <a:ext cx="845820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Georgia"/>
              </a:rPr>
              <a:t> </a:t>
            </a:r>
            <a:endParaRPr b="1" lang="en-US" sz="4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Georgia"/>
              </a:rPr>
              <a:t>женская тема</a:t>
            </a:r>
            <a:endParaRPr b="1" lang="en-US" sz="4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380880" y="2819520"/>
            <a:ext cx="83059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Georgia"/>
              </a:rPr>
              <a:t>в  романе  Л.Н.Толстого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Georgia"/>
              <a:ea typeface="Georgia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228600" y="5410080"/>
            <a:ext cx="86104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Georgia"/>
              </a:rPr>
              <a:t>"Война   и   мир"</a:t>
            </a:r>
            <a:endParaRPr b="1" lang="en-US" sz="5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Зуева Л.В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D3455-E48B-45D1-96D6-CF851C20482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en-US" sz="2800" spc="-1" strike="noStrike">
                <a:solidFill>
                  <a:srgbClr val="666633"/>
                </a:solidFill>
                <a:latin typeface="Georgia"/>
              </a:rPr>
              <a:t>Используемые ресурсы уро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762012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333300"/>
                </a:solidFill>
                <a:latin typeface="Georgia"/>
              </a:rPr>
              <a:t>1.  Серия «Школьная библиотека».  Л.Н. Толстой  «Война и мир». В четырёх томах.  Москва. Издательство «Просвещение». 1989 г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Georgia"/>
              </a:rPr>
              <a:t>  </a:t>
            </a:r>
            <a:r>
              <a:rPr b="0" lang="ru-RU" sz="1800" spc="-1" strike="noStrike">
                <a:solidFill>
                  <a:srgbClr val="333300"/>
                </a:solidFill>
                <a:latin typeface="Georgia"/>
              </a:rPr>
              <a:t>2.  Русская литература </a:t>
            </a:r>
            <a:r>
              <a:rPr b="0" lang="en-US" sz="1800" spc="-1" strike="noStrike">
                <a:solidFill>
                  <a:srgbClr val="333300"/>
                </a:solidFill>
                <a:latin typeface="Georgia"/>
              </a:rPr>
              <a:t>XIX </a:t>
            </a:r>
            <a:r>
              <a:rPr b="0" lang="ru-RU" sz="1800" spc="-1" strike="noStrike">
                <a:solidFill>
                  <a:srgbClr val="333300"/>
                </a:solidFill>
                <a:latin typeface="Georgia"/>
              </a:rPr>
              <a:t>века.  10 класс. Учебник для общеобразовательных учреждений. Базовый и профильный уровни. В двух частях. Под редакцией В.И Коровина.   Москва.  «Просвещение» 2008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Georgia"/>
              </a:rPr>
              <a:t>  </a:t>
            </a:r>
            <a:r>
              <a:rPr b="0" lang="ru-RU" sz="1800" spc="-1" strike="noStrike">
                <a:solidFill>
                  <a:srgbClr val="333300"/>
                </a:solidFill>
                <a:latin typeface="Georgia"/>
              </a:rPr>
              <a:t>3.  Н.В. Егорова, И.В. Золотарёва.  Поурочные разработки по литературе.  10  класс.  Москва.  «ВАКО»  2009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Georgia"/>
              </a:rPr>
              <a:t>  </a:t>
            </a:r>
            <a:r>
              <a:rPr b="0" lang="ru-RU" sz="1800" spc="-1" strike="noStrike">
                <a:solidFill>
                  <a:srgbClr val="333300"/>
                </a:solidFill>
                <a:latin typeface="Georgia"/>
              </a:rPr>
              <a:t>4.  Материалы Интернета: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Georgia"/>
              </a:rPr>
              <a:t>        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Georgia"/>
                <a:hlinkClick r:id="rId1"/>
              </a:rPr>
              <a:t>http://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Georgia"/>
                <a:hlinkClick r:id="rId2"/>
              </a:rPr>
              <a:t>ru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Georgia"/>
                <a:hlinkClick r:id="rId3"/>
              </a:rPr>
              <a:t>.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Georgia"/>
                <a:hlinkClick r:id="rId4"/>
              </a:rPr>
              <a:t>wikipedia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Georgia"/>
                <a:hlinkClick r:id="rId5"/>
              </a:rPr>
              <a:t>.org/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Georgia"/>
                <a:hlinkClick r:id="rId6"/>
              </a:rPr>
              <a:t>wiki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Georgia"/>
                <a:hlinkClick r:id="rId7"/>
              </a:rPr>
              <a:t>%CB</a:t>
            </a:r>
            <a:r>
              <a:rPr b="1" lang="en-US" sz="1800" spc="-1" strike="noStrike">
                <a:solidFill>
                  <a:srgbClr val="826000"/>
                </a:solidFill>
                <a:latin typeface="Georgia"/>
              </a:rPr>
              <a:t> 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Зуева Л.В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530D9-5266-48FF-AB66-53FE5F80887C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4" name="0018-018-Pisatel-reshaet-takie-filosofskie-voprosy-kak-chelovek-i-obschestvo" descr=""/>
          <p:cNvPicPr/>
          <p:nvPr/>
        </p:nvPicPr>
        <p:blipFill>
          <a:blip r:embed="rId1"/>
          <a:stretch/>
        </p:blipFill>
        <p:spPr>
          <a:xfrm>
            <a:off x="0" y="0"/>
            <a:ext cx="9601200" cy="6858000"/>
          </a:xfrm>
          <a:prstGeom prst="rect">
            <a:avLst/>
          </a:prstGeom>
          <a:ln w="0">
            <a:noFill/>
          </a:ln>
        </p:spPr>
      </p:pic>
      <p:sp>
        <p:nvSpPr>
          <p:cNvPr id="655" name=""/>
          <p:cNvSpPr/>
          <p:nvPr/>
        </p:nvSpPr>
        <p:spPr>
          <a:xfrm>
            <a:off x="762120" y="60199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8001d"/>
                </a:solidFill>
                <a:latin typeface="Verdana"/>
              </a:rPr>
              <a:t>                                      </a:t>
            </a:r>
            <a:r>
              <a:rPr b="1" lang="en-US" sz="2400" spc="-1" strike="noStrike">
                <a:solidFill>
                  <a:srgbClr val="7a0017"/>
                </a:solidFill>
                <a:latin typeface="Georgia"/>
              </a:rPr>
              <a:t>Это роман  о  роли  женщины  в  семье,  в   обществ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Зуева Л.В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8911D-ECB4-40E6-BEB5-D7644108302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657" name="scrn_big_3%5B1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28240" y="685440"/>
            <a:ext cx="84582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1400" spc="-1" strike="noStrike">
                <a:solidFill>
                  <a:srgbClr val="990000"/>
                </a:solidFill>
                <a:latin typeface="Verdana"/>
              </a:rPr>
              <a:t>Как много надо женщине!  Как  мало…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Verdana"/>
              </a:rPr>
              <a:t>  </a:t>
            </a:r>
            <a:r>
              <a:rPr b="1" lang="ru-RU" sz="1400" spc="-1" strike="noStrike">
                <a:solidFill>
                  <a:srgbClr val="990000"/>
                </a:solidFill>
                <a:latin typeface="Verdana"/>
              </a:rPr>
              <a:t>Чтобы  лучился  счастьем  её  взгляд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Verdana"/>
              </a:rPr>
              <a:t>  </a:t>
            </a:r>
            <a:r>
              <a:rPr b="1" lang="ru-RU" sz="1400" spc="-1" strike="noStrike">
                <a:solidFill>
                  <a:srgbClr val="990000"/>
                </a:solidFill>
                <a:latin typeface="Verdana"/>
              </a:rPr>
              <a:t>И  что ему нужна,  она  бы  знал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Verdana"/>
              </a:rPr>
              <a:t>  </a:t>
            </a:r>
            <a:r>
              <a:rPr b="1" lang="ru-RU" sz="1400" spc="-1" strike="noStrike">
                <a:solidFill>
                  <a:srgbClr val="990000"/>
                </a:solidFill>
                <a:latin typeface="Verdana"/>
              </a:rPr>
              <a:t>Она  простит, пусть  даже  виноват…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Verdana"/>
              </a:rPr>
              <a:t>  </a:t>
            </a:r>
            <a:r>
              <a:rPr b="1" lang="ru-RU" sz="1400" spc="-1" strike="noStrike">
                <a:solidFill>
                  <a:srgbClr val="990000"/>
                </a:solidFill>
                <a:latin typeface="Verdana"/>
              </a:rPr>
              <a:t>Как  мало  надо  женщине!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Verdana"/>
              </a:rPr>
              <a:t>  </a:t>
            </a:r>
            <a:r>
              <a:rPr b="1" lang="ru-RU" sz="1400" spc="-1" strike="noStrike">
                <a:solidFill>
                  <a:srgbClr val="990000"/>
                </a:solidFill>
                <a:latin typeface="Verdana"/>
              </a:rPr>
              <a:t>Как  много…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Зуева Л.В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4F2DF-0360-473D-9618-64C49EEEB69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 txBox="1"/>
          <p:nvPr/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52D16-CB9F-4C3F-9F38-7A3231D231E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53f35"/>
                </a:solidFill>
                <a:latin typeface="Arial"/>
              </a:rPr>
              <a:t>             </a:t>
            </a:r>
            <a:r>
              <a:rPr b="1" i="1" lang="en-US" sz="4400" spc="-1" strike="noStrike">
                <a:solidFill>
                  <a:srgbClr val="a47900"/>
                </a:solidFill>
                <a:latin typeface="Georgia"/>
              </a:rPr>
              <a:t>Цель  урока: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7650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53f35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8000"/>
                </a:solidFill>
                <a:latin typeface="Georgia"/>
              </a:rPr>
              <a:t>- </a:t>
            </a:r>
            <a:r>
              <a:rPr b="1" i="1" lang="en-US" sz="2800" spc="-1" strike="noStrike" u="sng">
                <a:solidFill>
                  <a:srgbClr val="008000"/>
                </a:solidFill>
                <a:uFillTx/>
                <a:latin typeface="Georgia"/>
              </a:rPr>
              <a:t>учебная:</a:t>
            </a:r>
            <a:r>
              <a:rPr b="1" i="1" lang="en-US" sz="2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Arial"/>
              </a:rPr>
              <a:t>     </a:t>
            </a:r>
            <a:r>
              <a:rPr b="1" i="1" lang="en-US" sz="2800" spc="-1" strike="noStrike">
                <a:solidFill>
                  <a:srgbClr val="008000"/>
                </a:solidFill>
                <a:latin typeface="Arial"/>
              </a:rPr>
              <a:t>раскрытие взгляда  писателя на роль  женщины в обществе, в семье;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008000"/>
                </a:solidFill>
                <a:latin typeface="Georgia"/>
              </a:rPr>
              <a:t>- </a:t>
            </a:r>
            <a:r>
              <a:rPr b="1" i="1" lang="en-US" sz="2800" spc="-1" strike="noStrike" u="sng">
                <a:solidFill>
                  <a:srgbClr val="008000"/>
                </a:solidFill>
                <a:uFillTx/>
                <a:latin typeface="Georgia"/>
              </a:rPr>
              <a:t>развивающая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008000"/>
                </a:solidFill>
                <a:latin typeface="Arial"/>
              </a:rPr>
              <a:t>развитие умений анализировать текст, сопоставлять, давать характеристику героя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008000"/>
                </a:solidFill>
                <a:latin typeface="Georgia"/>
              </a:rPr>
              <a:t>- </a:t>
            </a:r>
            <a:r>
              <a:rPr b="1" i="1" lang="en-US" sz="2800" spc="-1" strike="noStrike" u="sng">
                <a:solidFill>
                  <a:srgbClr val="008000"/>
                </a:solidFill>
                <a:uFillTx/>
                <a:latin typeface="Georgia"/>
              </a:rPr>
              <a:t>воспитывающая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008000"/>
                </a:solidFill>
                <a:latin typeface="Arial"/>
              </a:rPr>
              <a:t>воспитание женщины-дочери, матери, жены, сестры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663" name="11510" descr=""/>
          <p:cNvPicPr/>
          <p:nvPr/>
        </p:nvPicPr>
        <p:blipFill>
          <a:blip r:embed="rId1"/>
          <a:stretch/>
        </p:blipFill>
        <p:spPr>
          <a:xfrm>
            <a:off x="6248520" y="3733920"/>
            <a:ext cx="152388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Verdana"/>
              </a:rPr>
              <a:t>      </a:t>
            </a:r>
            <a:r>
              <a:rPr b="1" lang="en-US" sz="2400" spc="-1" strike="noStrike">
                <a:solidFill>
                  <a:srgbClr val="006666"/>
                </a:solidFill>
                <a:latin typeface="Georgia"/>
              </a:rPr>
              <a:t>Начнём  с «мудрых»  мыслей и  их  преломлении в  романе Толстого «Война и мир»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4761000"/>
          </a:xfrm>
          <a:prstGeom prst="rect">
            <a:avLst/>
          </a:prstGeom>
          <a:noFill/>
          <a:ln w="9360">
            <a:solidFill>
              <a:srgbClr val="0066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Georgia"/>
              </a:rPr>
              <a:t>        </a:t>
            </a:r>
            <a:r>
              <a:rPr b="1" i="1" lang="en-US" sz="2000" spc="-1" strike="noStrike">
                <a:solidFill>
                  <a:srgbClr val="ff3300"/>
                </a:solidFill>
                <a:latin typeface="Georgia"/>
              </a:rPr>
              <a:t>«Мужчина  и женщина – это две ноты, без которых струны человеческого сердца не дают правильного и полного аккорда» (Д.Мадзини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Georgia"/>
              </a:rPr>
              <a:t>         </a:t>
            </a:r>
            <a:r>
              <a:rPr b="1" i="1" lang="en-US" sz="2000" spc="-1" strike="noStrike">
                <a:solidFill>
                  <a:srgbClr val="ff3300"/>
                </a:solidFill>
                <a:latin typeface="Georgia"/>
              </a:rPr>
              <a:t>«Любовь – это желание жить» (К. Тилье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Georgia"/>
              </a:rPr>
              <a:t>         </a:t>
            </a:r>
            <a:r>
              <a:rPr b="1" i="1" lang="en-US" sz="2000" spc="-1" strike="noStrike">
                <a:solidFill>
                  <a:srgbClr val="ff3300"/>
                </a:solidFill>
                <a:latin typeface="Georgia"/>
              </a:rPr>
              <a:t>«Любовь одна, но подделок под нее – тысячи» (Ф. Ларошфуко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66" name="0_8f529_80654cba_L" descr=""/>
          <p:cNvPicPr/>
          <p:nvPr/>
        </p:nvPicPr>
        <p:blipFill>
          <a:blip r:embed="rId2"/>
          <a:stretch/>
        </p:blipFill>
        <p:spPr>
          <a:xfrm>
            <a:off x="0" y="4114800"/>
            <a:ext cx="3962520" cy="2438280"/>
          </a:xfrm>
          <a:prstGeom prst="rect">
            <a:avLst/>
          </a:prstGeom>
          <a:ln w="0">
            <a:noFill/>
          </a:ln>
        </p:spPr>
      </p:pic>
      <p:pic>
        <p:nvPicPr>
          <p:cNvPr id="667" name="iCAFV046P" descr=""/>
          <p:cNvPicPr/>
          <p:nvPr/>
        </p:nvPicPr>
        <p:blipFill>
          <a:blip r:embed="rId3"/>
          <a:stretch/>
        </p:blipFill>
        <p:spPr>
          <a:xfrm>
            <a:off x="5105520" y="4114800"/>
            <a:ext cx="3886200" cy="2438280"/>
          </a:xfrm>
          <a:prstGeom prst="rect">
            <a:avLst/>
          </a:prstGeom>
          <a:ln w="0">
            <a:noFill/>
          </a:ln>
        </p:spPr>
      </p:pic>
      <p:pic>
        <p:nvPicPr>
          <p:cNvPr id="668" name="2568540-adeff1b82b1d3b7c" descr=""/>
          <p:cNvPicPr/>
          <p:nvPr/>
        </p:nvPicPr>
        <p:blipFill>
          <a:blip r:embed="rId4"/>
          <a:stretch/>
        </p:blipFill>
        <p:spPr>
          <a:xfrm>
            <a:off x="4038480" y="50292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669" name="2454768-4052d81e590953e3" descr=""/>
          <p:cNvPicPr/>
          <p:nvPr/>
        </p:nvPicPr>
        <p:blipFill>
          <a:blip r:embed="rId5"/>
          <a:stretch/>
        </p:blipFill>
        <p:spPr>
          <a:xfrm>
            <a:off x="0" y="152280"/>
            <a:ext cx="144792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Зуева Л.В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B2A76-A4A8-4C73-8A1A-4374408DE30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Этап  «погружения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76312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Женская  тема  в  творчестве  Л.Н.Толстог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2" name="02labs5kp1267199672%5B1%5D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18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Зуева Л.В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9B873-553A-430E-9035-D7C327E5C08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Актуальность  тем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7596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«Война и мир» - полемически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ответ писателя  сторонникам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женской эмансипаци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Женские  образы в роман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относятся  как  бы к дву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«полюсам»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- «любимые»  героин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- «нелюбимые» героин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5" name="0000002382%5B1%5D" descr=""/>
          <p:cNvPicPr/>
          <p:nvPr/>
        </p:nvPicPr>
        <p:blipFill>
          <a:blip r:embed="rId1"/>
          <a:stretch/>
        </p:blipFill>
        <p:spPr>
          <a:xfrm>
            <a:off x="5562720" y="1066680"/>
            <a:ext cx="3581280" cy="541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Зуева Л.В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20F93-2AF3-4585-B7DD-C4B80BC4ACA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«НЕЛЮБИМЫЕ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876920" y="1295280"/>
            <a:ext cx="4038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ногочисленные  типы  великосветских  красавиц,  хозяек великолепных салонов в Петербурге и Москве – </a:t>
            </a:r>
            <a:r>
              <a:rPr b="1" lang="en-US" sz="2400" spc="-1" strike="noStrike">
                <a:solidFill>
                  <a:srgbClr val="d9d400"/>
                </a:solidFill>
                <a:latin typeface="Georgia"/>
              </a:rPr>
              <a:t>ЭЛЕН,  АННА  ПАВЛОВНА  ШЕРЕР,  ЖЮЛИ  КАРАГИНА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Мечтает о своём салоне холодная и апатичная </a:t>
            </a:r>
            <a:r>
              <a:rPr b="1" lang="en-US" sz="2400" spc="-1" strike="noStrike">
                <a:solidFill>
                  <a:srgbClr val="d9d400"/>
                </a:solidFill>
                <a:latin typeface="Georgia"/>
              </a:rPr>
              <a:t>ВЕРА  БЕР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8" name="0_8f529_80654cba_L" descr=""/>
          <p:cNvPicPr/>
          <p:nvPr/>
        </p:nvPicPr>
        <p:blipFill>
          <a:blip r:embed="rId1"/>
          <a:stretch/>
        </p:blipFill>
        <p:spPr>
          <a:xfrm>
            <a:off x="0" y="1143000"/>
            <a:ext cx="4419720" cy="2743200"/>
          </a:xfrm>
          <a:prstGeom prst="rect">
            <a:avLst/>
          </a:prstGeom>
          <a:ln w="0">
            <a:noFill/>
          </a:ln>
        </p:spPr>
      </p:pic>
      <p:pic>
        <p:nvPicPr>
          <p:cNvPr id="679" name="8d5ac02102da%5B1%5D" descr=""/>
          <p:cNvPicPr/>
          <p:nvPr/>
        </p:nvPicPr>
        <p:blipFill>
          <a:blip r:embed="rId2"/>
          <a:stretch/>
        </p:blipFill>
        <p:spPr>
          <a:xfrm>
            <a:off x="2590920" y="1066680"/>
            <a:ext cx="2438280" cy="2971800"/>
          </a:xfrm>
          <a:prstGeom prst="rect">
            <a:avLst/>
          </a:prstGeom>
          <a:ln w="0">
            <a:noFill/>
          </a:ln>
        </p:spPr>
      </p:pic>
      <p:pic>
        <p:nvPicPr>
          <p:cNvPr id="680" name="0_4fc41_92093d54_XL%5B1%5D" descr=""/>
          <p:cNvPicPr/>
          <p:nvPr/>
        </p:nvPicPr>
        <p:blipFill>
          <a:blip r:embed="rId3"/>
          <a:stretch/>
        </p:blipFill>
        <p:spPr>
          <a:xfrm>
            <a:off x="1066680" y="3886200"/>
            <a:ext cx="2667240" cy="2895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Зуева Л.В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E768A-121C-4790-BB6B-6E25D6D3C4F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2T06:26:47Z</dcterms:created>
  <dc:creator>ЛЮДМИЛА</dc:creator>
  <dc:description/>
  <dc:language>en-US</dc:language>
  <cp:lastModifiedBy>Di</cp:lastModifiedBy>
  <dcterms:modified xsi:type="dcterms:W3CDTF">2012-05-02T15:04:35Z</dcterms:modified>
  <cp:revision>77</cp:revision>
  <dc:subject>Уроки литературы в 10 классе</dc:subject>
  <dc:title>Женская тема в романе Толстого "Война и мир"</dc:title>
</cp:coreProperties>
</file>