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52F-E97D-453E-83C1-4484650E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CBD-D6E1-4A7D-A808-BA92BB88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B72-03E2-48F3-942F-94907B32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995-36B7-42A2-B3E1-85B2518C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211E-A67D-4478-AB0A-84662620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1366-EDDB-481B-8DDF-EAFA81D2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7A60-EC93-4867-BD9B-8B26D534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7516-5804-4C1B-9231-9E887C14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44D0-28EF-4CE4-9BF2-39AD4318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01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865C-F4EF-452E-9F78-F45633C1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0330-9BFE-47CB-A8BC-1E617D54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28F-1C7F-4D63-B5A3-FE00255F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70BB-BF3A-4FA3-8538-D23BCD3F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D24F-E24F-4947-AC05-C564C522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A9E2-549A-4E19-B02D-0AD5F3CE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69CD-C918-4C7F-991C-F55D60D5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524E-30A5-4B1B-B0EB-B11854C9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1A1-6EE9-4437-9522-4DDD652D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1E4-8AAB-4F12-B1B8-6B147178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8E29-01FB-40A0-A87E-A5437A43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066-3ADD-4FAC-88CB-FE6F7D84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3EA-4A81-480E-A4DF-DF1F95A1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6F5A-BF00-423C-9FE0-188723B9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76C-949E-44DB-8518-77631A63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358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32A5-8338-4F36-9969-99D078017D80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1465200" cy="68565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0" y="1573200"/>
              <a:ext cx="146052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0" y="2376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360" y="331308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501660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576440" y="3079800"/>
              <a:ext cx="7566120" cy="189000"/>
              <a:chOff x="1576440" y="3079800"/>
              <a:chExt cx="7566120" cy="189000"/>
            </a:xfrm>
          </p:grpSpPr>
          <p:sp>
            <p:nvSpPr>
              <p:cNvPr id="62" name=""/>
              <p:cNvSpPr/>
              <p:nvPr/>
            </p:nvSpPr>
            <p:spPr>
              <a:xfrm>
                <a:off x="1581120" y="309096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585800" y="32655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585800" y="32274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585800" y="31798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85800" y="31258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76440" y="307980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358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8EC0-30DF-4E97-B038-58EF555D3623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"Русские народные обряды</a:t>
            </a:r>
            <a:br>
              <a:rPr sz="4800"/>
            </a:b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 в годовом православном круге"</a:t>
            </a:r>
            <a:br>
              <a:rPr sz="4800"/>
            </a:b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057400" y="3357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Times New Roman"/>
              </a:rPr>
              <a:t>Урок музыки в 4 класс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467352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Как много бед прошло над Рус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А песня русская – ж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 rot="318600">
            <a:off x="4787640" y="1557000"/>
            <a:ext cx="4079880" cy="4114800"/>
          </a:xfrm>
          <a:prstGeom prst="rect">
            <a:avLst/>
          </a:prstGeom>
          <a:ln w="28440">
            <a:solidFill>
              <a:srgbClr val="3333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716360" y="580536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Кустодиев. Троицын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21252600">
            <a:off x="179280" y="2205000"/>
            <a:ext cx="4319640" cy="343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324000" y="5805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.Суходольский. Троицын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3300"/>
                </a:solidFill>
                <a:latin typeface="Times New Roman"/>
              </a:rPr>
              <a:t>Покров - зазимье </a:t>
            </a:r>
            <a:r>
              <a:rPr b="0" i="1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11640" y="1981080"/>
            <a:ext cx="446400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енью праздновался 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Покров Пресвятой Богородиц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— праздник, установленный в память о событии, происшедшем в Константинополе в середине Х век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 городу приближалось многочисленное вражеское войско, и во время богослужения во Влахернском храме, когда весь народ молитвенно просил о Небесной помощи, святой Андрей Юродивый и его ученик Епифаний вдруг увидели в воздухе над молящимися Божию Матерь, Которая распростерла Свой покров (омофор) над людь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ди ободрились и бросились в атаку на враг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стантинополь был спасе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ноголосый хор молящихся обращается к Небесной Владычице: «Покрый нас честным Твоим покровом, и избави нас от всякого зла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3633480" cy="439236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83040" y="1916280"/>
            <a:ext cx="3664080" cy="4392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39640" y="1916280"/>
            <a:ext cx="3633840" cy="439236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9280" y="2133720"/>
            <a:ext cx="309744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Руси этот праздник широко отмечался в крестьянском быту, вобрав в себя многие обряды древнеславянских осенних празднеств в ознаменование окончания полевых работ. С Покрова начинали играть по деревням свадьбы. Его отмечают с ХII века. Это первое зазимье, возможное наступление холодов и заморозков. В народе говорят: «На Покров: до обеда осень, после обеда – зима». Именно к этому времени оканчивались все полевые работы, и во многих местах начинались осенние торги, ярмарк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492360" y="2060640"/>
            <a:ext cx="5427720" cy="409104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3492360" y="616572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М.Кустодиев. Ярмарка. 190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3300"/>
                </a:solidFill>
                <a:latin typeface="Times New Roman"/>
              </a:rPr>
              <a:t>Рождество Христово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16000" y="1980720"/>
            <a:ext cx="381636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в середине зимы на Руси праздновали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Рождество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Христо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его еще называют «матерью всех праздников». Значение святой рождественской ночи столь велико, что даже ход новой истории и наше летосчисление ведем мы от Рождества Христова. Потому что Иисус Христос – Дух, родившийся во плоти на Земле, чтобы принять на себя и искупить грехи человечест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3751200" cy="49672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179280" y="64263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.Рублёв. Рождество Христово. Икона. Первая половин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00720" y="1980720"/>
            <a:ext cx="424800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Зимние Свят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праздник многослойный, вобравший в себя обряды и обычаи, связанные с мифологическими и религиозными представлениями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Календарные обряд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олжны были обеспечить урожайный год, который принесёт благополучие и радость в каждую семью. Поэтому и исполнять их начинали с рубежа старого и нового года, на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Свят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длящиеся 12 дней между праздниками Рождества и Крещения Господня. По дворам ходили ряженые. Наряжались животными (козой, конем, медведем), стариками и старухами (часто ещё и мужчина представлял женщину, и наоборот), порой просто надевали шубы мехом наружу, а лица прятали под страшными масками или обсыпали мукой и сажей. Ряженые ходили от избы к избе и пели под окнами или в домах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ляд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4464000" cy="4248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76720" y="2276640"/>
            <a:ext cx="5500440" cy="3749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276720" y="609300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Трутовский. Коля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2754360" cy="422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9280" y="2060280"/>
            <a:ext cx="388800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лендарные ритуалы по-своему организовывали крестьянский быт. Без них мир распался бы для крестьянина на хаотичные и неуправляемые враждебные силы, готовые уничтожить саму жизнь. И магически и поэтически песни комментировали обрядовые действия, а те, в свою очередь, организовывали крестьянский быт природосообразно, т.к человек во многом зависел  от природы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 rot="549600">
            <a:off x="4356000" y="2707920"/>
            <a:ext cx="4367160" cy="2914560"/>
          </a:xfrm>
          <a:prstGeom prst="rect">
            <a:avLst/>
          </a:prstGeom>
          <a:ln w="28440">
            <a:solidFill>
              <a:srgbClr val="0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6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6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4537080" cy="4173480"/>
          </a:xfrm>
          <a:prstGeom prst="rect">
            <a:avLst/>
          </a:prstGeom>
          <a:ln w="38160">
            <a:solidFill>
              <a:srgbClr val="3333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250920" y="2637000"/>
            <a:ext cx="4249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Народные песни! Какие они разны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сли в песне слышна неприкрытая грусть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устью, кажется, полнится возду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сли удаль теснит молодецкую грудь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ляшут вечер и синие звёз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старушка Земля всё никак не поймё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чём же кроется тайна Ро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 ли песня прекрасна, а то ли народ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спевающий песни так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. Г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3300"/>
                </a:solidFill>
                <a:latin typeface="Times New Roman"/>
              </a:rPr>
              <a:t>Цели урока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комство с духовно-нравственными корнями русского на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бщение и расширение представления учащихся о народных праздниках и христианских православных традици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патриотизма, нравственности, интереса и уважения к истории и обычаям родной страны через русские обрядовые пес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художественно - эстетического вкуса, культуры исполнения, слушания, игры на русских музыкальных инструмент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99640" y="1916280"/>
            <a:ext cx="3527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 откуда, русск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родилась, музык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 ли в поле чист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 ли в лесе мглистом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радости ли? В бол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ли в птичьем свисте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 скажи, отку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усть в тебе и удаль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чьём ты сердце билас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самого начал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 же ты явилась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 ты зазвучал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летели утки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ронили дуд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летели гуси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ронили гусл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х порою веш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шли, не удивили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у, а песн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пес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Руси родили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еннадий Серебря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95640" y="1628640"/>
            <a:ext cx="4497480" cy="468000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2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4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2133720"/>
            <a:ext cx="36720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ря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особым образом высказанная просьба, направленная в иной ми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каждый из праздников совершались определённые обрядовые действия и пелись приуроченные к этому празднику песни. Цель всех обрядов была одна – способствовать жизненному благополучию крестьян. Поэтому календарным песням свойственно не только торжество смысла, но и определённое единство музыкального напев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важные моменты в жизни человека, от рождения до смерти, а также многие календарные даты в старину сопровождались обрядами, и почти при всех обрядах исполнялись песн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2762280" cy="360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659640" y="2565360"/>
            <a:ext cx="2266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Times New Roman"/>
              </a:rPr>
              <a:t>Честная госпожа Масленица</a:t>
            </a: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5256360" cy="3884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250920" y="616572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сленица Б.М.Кустод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80000" y="2133720"/>
            <a:ext cx="331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аслен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ядовый славянский праздник, самый весёлый, или вернее – разгульный народный праздник, который дошел и до наших врем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аслениц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озорное и весёлое прощание с зимой и встреча весны, несущая оживление в природе и солнечное тепло. Люди испокон веков воспринимали весну, как начало новой жизни и почитали Солнце, дающее жизнь и силы всему жив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635280" y="2421000"/>
            <a:ext cx="5307120" cy="38545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3605400" cy="317520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324000" y="4890960"/>
            <a:ext cx="30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М.Кустодиев. Авто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62578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стодиев Б.М. Масленица. 191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Times New Roman"/>
              </a:rPr>
              <a:t>Троица – Зелёные Святки</a:t>
            </a: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388800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5950080"/>
            <a:ext cx="47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.Суходольский. Троицын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140360" y="2133720"/>
            <a:ext cx="4789440" cy="380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324000" y="2133720"/>
            <a:ext cx="3743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езапамятных времен является одним из любимейших праздников русского народа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Троицын день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 ним связано и до сих пор много народных обычаев и обрядов, справляемых помимо церковного торж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оица - очень красивый праздник. Дома и храмы украшают ветками, травой, цветами. И это неслучайно. Зелень, цветы символизируют жизнь. Так люди выражают радость и благодарность Богу за то, что Он возродил их через крещение в новую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609300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Рублёв. Троица Ветхозаве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иконы Андрея Рублёва"/>
          <p:cNvPicPr/>
          <p:nvPr/>
        </p:nvPicPr>
        <p:blipFill>
          <a:blip r:embed="rId2"/>
          <a:stretch/>
        </p:blipFill>
        <p:spPr>
          <a:xfrm>
            <a:off x="826920" y="1773360"/>
            <a:ext cx="3513240" cy="43196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148360" y="1484280"/>
            <a:ext cx="351612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5219640" y="6237360"/>
            <a:ext cx="33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конописец, художник-монументали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360-е-1127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11280" y="1981080"/>
            <a:ext cx="34560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оляне девушки плели венки из травы и цветов. Если рядом была речка, загадывали желание: если венок не тонул, плыл — желание исполнится; если тонул – не исполнится. Берёзку украшали лентами венками, ветки берёзы завивали венком, но не ломали их. Девушки целовались сквозь ветви березы. Шумно и весело проходит Троица. Утром все спешат в храм на праздничную службу. А после нее устраивают народное веселье с хороводами, играми, песня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1341360"/>
            <a:ext cx="4572000" cy="4610160"/>
          </a:xfrm>
          <a:prstGeom prst="rect">
            <a:avLst/>
          </a:prstGeom>
          <a:ln w="28440">
            <a:solidFill>
              <a:srgbClr val="3333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211640" y="6021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Кустодиев. Троицын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15:56:37Z</dcterms:created>
  <dc:creator>я</dc:creator>
  <dc:description/>
  <cp:keywords/>
  <dc:language>en-US</dc:language>
  <cp:lastModifiedBy>эксперт</cp:lastModifiedBy>
  <dcterms:modified xsi:type="dcterms:W3CDTF">2012-12-11T17:04:02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801049</vt:lpwstr>
  </property>
</Properties>
</file>