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43E-B11D-4F7D-953F-95BD71DC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05E-6ACD-4D55-8A89-8994C3E0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0DF-07C5-40DD-AA58-F73D8CA6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DBD-94C5-401F-88D3-0432B27A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8165-5700-4E74-A0A6-F270A8BF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3EED-10FA-4C40-9892-349B5881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6E08-1AE6-45C0-AEEE-4279728D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28AD-17F2-4CC7-AEC2-B2B2EEDB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00A9-D14F-4642-B06B-A277278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DCCC-9240-4823-86B2-6C9D5CD0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2FC9-B24A-455C-BAF3-C2A6DE52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2EC-4B4B-4BD2-9D51-68D96ABD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0568-C369-4BDE-A9DE-30029798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C921-2CDB-4F04-8ED3-61989FC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8CC-4EE3-44C1-A45A-613E6C3D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1247-0B2E-4151-9F5B-34514CE2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CB0E-33B1-4416-ADEA-D31C85EE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5D8-4446-41F7-8A02-E484C15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03F-6211-458A-97E9-ED6DF214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5C8-9CF3-4BCC-8292-26545EF6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7B1-3695-4D51-9D21-DF4FEDE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E11-1DD9-4B5E-9889-3D07DDA3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7C3-36AA-4888-86D0-4D0BF6F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F8F-6B42-41A7-8AA6-C1EE2577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B43C-1538-4F24-A389-7C43390747C4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1465200" cy="6856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157320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2376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360" y="331308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501660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576440" y="3079800"/>
              <a:ext cx="7566120" cy="189000"/>
              <a:chOff x="1576440" y="3079800"/>
              <a:chExt cx="7566120" cy="189000"/>
            </a:xfrm>
          </p:grpSpPr>
          <p:sp>
            <p:nvSpPr>
              <p:cNvPr id="62" name=""/>
              <p:cNvSpPr/>
              <p:nvPr/>
            </p:nvSpPr>
            <p:spPr>
              <a:xfrm>
                <a:off x="1581120" y="309096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85800" y="32655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85800" y="32274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85800" y="3179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85800" y="3125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76440" y="307980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18FC-1327-4440-8980-34B238A80774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"Русские народные обряды</a:t>
            </a:r>
            <a:br>
              <a:rPr sz="4800"/>
            </a:b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 в годовом православном круге"</a:t>
            </a:r>
            <a:br>
              <a:rPr sz="4800"/>
            </a:b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057400" y="3357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Times New Roman"/>
              </a:rPr>
              <a:t>Урок музыки в 4 клас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467352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Как много бед прошло над Рус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А песня русская – ж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318600">
            <a:off x="4787640" y="1557000"/>
            <a:ext cx="4079880" cy="411480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716360" y="580536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Кустодиев. Троицын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21252600">
            <a:off x="179280" y="2205000"/>
            <a:ext cx="4319640" cy="343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24000" y="580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Суходольский. Троицын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3300"/>
                </a:solidFill>
                <a:latin typeface="Times New Roman"/>
              </a:rPr>
              <a:t>Покров - зазимье </a:t>
            </a:r>
            <a:r>
              <a:rPr b="0" i="1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11640" y="1981080"/>
            <a:ext cx="44640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енью праздновался 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Покров Пресвятой Богородиц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— праздник, установленный в память о событии, происшедшем в Константинополе в середине Х век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городу приближалось многочисленное вражеское войско, и во время богослужения во Влахернском храме, когда весь народ молитвенно просил о Небесной помощи, святой Андрей Юродивый и его ученик Епифаний вдруг увидели в воздухе над молящимися Божию Матерь, Которая распростерла Свой покров (омофор) над людь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и ободрились и бросились в атаку на враг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стантинополь был спасе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ноголосый хор молящихся обращается к Небесной Владычице: «Покрый нас честным Твоим покровом, и избави нас от всякого зл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3633480" cy="439236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83040" y="1916280"/>
            <a:ext cx="3664080" cy="4392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3633840" cy="439236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309744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уси этот праздник широко отмечался в крестьянском быту, вобрав в себя многие обряды древнеславянских осенних празднеств в ознаменование окончания полевых работ. С Покрова начинали играть по деревням свадьбы. Его отмечают с ХII века. Это первое зазимье, возможное наступление холодов и заморозков. В народе говорят: «На Покров: до обеда осень, после обеда – зима». Именно к этому времени оканчивались все полевые работы, и во многих местах начинались осенние торги, ярмар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492360" y="2060640"/>
            <a:ext cx="5427720" cy="409104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3492360" y="616572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М.Кустодиев. Ярмарка. 19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3300"/>
                </a:solidFill>
                <a:latin typeface="Times New Roman"/>
              </a:rPr>
              <a:t>Рождество Христово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16000" y="1980720"/>
            <a:ext cx="381636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в середине зимы на Руси праздновали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Рождество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Христо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его еще называют «матерью всех праздников». Значение святой рождественской ночи столь велико, что даже ход новой истории и наше летосчисление ведем мы от Рождества Христова. Потому что Иисус Христос – Дух, родившийся во плоти на Земле, чтобы принять на себя и искупить грехи человече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751200" cy="49672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79280" y="64263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.Рублёв. Рождество Христово. Икона. Первая полови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00720" y="1980720"/>
            <a:ext cx="42480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Зимние Свят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праздник многослойный, вобравший в себя обряды и обычаи, связанные с мифологическими и религиозными представлениям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Календарные обря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лжны были обеспечить урожайный год, который принесёт благополучие и радость в каждую семью. Поэтому и исполнять их начинали с рубежа старого и нового года, на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Свят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длящиеся 12 дней между праздниками Рождества и Крещения Господня. По дворам ходили ряженые. Наряжались животными (козой, конем, медведем), стариками и старухами (часто ещё и мужчина представлял женщину, и наоборот), порой просто надевали шубы мехом наружу, а лица прятали под страшными масками или обсыпали мукой и сажей. Ряженые ходили от избы к избе и пели под окнами или в дома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ляд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4464000" cy="424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5500440" cy="374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276720" y="609300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Трутовский. Кол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2754360" cy="422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38880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лендарные ритуалы по-своему организовывали крестьянский быт. Без них мир распался бы для крестьянина на хаотичные и неуправляемые враждебные силы, готовые уничтожить саму жизнь. И магически и поэтически песни комментировали обрядовые действия, а те, в свою очередь, организовывали крестьянский быт природосообразно, т.к человек во многом зависел  от природы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rot="549600">
            <a:off x="4356000" y="2707920"/>
            <a:ext cx="4367160" cy="2914560"/>
          </a:xfrm>
          <a:prstGeom prst="rect">
            <a:avLst/>
          </a:prstGeom>
          <a:ln w="2844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6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537080" cy="4173480"/>
          </a:xfrm>
          <a:prstGeom prst="rect">
            <a:avLst/>
          </a:prstGeom>
          <a:ln w="38160">
            <a:solidFill>
              <a:srgbClr val="3333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250920" y="2637000"/>
            <a:ext cx="4249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Народные песни! Какие они разны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в песне слышна неприкрытая грусть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стью, кажется, полнится возду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удаль теснит молодецкую грудь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яшут вечер и синие звёз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старушка Земля всё никак не поймё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чём же кроется тайна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 ли песня прекрасна, а то ли наро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спевающий песни та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. Г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3300"/>
                </a:solidFill>
                <a:latin typeface="Times New Roman"/>
              </a:rPr>
              <a:t>Цели урока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ство с духовно-нравственными корнями русского на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бщение и расширение представления учащихся о народных праздниках и христианских православных традиц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патриотизма, нравственности, интереса и уважения к истории и обычаям родной страны через русские обрядовые пес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художественно - эстетического вкуса, культуры исполнения, слушания, игры на русских музыкальных инструмент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3527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 откуда, рус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родилась, музык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 ли в поле чист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 ли в лесе мглистом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радости ли? В бол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ли в птичьем свист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 скажи, отку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сть в тебе и удал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чьём ты сердце билас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самого нач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же ты явилас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ты зазвуч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летели утки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нили дуд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летели гуси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нили гусл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порою веш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шли, не удивили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у, а песн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пес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Руси родили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еннадий Серебря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4497480" cy="468000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36720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особым образом высказанная просьба, направленная в иной ми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аждый из праздников совершались определённые обрядовые действия и пелись приуроченные к этому празднику песни. Цель всех обрядов была одна – способствовать жизненному благополучию крестьян. Поэтому календарным песням свойственно не только торжество смысла, но и определённое единство музыкального напе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ажные моменты в жизни человека, от рождения до смерти, а также многие календарные даты в старину сопровождались обрядами, и почти при всех обрядах исполнялись пес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2762280" cy="36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266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imes New Roman"/>
              </a:rPr>
              <a:t>Честная госпожа Масленица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5256360" cy="3884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50920" y="616572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леница Б.М.Кустод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2133720"/>
            <a:ext cx="331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асле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ядовый славянский праздник, самый весёлый, или вернее – разгульный народный праздник, который дошел и до наших вре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аслен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озорное и весёлое прощание с зимой и встреча весны, несущая оживление в природе и солнечное тепло. Люди испокон веков воспринимали весну, как начало новой жизни и почитали Солнце, дающее жизнь и силы всему жив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35280" y="2421000"/>
            <a:ext cx="5307120" cy="38545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3605400" cy="317520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24000" y="4890960"/>
            <a:ext cx="30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М.Кустодиев. 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6257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стодиев Б.М. Масленица. 191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imes New Roman"/>
              </a:rPr>
              <a:t>Троица – Зелёные Святки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8880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595008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Суходольский. Троицын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4789440" cy="38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24000" y="2133720"/>
            <a:ext cx="374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езапамятных времен является одним из любимейших праздников русского народ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Троицын день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ним связано и до сих пор много народных обычаев и обрядов, справляемых помимо церковного тор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оица - очень красивый праздник. Дома и храмы украшают ветками, травой, цветами. И это неслучайно. Зелень, цветы символизируют жизнь. Так люди выражают радость и благодарность Богу за то, что Он возродил их через крещение в нову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6093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Рублёв. Троица Ветхозаве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иконы Андрея Рублёва"/>
          <p:cNvPicPr/>
          <p:nvPr/>
        </p:nvPicPr>
        <p:blipFill>
          <a:blip r:embed="rId2"/>
          <a:stretch/>
        </p:blipFill>
        <p:spPr>
          <a:xfrm>
            <a:off x="826920" y="1773360"/>
            <a:ext cx="3513240" cy="4319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351612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219640" y="623736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конописец, художник-монументал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360-е-1127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1981080"/>
            <a:ext cx="34560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оляне девушки плели венки из травы и цветов. Если рядом была речка, загадывали желание: если венок не тонул, плыл — желание исполнится; если тонул – не исполнится. Берёзку украшали лентами венками, ветки берёзы завивали венком, но не ломали их. Девушки целовались сквозь ветви березы. Шумно и весело проходит Троица. Утром все спешат в храм на праздничную службу. А после нее устраивают народное веселье с хороводами, играми, песн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4572000" cy="461016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211640" y="6021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Кустодиев. Троицын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5:56:37Z</dcterms:created>
  <dc:creator>я</dc:creator>
  <dc:description/>
  <cp:keywords/>
  <dc:language>en-US</dc:language>
  <cp:lastModifiedBy>эксперт</cp:lastModifiedBy>
  <dcterms:modified xsi:type="dcterms:W3CDTF">2012-12-11T17:04:02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01049</vt:lpwstr>
  </property>
</Properties>
</file>