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CAA1-C983-4364-96AC-F05B76867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0EEF-306A-4D02-B34F-88DD5BD66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87D-4E90-441B-A8FF-313E5FA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22B-1BAE-4409-A994-DE2C854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ADD-75B7-4818-BFD5-AB91C6E2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FEC-55BD-4F30-B956-EA05C8AC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4D8E-8B32-485C-A97B-E665C415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00A-E17B-4F4B-B3F5-71B70707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B37-8D0A-49B3-9D24-3DF911F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DEE-1A3F-4D86-91F3-B85DC5C0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9F76-4B16-44A5-B552-DEC451C6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F574-48E1-48A1-A3B2-359E921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38CC-8E0E-44D9-89C2-7741563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948-98D3-466C-993D-6935157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7000-A8C0-4B30-92E7-03A738E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E96C-3C19-49FA-B441-46D9536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277-5369-4296-95A2-26995EF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65BB-1136-474B-B64B-9621DD91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C523-96E9-450A-BBA9-D9F1903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C66-47A0-4BF4-9751-3C19E3D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D8E-2D71-4B8E-9BC6-01F2DDE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F83-0740-48DC-B25C-C4D999AC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8E7-9BDB-4E50-B401-21808A6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801-2E90-48E0-81B1-23762CA9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31A-EC31-477E-BF29-DC4B48E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E8B-2484-4AFB-8928-7C15080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D6F-0194-4D15-89B1-C2F340886A1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BC7-6BEF-481D-A931-EC4438703C7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Феодальная лестниц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08560" cy="504036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5"/>
          <p:cNvSpPr/>
          <p:nvPr/>
        </p:nvSpPr>
        <p:spPr>
          <a:xfrm>
            <a:off x="7142040" y="594360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dfe4f0"/>
          </a:solidFill>
          <a:ln w="28440">
            <a:solidFill>
              <a:srgbClr val="e4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Рыц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9"/>
          <p:cNvSpPr/>
          <p:nvPr/>
        </p:nvSpPr>
        <p:spPr>
          <a:xfrm>
            <a:off x="468360" y="5959440"/>
            <a:ext cx="1941480" cy="504720"/>
          </a:xfrm>
          <a:prstGeom prst="roundRect">
            <a:avLst>
              <a:gd name="adj" fmla="val 16667"/>
            </a:avLst>
          </a:prstGeom>
          <a:solidFill>
            <a:srgbClr val="dfe4f0"/>
          </a:solidFill>
          <a:ln w="28440">
            <a:solidFill>
              <a:srgbClr val="e4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Герцоги и гра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0"/>
          <p:cNvSpPr/>
          <p:nvPr/>
        </p:nvSpPr>
        <p:spPr>
          <a:xfrm>
            <a:off x="5261040" y="5943600"/>
            <a:ext cx="1173240" cy="457200"/>
          </a:xfrm>
          <a:prstGeom prst="roundRect">
            <a:avLst>
              <a:gd name="adj" fmla="val 16667"/>
            </a:avLst>
          </a:prstGeom>
          <a:solidFill>
            <a:srgbClr val="dfe4f0"/>
          </a:solidFill>
          <a:ln w="28440">
            <a:solidFill>
              <a:srgbClr val="e4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3065400" y="594360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dfe4f0"/>
          </a:solidFill>
          <a:ln w="28440">
            <a:solidFill>
              <a:srgbClr val="e4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Ба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далее 6">
            <a:hlinkClick r:id="rId2" action="ppaction://hlinksldjump"/>
          </p:cNvPr>
          <p:cNvSpPr/>
          <p:nvPr/>
        </p:nvSpPr>
        <p:spPr>
          <a:xfrm>
            <a:off x="8610480" y="6281640"/>
            <a:ext cx="520920" cy="5209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539640" y="1197000"/>
            <a:ext cx="806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ogle.ru/imgres?imgurl=http://sc.nios.ru/dlrstore/9f034aa9-7b43-4d23-9259-7b8528471f48/152.jpg&amp;imgrefurl=http://sc.nios.ru/catalog/res/9f034aa9-7b43-4d23-9259-7b8528471f48/view/&amp;h=800&amp;w=800&amp;sz=171&amp;tbnid=YS8P2UQngRqqyM:&amp;tbnh=90&amp;tbnw=90&amp;prev=/search%3Fq%3D%25D1%2584%25D0%25B5%25D0%25BE%25D0%25B4%25D0%25B0%25D0%25BB%25D1%258C%25D0%25BD%25D0%25B0%25D1%258F%2B%25D0%25BB%25D0%25B5%25D1%2581%25D1%2582%25D0%25BD%25D0%25B8%25D1%2586%25D0%25B0%26tbm%3Disch%26tbo%3Du&amp;zoom=1&amp;q=%D1%84%D0%B5%D0%BE%D0%B4%D0%B0%D0%BB%D1%8C%D0%BD%D0%B0%D1%8F+%D0%BB%D0%B5%D1%81%D1%82%D0%BD%D0%B8%D1%86%D0%B0&amp;usg=__DemcCw4h_KCRXbCACo9hABqa_Os=&amp;docid=vaPO0ZNS9e0UzM&amp;hl=ru&amp;sa=X&amp;ei=PLzDUJPgI_T04QSL9YHAAg&amp;ved=0CDYQ9QEwAg&amp;dur=2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4">
            <a:hlinkClick r:id="rId1" action="ppaction://hlinksldjump"/>
          </p:cNvPr>
          <p:cNvSpPr/>
          <p:nvPr/>
        </p:nvSpPr>
        <p:spPr>
          <a:xfrm>
            <a:off x="8610480" y="6281640"/>
            <a:ext cx="520920" cy="5209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Мария</cp:lastModifiedBy>
  <dcterms:modified xsi:type="dcterms:W3CDTF">2012-12-08T23:17:51Z</dcterms:modified>
  <cp:revision>28</cp:revision>
  <dc:subject/>
  <dc:title>Слайд 1</dc:title>
</cp:coreProperties>
</file>