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7EB-CF4F-423B-9AE4-16F74940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F58-05E6-4A82-BAC1-F66AD420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8DC-39BA-4387-8534-21CA2D83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036-A613-438F-946E-29CF672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D04E-CB80-4821-AB08-C1D31508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3BA-72E7-48A9-A0EF-AECFD6D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7DB-2919-46C1-96CA-5D4763F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355-692A-4A36-BCA3-EF9535D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1031-4B83-438F-AE50-3E1ED050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5B24-2D45-470A-906D-35CA9CC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75F5-0933-4BF6-9914-49E606C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506-9480-4758-9831-E1C37080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858-E99E-4926-96CB-452BB5B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F0D0-572F-4600-AC5F-36810E0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0F67-1A51-4B98-AB45-CF03A006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4BD0-7E80-4408-9D18-2121A2E7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2057-31B8-49D2-B695-E8FDC72F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9DD7-1FA4-4FBD-8856-418D1E3A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AC46-89B5-4BA1-90AC-AAB663C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07D1-48E1-43F2-B408-48223CD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C82B6-1282-4110-B18A-B7D05C14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8BAC-BBF3-4A50-A69B-FA8C6951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5BC-31F0-403D-B06C-AFFE33B0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0A6B-4643-4872-8511-69A0BF8A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43C8-90E2-421D-B2EB-1EBBFD8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32E6-6E99-41C5-A9EC-C1E15BC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A347-8475-4FCD-846D-A75FE72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511B-D9A6-40BD-B0DB-16DBDC7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B6B2-AC15-45FB-A2AB-513E4DF1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6C45-C39E-43ED-8F48-732E6F97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91D4-A62F-4505-A540-CD7CCF7A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19A1-7DEA-47E5-9578-2CF2750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9135-E36F-4A6C-B935-B483B6E9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FD6-7854-4109-A367-552B752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1FC0-1984-4577-9BEA-B7E1728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FDF1-BA64-452A-9DC5-636B5333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D26A-899C-4751-B4FD-16C1BA40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BDB9-ED62-4B00-9ACE-F4244C6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0834-F14D-4393-9EEC-0C7E4B5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D6A7-2F4E-4984-93CE-99165C9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384E-8D95-48A0-B29E-C250C1D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089D-D906-4575-834F-24574BB1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5B8D-79CC-487F-84B8-C8230307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955-669A-47D3-BABD-537343F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63C-F0B8-48A6-ADF2-4E643A4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AA3-E682-404B-BE2B-D38EF6B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6CC-414E-4C55-81F2-503F3F6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10F-BA49-4778-8BD1-0E4CEEC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FB3A-8CF6-4D78-A5D3-5F9EEF162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F136-792E-4D9E-944D-BC12C3F30B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346-74A0-4EFC-A3BE-52B4218D3D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7EF8-C9CD-4B91-8B35-CCBC356B35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ечественная война 1812 года.Историко- краеведческие события и басни И.А.Крылов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858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ированный урок истории, литературы(Учитель истории: Хамалинская Т.А., учитель литературы Сальникова Н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.В.Верещагин «Перед Москвой –ожидание депутации бояр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658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артизанское дви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689640" cy="4390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59500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.В.Давыдов –  партизан – герой Отечественной войны 18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0160" y="3860640"/>
            <a:ext cx="302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в этот год крова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у смертную бор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рага ты отнял сла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- боец чернокудря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белым локоном на л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Надежда Андреевна Дурова-первая русская женщина- офицер, участница Отечественной войны 1812 года, награждённая Георгиевским Крестом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08360" y="1125360"/>
          <a:ext cx="5435640" cy="573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125360"/>
                    <a:ext cx="5435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324036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292720" y="476280"/>
            <a:ext cx="3295800" cy="3670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34160" y="4292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асим К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8360" y="429264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илиса Ко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4724280"/>
            <a:ext cx="40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главляла отряд партизан ху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шково Сычевского уез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ой губер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080" y="4745160"/>
            <a:ext cx="32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 крупней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ского партиза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яда в Богородском уез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08480" y="1197000"/>
            <a:ext cx="3935520" cy="5445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364080" y="404640"/>
            <a:ext cx="278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В.В.Верещаг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Не замай! Дай подо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080" y="5950080"/>
            <a:ext cx="49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изаны нанесли значительный ур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230800" cy="5905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6156360"/>
            <a:ext cx="94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становленный храм Христа Спас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символ возрождающейс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2081160"/>
            <a:ext cx="349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це 19 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жертвовани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 отстроен великолеп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м Христа Спас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30 годы 20 века по ук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ина храм бы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орван. И уже в на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храм восстанов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0f16"/>
                </a:solidFill>
                <a:latin typeface="Agency FB"/>
              </a:rPr>
              <a:t>«Недаром помнит вся Россия про день Бородина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360" y="2997360"/>
            <a:ext cx="5508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Гроза двенадцатого г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Настала – кто тут нам помог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Остервенение народ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Барклай, зима иль русский Бог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       </a:t>
            </a: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А.С.Пушк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следить  Отечественную войну 1812 как справедливую, освободительную, народную  в историческом повествовании с отражением событий в источниках по краеведению , в баснях И. А.Крылова и  картинах В. В. Верещагина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Углубление интереса  к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Развитие навыков работы с исторической картой, учебником и иллюстративным матери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Привлечение к активному участию в работе по сбору документов и материалов, посвящённых событиям войны 1812 года, и участию в самостоятельной и  групповой ,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Формирование способностей к самовыражению в умении оценивать исторические со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Воссоединение  связи времён  православного Отечества , веры, героизма, патриотизма русского народа в Отечественной войне 1812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любви современного поколения к своему Отечест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652920" cy="5373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полеон Бонапард  (1769-182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38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естящий полководец. По характеру независимый, вспыльчивый, настойчивый в достижении поставленной цели. Закончил лучшую военную школу во Франции. Великая Французская буржуазная революция открыла возможность для Наполеона проявить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становится генералом и командующим внутренней армией. Одерживает блестящие победы в Италии, Египте, становится национальным геро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переворота 1799г Наполеон становится первым консулом, затем – императором. Проводит завоевательные войны по всей Европе, подчиняет множество государств. А в 1812 идет на завоевание 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мператор Александр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(1801-1825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 Павла, любимый внук Екатер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ступил на престол после дворцового переворота в 1801г., был не чужд идеям либерализма, провел ряд реформ.  Понимал, что война с Наполеоном неизбе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л правильную линию поведения как личность и глава государства в войне 181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959360" y="1700280"/>
            <a:ext cx="3594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 Илларионович Кутузов</a:t>
            </a:r>
            <a:br>
              <a:rPr sz="38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(1745-1813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38098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 не только великим полководцем, но и выдающимся дипломатом. Большой школой военного искусства явилось для него участие в русско-турецких войнах под командованием Румянцева и Суворова. Участвовал во взятии Измаила. Свой талант дипломата проявил в полной мере в 1792-1794гг, когда возглавил русское посольство в Константинополе. В1805г был назначен  главнокомандующим русской армией в войне третьей коалиции против Наполе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настоянию русского общества Александ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начает Кутузова главнокомандующим армией, незадолго до Бородинского с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497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734080" cy="72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49416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672000" cy="403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260000" y="4437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Н.Ра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9240" y="44370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И.Баграт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797360"/>
            <a:ext cx="35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нерал от кавалерии.  В Бородинской битве командовал корпусом, защищавшим батарею  Рае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2600" y="4797360"/>
            <a:ext cx="332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имый ученик и боевой сора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ворова и Кутузова. В Бородин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итве командовал 2-ой арм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5589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ложительном для русской армии исходе Бородинского с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ую роль сыграли Раевский  и Багратион как талант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ачальники и мужественные во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3456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В.Верещаг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c22"/>
                </a:solidFill>
                <a:latin typeface="Arial"/>
              </a:rPr>
              <a:t>Конец Бородинского с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419640" y="233280"/>
            <a:ext cx="5541840" cy="6624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537372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одинская би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ончилась вни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4:55:17Z</dcterms:created>
  <dc:creator>Customer</dc:creator>
  <dc:description/>
  <dc:language>en-US</dc:language>
  <cp:lastModifiedBy>Admin</cp:lastModifiedBy>
  <dcterms:modified xsi:type="dcterms:W3CDTF">2012-09-10T10:35:50Z</dcterms:modified>
  <cp:revision>38</cp:revision>
  <dc:subject/>
  <dc:title>Слайд 1</dc:title>
</cp:coreProperties>
</file>