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11E-416E-423D-9105-0FFFE0BF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2BFE-5966-4D0C-BF35-7E296E2E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699-20BF-4500-9BE9-5F9D3405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072-D0A7-472C-AE2C-AEE8A712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6AA9-F667-426F-857D-9057C425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4ED5-C6AE-4FD4-93A6-EB9CF528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DA03-80AC-49C7-83B9-C8E06EF9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4638-E597-4D48-9AF4-7C4B9B81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6A9F-2A9E-46A2-B0D5-C00F2968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B738-C5F8-4B93-9F98-9EC019CF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C9DD-0B51-4CB6-938D-74BED612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DCD6-EB63-4F20-83A1-85E10D04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3C4B-B38B-4482-B518-2294E683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12A4-831F-4964-9B40-BFBA8FD5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AC00-3E61-4551-A77F-C85E756D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C826-79DB-42E3-BCBF-49AAB13C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9B4A-432C-47BF-B9DC-7A1BB182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D56F1-1DF5-4672-9F60-EA9377CB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DAEDE-2D61-4FD4-968F-03152459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33722-127D-42A4-9546-C240220F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7A46A-8224-4160-A570-D96B019D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F5760-9A32-484B-9D87-C9C67A5D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96A-520B-4FC3-AF5A-E3010EFC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92EE1-D182-44B8-8299-2718D47D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96870-A65F-4114-A070-FA9DA117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A2225-E053-4715-A79E-3C0CB3FD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C6590-B939-4DD0-BB16-54497D12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2A33-66C5-4987-87A6-E519825D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E52BB-8811-4420-949C-F093071E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CA55-49DC-43B0-BAA2-7AA73B06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CB07F-29B3-4F80-AE5B-43D5492A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281CC-A8A4-4CA6-A0F1-6F578CC2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AC35F-B599-42D8-BA17-EB855DF7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F63-FF36-4D9A-8018-6C6C821C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2CA74-1922-4A58-A50F-FB41083A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C9119-7F3E-4F21-BBBF-2526B9FC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6661E-9832-4267-A2A8-7679FCFC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64311-268D-4919-8E4A-FB6CBF40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37CD-ED18-40B8-A7C6-6A020B31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8E899-221E-4D01-B20A-5DA48670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77E40-8392-414E-86ED-931E1119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DFCB5-828E-466B-BFDF-00263AA5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A853F-780E-47F5-B5C4-014124B1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3CE-144B-470E-916C-0D08716D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383-26AB-477D-9B4C-E7731A79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C79-AA00-4664-A552-3B161BBA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071-032A-4665-A604-21C50F5C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4E8-29FF-4326-8F0C-44951780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6A5C-991F-48BF-BCE2-65C9460BD0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B833-009E-4B65-A682-BABAAEAB08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A5B9-4712-4343-A68D-61632B88E84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96FF-0A8A-4BDE-BA44-CBA09DE33AC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34920" y="98064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Отечественная война 1812 года.Историко- краеведческие события и басни И.А.Крылова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858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ированный урок истории, литературы(Учитель истории: Хамалинская Т.А., учитель литературы Сальникова Н.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.В.Верещагин «Перед Москвой –ожидание депутации бояр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6658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артизанское движе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3689640" cy="4390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55640" y="59500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.В.Давыдов –  партизан – герой Отечественной войны 1812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10160" y="3860640"/>
            <a:ext cx="302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о в этот год крова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ту смертную борь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врага ты отнял слав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- боец чернокудря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белым локоном на л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.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Надежда Андреевна Дурова-первая русская женщина- офицер, участница Отечественной войны 1812 года, награждённая Георгиевским Крестом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708360" y="1125360"/>
          <a:ext cx="5435640" cy="5732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1125360"/>
                    <a:ext cx="5435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3240360" cy="3600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292720" y="476280"/>
            <a:ext cx="3295800" cy="3670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334160" y="429264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расим Ку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8360" y="429264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силиса Кож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4724280"/>
            <a:ext cx="40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главляла отряд партизан ху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шково Сычевского уез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ленской губер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5080" y="4745160"/>
            <a:ext cx="327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дитель крупнейш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естьянского партиза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яда в Богородском уез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208480" y="1197000"/>
            <a:ext cx="3935520" cy="5445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364080" y="404640"/>
            <a:ext cx="2780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c22"/>
                </a:solidFill>
                <a:latin typeface="Arial"/>
              </a:rPr>
              <a:t>В.В.Верещаг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c2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a5c22"/>
                </a:solidFill>
                <a:latin typeface="Arial"/>
              </a:rPr>
              <a:t>Не замай! Дай подой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4080" y="5950080"/>
            <a:ext cx="49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изаны нанесли значительный ур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анцузской ар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5230800" cy="5905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50920" y="6156360"/>
            <a:ext cx="944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становленный храм Христа Спасит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символ возрождающейс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40360" y="2081160"/>
            <a:ext cx="3497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нце 19 ве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жертвования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ой имп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л отстроен великолеп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ам Христа Спас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30 годы 20 века по указ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лина храм бы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орван. И уже в на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храм восстанов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0f16"/>
                </a:solidFill>
                <a:latin typeface="Agency FB"/>
              </a:rPr>
              <a:t>«Недаром помнит вся Россия про день Бородина»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92360" y="2997360"/>
            <a:ext cx="55087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50f16"/>
                </a:solidFill>
                <a:latin typeface="Arial"/>
              </a:rPr>
              <a:t>Гроза двенадцатого го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50f16"/>
                </a:solidFill>
                <a:latin typeface="Arial"/>
              </a:rPr>
              <a:t>Настала – кто тут нам помог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50f16"/>
                </a:solidFill>
                <a:latin typeface="Arial"/>
              </a:rPr>
              <a:t>Остервенение народ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50f16"/>
                </a:solidFill>
                <a:latin typeface="Arial"/>
              </a:rPr>
              <a:t>Барклай, зима иль русский Бог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50f16"/>
                </a:solidFill>
                <a:latin typeface="Arial"/>
              </a:rPr>
              <a:t>       </a:t>
            </a:r>
            <a:r>
              <a:rPr b="1" i="1" lang="en-US" sz="2200" spc="-1" strike="noStrike">
                <a:solidFill>
                  <a:srgbClr val="550f16"/>
                </a:solidFill>
                <a:latin typeface="Arial"/>
              </a:rPr>
              <a:t>А.С.Пушк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ь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следить  Отечественную войну 1812 как справедливую, освободительную, народную  в историческом повествовании с отражением событий в источниках по краеведению , в баснях И. А.Крылова и  картинах В. В. Верещагина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Углубление интереса  к отечественной исто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Развитие навыков работы с исторической картой, учебником и иллюстративным материа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Привлечение к активному участию в работе по сбору документов и материалов, посвящённых событиям войны 1812 года, и участию в самостоятельной и  групповой , исследовательск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Формирование способностей к самовыражению в умении оценивать исторические со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Воссоединение  связи времён  православного Отечества , веры, героизма, патриотизма русского народа в Отечественной войне 1812 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любви современного поколения к своему Отечеств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3652920" cy="53737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полеон Бонапард  (1769-1821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32000" y="1628640"/>
            <a:ext cx="381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лестящий полководец. По характеру независимый, вспыльчивый, настойчивый в достижении поставленной цели. Закончил лучшую военную школу во Франции. Великая Французская буржуазная революция открыла возможность для Наполеона проявить себ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 становится генералом и командующим внутренней армией. Одерживает блестящие победы в Италии, Египте, становится национальным геро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ле переворота 1799г Наполеон становится первым консулом, затем – императором. Проводит завоевательные войны по всей Европе, подчиняет множество государств. А в 1812 идет на завоевание 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мператор Александр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(1801-1825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74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н Павла, любимый внук Екатер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ступил на престол после дворцового переворота в 1801г., был не чужд идеям либерализма, провел ряд реформ.  Понимал, что война с Наполеоном неизбеж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л правильную линию поведения как личность и глава государства в войне 1812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959360" y="1700280"/>
            <a:ext cx="35942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Михаил Илларионович Кутузов</a:t>
            </a:r>
            <a:br>
              <a:rPr sz="38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(1745-1813)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38098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л не только великим полководцем, но и выдающимся дипломатом. Большой школой военного искусства явилось для него участие в русско-турецких войнах под командованием Румянцева и Суворова. Участвовал во взятии Измаила. Свой талант дипломата проявил в полной мере в 1792-1794гг, когда возглавил русское посольство в Константинополе. В1805г был назначен  главнокомандующим русской армией в войне третьей коалиции против Наполе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настоянию русского общества Александ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значает Кутузова главнокомандующим армией, незадолго до Бородинского сра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49740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5734080" cy="72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076720" y="260280"/>
            <a:ext cx="3494160" cy="4032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3672000" cy="4032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260000" y="443700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.Н.Ра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9240" y="443700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.И.Баграт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4797360"/>
            <a:ext cx="352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енерал от кавалерии.  В Бородинской битве командовал корпусом, защищавшим батарею  Раев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42600" y="4797360"/>
            <a:ext cx="332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юбимый ученик и боевой сора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уворова и Кутузова. В Бородин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итве командовал 2-ой арми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558972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оложительном для русской армии исходе Бородинского с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ую роль сыграли Раевский  и Багратион как талантли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еначальники и мужественные во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3456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c22"/>
                </a:solidFill>
                <a:latin typeface="Arial"/>
              </a:rPr>
              <a:t>В.Верещаг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5c22"/>
                </a:solidFill>
                <a:latin typeface="Arial"/>
              </a:rPr>
              <a:t>Конец Бородинского с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419640" y="233280"/>
            <a:ext cx="5541840" cy="6624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5373720"/>
            <a:ext cx="26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родинская би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ончилась внич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4:55:17Z</dcterms:created>
  <dc:creator>Customer</dc:creator>
  <dc:description/>
  <dc:language>en-US</dc:language>
  <cp:lastModifiedBy>Admin</cp:lastModifiedBy>
  <dcterms:modified xsi:type="dcterms:W3CDTF">2012-09-10T10:35:50Z</dcterms:modified>
  <cp:revision>38</cp:revision>
  <dc:subject/>
  <dc:title>Слайд 1</dc:title>
</cp:coreProperties>
</file>