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F49-99C8-4359-8EE7-0694BB97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E51-F225-44C3-953B-8EA2218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380-8896-42BF-8119-1B2230F5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7C2-FE9A-4236-9123-7D4BC273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D00-1CF0-45CC-802C-8F8B0C05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0B1-F087-48DC-AEF8-1958367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726-1CE2-4228-9777-64DBBA60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949-D8D3-4CDE-9B20-492396A4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E5C-8FCB-430E-BE03-39ACCF98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3A1-0B6C-4E93-ADD2-C951B77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1D2-FF96-45F2-83DA-80ACC7A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D1D-F53B-40B5-8DE3-3E07106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5C78-07B6-4C94-A397-1B4F8B478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2"/>
          <p:cNvPicPr/>
          <p:nvPr/>
        </p:nvPicPr>
        <p:blipFill>
          <a:blip r:embed="rId1"/>
          <a:stretch/>
        </p:blipFill>
        <p:spPr>
          <a:xfrm>
            <a:off x="3635280" y="2708280"/>
            <a:ext cx="5106960" cy="3830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picее"/>
          <p:cNvPicPr/>
          <p:nvPr/>
        </p:nvPicPr>
        <p:blipFill>
          <a:blip r:embed="rId2"/>
          <a:stretch/>
        </p:blipFill>
        <p:spPr>
          <a:xfrm>
            <a:off x="324000" y="2421000"/>
            <a:ext cx="2660400" cy="3357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-1189080" y="333360"/>
            <a:ext cx="952488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л о к а д а 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       </a:t>
            </a: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 е н и н г р а д а 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1200" y="189000"/>
            <a:ext cx="906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2 июня 1941 г. Германия пересекла границы н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аны. Темп наступления войск составлял 30 км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хвату города Ленинграда  отводилось особ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ивник хотел захватить побережье Балтийского м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уничтожить Балтийский флот. Немцы стрем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рывались к городу и с июля из Ленинграда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зить жителей и расположенные в городе за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фаб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oster-1941g"/>
          <p:cNvPicPr/>
          <p:nvPr/>
        </p:nvPicPr>
        <p:blipFill>
          <a:blip r:embed="rId1"/>
          <a:stretch/>
        </p:blipFill>
        <p:spPr>
          <a:xfrm>
            <a:off x="6084720" y="3068640"/>
            <a:ext cx="2495880" cy="36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1"/>
          <p:cNvPicPr/>
          <p:nvPr/>
        </p:nvPicPr>
        <p:blipFill>
          <a:blip r:embed="rId2"/>
          <a:stretch/>
        </p:blipFill>
        <p:spPr>
          <a:xfrm>
            <a:off x="755640" y="357336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92760" y="260280"/>
            <a:ext cx="873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ибли на Ладоге отважные войны, водители маш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асая ленинградцев от голодной смерти. Но д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ла. И уже 25 декабря объявили о первой прибав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е хл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3"/>
          <p:cNvPicPr/>
          <p:nvPr/>
        </p:nvPicPr>
        <p:blipFill>
          <a:blip r:embed="rId1"/>
          <a:stretch/>
        </p:blipFill>
        <p:spPr>
          <a:xfrm>
            <a:off x="179280" y="1989000"/>
            <a:ext cx="5257800" cy="471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28"/>
          <p:cNvPicPr/>
          <p:nvPr/>
        </p:nvPicPr>
        <p:blipFill>
          <a:blip r:embed="rId2"/>
          <a:stretch/>
        </p:blipFill>
        <p:spPr>
          <a:xfrm>
            <a:off x="5508720" y="3357720"/>
            <a:ext cx="34304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6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461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79280" y="189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900 дней жил Ленинград в осаде. 900 дней и ночей шли на Ладоге смертельные бо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01:55Z</dcterms:created>
  <dc:creator>Берюхова</dc:creator>
  <dc:description/>
  <dc:language>en-US</dc:language>
  <cp:lastModifiedBy>Алексей</cp:lastModifiedBy>
  <dcterms:modified xsi:type="dcterms:W3CDTF">2012-12-14T17:38:26Z</dcterms:modified>
  <cp:revision>47</cp:revision>
  <dc:subject/>
  <dc:title>Слайд 1</dc:title>
</cp:coreProperties>
</file>