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EEE-E3FA-4F1B-B7FF-DDB6675E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857-141D-4EE1-9E26-99BA1A9F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CF6-C677-4E69-A193-A961CD71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4D5-6437-44E3-A0EB-908173B3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E7EC-1308-4C80-89CD-BDB790A8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A3A3-E221-4E58-85F1-5D0CDD26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FAF5-DEA6-4D51-950F-869BF11F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5070-C33E-4A14-8C7E-557B408F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A860-C724-42F7-9547-EFABCCDE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5E70-24EF-4A78-ADCD-4168A2F2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23D4-6B09-4D78-A676-0E04D708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489-D4EC-4003-AFA4-514D00F9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C2A5-A05B-47D4-BC4B-015B5380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E6A6-5132-4AD0-A94E-C48EB6AA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A12D-B821-4BA8-B21E-7669ADC8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7EB6-85FB-4D53-99F6-7B9F02F8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8438-6EAD-48A4-9C4A-6E11BD94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C0C-E42B-438D-8B33-CC5031C9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5DE-AF73-4B83-BEA2-F860375D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6F9-D822-44E8-8708-704FED0C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00F-E274-42E8-8FD8-6A5ADD82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7AB-3063-4335-BDC3-EB8A080A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6C9-B033-469D-9690-7E8E8D81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7E1-2BAF-469C-BDCB-BCE11C76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D29F-8F50-4067-A482-929B89A574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EF7D-A961-436F-B93D-1BC15E03F06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Игровые технолог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920" y="914400"/>
          <a:ext cx="8686800" cy="625644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8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ладший школьны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ий школьны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рший школьны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зыко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южетн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итационно - моделирующи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зыковые и рече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южетн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итационн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е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че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южетн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итационн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е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ло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3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Игровые технологии в младшем школьном возраст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1143000"/>
          <a:ext cx="8574120" cy="6502320"/>
        </p:xfrm>
        <a:graphic>
          <a:graphicData uri="http://schemas.openxmlformats.org/drawingml/2006/table">
            <a:tbl>
              <a:tblPr/>
              <a:tblGrid>
                <a:gridCol w="2857680"/>
                <a:gridCol w="285912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зыко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южетн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итацион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гры с мячо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 Foot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утаница, Снежный ком, Угадай, Цепочка, Лото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укцион, Загадки, Составь слово, Любопытный Незнайка и т.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накомство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лефон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глаше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зит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гоще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мь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рузь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евые игры с правилами имитируемой реальности, где учитель – организатор, помощник и соучастник общего действия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43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Игровые технологии в среднем школьном возраст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066680"/>
          <a:ext cx="8955000" cy="6261120"/>
        </p:xfrm>
        <a:graphic>
          <a:graphicData uri="http://schemas.openxmlformats.org/drawingml/2006/table">
            <a:tbl>
              <a:tblPr/>
              <a:tblGrid>
                <a:gridCol w="2238480"/>
                <a:gridCol w="2239920"/>
                <a:gridCol w="2238480"/>
                <a:gridCol w="223812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зыковые и речев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южетн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итацион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е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еводчик с мячом, Будь внимателен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’s missing?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Крестики – нолики, Хвастун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Рыбак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гры: релак сирующие, на развитие внимания, памяти, догадки, беглости речи, пись -  ма, грамм. игр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ятельн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ь какой –либо органи зации (конферен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ия, совещани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седа, обсуждение и т.д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готовка (модель – пьеса ситуации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еделение ро -  лей(поведение, функ -ции и обя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ности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Игровые технологии в старшем школьном возраст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066680"/>
          <a:ext cx="8915400" cy="6239160"/>
        </p:xfrm>
        <a:graphic>
          <a:graphicData uri="http://schemas.openxmlformats.org/drawingml/2006/table">
            <a:tbl>
              <a:tblPr/>
              <a:tblGrid>
                <a:gridCol w="2984400"/>
                <a:gridCol w="5931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е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ло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гры, формирую щие умение вы- делять основные признаки, срав- нивать их;  вла  деть собой, на быстроту реак- ции и смекал- ку;на обобще- ние предметов по их признакам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Этап подготовк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разработка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сценарий, план, описание, инструктаж, оборудование),вв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игру (проблема, цели, условия, правила, роли, группы, консульт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Этап прове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групповая рабо- та(источники, тренинг, мозговой штурм, игротехник), межгруппо- вая дискуссия(выступления групп, защита, дискуссия, эксперты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Этап анализа и обобщения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1:25:34Z</dcterms:created>
  <dc:creator>ЗамВР</dc:creator>
  <dc:description/>
  <dc:language>en-US</dc:language>
  <cp:lastModifiedBy>Пользователь</cp:lastModifiedBy>
  <dcterms:modified xsi:type="dcterms:W3CDTF">2012-12-15T12:28:09Z</dcterms:modified>
  <cp:revision>2</cp:revision>
  <dc:subject/>
  <dc:title>Игровые технологии</dc:title>
</cp:coreProperties>
</file>