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5E7-97C7-4DA4-8BD7-7F39BC21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830-DA7E-4C32-A981-4CE42120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FD2-21FE-4E33-B62B-4BEDD7B1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4EA-5014-4803-89EA-F33AC881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07C7-38FA-4654-AFBE-CC16ED77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ABDC-4AA0-4451-8C31-028D05A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F4E-F7C8-4954-87E4-7403292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AB27-3E20-43B1-AB95-0C9CB87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DC5-9532-4DAF-AC33-199B3A5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DE7B-BE69-4365-8C6A-D04E039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4DC0-8682-4DB3-999B-C5B6CF8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E25-83F9-40DC-9B24-4B0DE1E7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F15D-3010-4F8F-B509-0F897F0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568-737E-4844-A53B-FAE0B70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872B-B1FF-4E78-B801-AB702A6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F280-7326-4041-9914-74C06F66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2B4C-EC66-4D64-95FF-926014BE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960-E124-427E-BC77-D10AE1C5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3FC-464C-41E7-9A7D-BB92916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A52-F010-4F19-9794-158AA35D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E17-57B6-4BD2-9EA7-EB4152CF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DFB-DB61-4BB7-9B8E-978DF38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D17-F3A1-4659-A521-37F1715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F50-29B7-4905-B60E-2FF00C3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CE7-16CD-4374-9F5C-0E85578C94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17F-2201-47E8-A896-65C1CDC529A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914400"/>
          <a:ext cx="8686800" cy="625644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ш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рший школьны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о - моделирующи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 реч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младш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43000"/>
          <a:ext cx="8574120" cy="6502320"/>
        </p:xfrm>
        <a:graphic>
          <a:graphicData uri="http://schemas.openxmlformats.org/drawingml/2006/table">
            <a:tbl>
              <a:tblPr/>
              <a:tblGrid>
                <a:gridCol w="2857680"/>
                <a:gridCol w="2859120"/>
                <a:gridCol w="2857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 с мячо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 Foot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утаница, Снежный ком, Угадай, Цепочка, Лот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кцион, Загадки, Составь слово, Любопытный Незнайка 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комство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фо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глаш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зит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ощ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мь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зь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 с правилами имитируемой реальности, где учитель – организатор, помощник и соучастник общего действ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3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средн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6680"/>
          <a:ext cx="8955000" cy="6261120"/>
        </p:xfrm>
        <a:graphic>
          <a:graphicData uri="http://schemas.openxmlformats.org/drawingml/2006/table">
            <a:tbl>
              <a:tblPr/>
              <a:tblGrid>
                <a:gridCol w="2238480"/>
                <a:gridCol w="2239920"/>
                <a:gridCol w="2238480"/>
                <a:gridCol w="22381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овые и рече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южет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итацион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водчик с мячом, Будь внимателе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’s missing?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Крестики – нолики, Хвастун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ыба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: релак сирующие, на развитие внимания, памяти, догадки, беглости речи, пись -  ма, грамм. игр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ятельн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ь какой –либо органи зации (конферен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ия, совещ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седа, обсуждение и т.д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готовка (модель – пьеса ситуации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ение ро -  лей(поведение, функ -ции и обя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ости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Игровые технологии в старшем школьном возраст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066680"/>
          <a:ext cx="8915400" cy="6239160"/>
        </p:xfrm>
        <a:graphic>
          <a:graphicData uri="http://schemas.openxmlformats.org/drawingml/2006/table">
            <a:tbl>
              <a:tblPr/>
              <a:tblGrid>
                <a:gridCol w="2984400"/>
                <a:gridCol w="5931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ы, формирую щие умение вы- делять основные признаки, срав- нивать их;  вла  деть собой, на быстроту реак- ции и смекал- ку;на обобще- ние предметов по их признакам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подготов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разработка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сценарий, план, описание, инструктаж, оборудование),в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игру (проблема, цели, условия, правила, роли, группы, консуль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прове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групповая рабо- та(источники, тренинг, мозговой штурм, игротехник), межгруппо- вая дискуссия(выступления групп, защита, дискуссия, эксперты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тап анализа и обобщения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25:34Z</dcterms:created>
  <dc:creator>ЗамВР</dc:creator>
  <dc:description/>
  <dc:language>en-US</dc:language>
  <cp:lastModifiedBy>Пользователь</cp:lastModifiedBy>
  <dcterms:modified xsi:type="dcterms:W3CDTF">2012-12-15T12:28:09Z</dcterms:modified>
  <cp:revision>2</cp:revision>
  <dc:subject/>
  <dc:title>Игровые технологии</dc:title>
</cp:coreProperties>
</file>