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F91-1887-4E3C-AEF3-AD601D79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494-ED22-4477-AD4B-5AF420A3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D4A5-DFC4-465D-92D8-20675E1B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E44-C3DA-42AC-B898-45FA2A63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426B-4042-4E4A-9CB7-79BEBF74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CFCF-977F-442D-A894-FF45DE7B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0EC1-AC54-48CA-AF0B-E36B9F59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C273-5741-4AC0-BF08-96EF901A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3812-6E47-4E1D-8AEB-C6D0C4B7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B714-17AB-40DD-9457-25833BE4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D890-20D0-4EA5-9C4E-3BF8F79F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BB2-F5FA-45A6-A216-E60EB9F6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B140-176A-4BED-8801-E75A8216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8CA4-DB71-4A07-AF8C-558E5A90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1AE6-8531-4B7A-99EF-9E8236DE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4FAF-602F-4952-BBB3-9F9CA147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A3CA-B308-425D-899C-9C11586C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5664-98D8-4A36-BF5D-09DA1FF6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8EF-C742-48E4-9CBA-EBF679F8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F83-502B-4E4F-91AC-C679582A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4AA0-47FF-4D51-BD7A-54450D41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2CE-71C7-4234-AF53-A1B6042B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E924-7FF8-425D-AAA7-836BFC0B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35F-3EDE-4E69-89B5-54C3A85C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F248-614F-48DB-B6E7-CC59538573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7AE8-DB15-459C-8BA2-A4724E2725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алеологические требования к уроку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исова А. Н. доцент кафедры ЕНД БИПКиП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19700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9. Наличие, место, содержание и продолжительность оздоровительных моментов на уроке: физкультминутки, динамические паузы, минуты релаксации, дыхательная гимнастика, гимнастика для глаз, массаж активных точек; соответствуют ли условия в классе для проведения таких форм работы, особенно для дыхательных упражнений. Норма: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 15-20 минут урока по 1 минуте из 3-х легких упражнений с 3-4 повторениями каждог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 Наличие в содержательной части урока вопросов, связанных со здоровьем и здоровым образом жизни, демонстрация, прослеживание этих связей. Формирование отношение к человеку и его здоровью как к ценности; выработка понимания сущности здорового образа жизни; выработка индивидуального способа безопасного поведения, сообщение учащимся знаний о возможных последствиях выбора поведения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. Наличие мотивации деятельности учащихся на уроке. Внешняя мотивация: оценка, похвала, поддержка, соревновательный момент и т.п. Стимуляция  внутренней мотивации: стремление больше узнать, радость от активности, интерес к изучаемому материалу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. Наличие на уроке эмоциональных разрядок: шутка, улыбка, юмористическая или поучительная картинка, поговорка, известное высказывание с комментарием, небольшое стихотворение, музыкальная минутка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11280" y="162828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. Психологический климат на уроке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заимоотношения на уроке: между учителем и ученик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комфорт – напряжение, сотрудничество – авторитарность, индивидуальные – фронтальные, учет возрастных особенностей: достаточный – недостаточный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жду ученик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отрудничество – соперничество, дружелюбие – враждебность, заинтересованность-безразличие, активность-пассив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онце урока обратите внимание на следующе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.  Плотность урока, то есть количество времени, затраченного школьниками на учебную работу. Норма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менее 60 % и не более 75-80 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052280"/>
            <a:ext cx="6400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конце урока обратите внимание на следующе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.     Момент наступления утомления учащихся и снижение их  учебной активности. определяется в ходе наблюдения по возрастанию двигательных и пассивных отвлечений у детей в процессе учебной работы. Норма: не ранее 25-30 минут в 1 классе, 35-40 минут в начальной школе, 40 минут в средней и старшей школе, 30 минут для учащихся классов компенсирующего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конце урока обратите внимание на следующ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.     Темп окончания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ыстрый темп, «скомканность», нет времени на вопросы учащихся, быстрое, практически без комментариев записывание домашней работы, зад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покойное завершение урока, учащиеся имеют возможность задать учителю вопросы, педагог комментирует заданное им на дом задание, учитель и учащиеся прощают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держивание учащихся в классе после звонка (на перемен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        Обстановка и гигиенические условия в классе: температура и свежесть воздуха, рациональность освещения класса и доски, наличие/отсутствие монотонных, неприятных звуков, раздражителей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95640" y="1600200"/>
            <a:ext cx="6643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   Количество видов учебной деятельности: опрос учащихся, письмо, чтение, рассказ. Слушание, рассматривание наглядных пособий, ответы на вопросы, решение примеров и задач и т.д. Норма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-7 видов за ур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днообразность уроков способствует утомлению школьников, как бывает, например, при выполнении контрольной работы. Сочинение – более творческая задача, и коэффициент утомления при этом несколько ниже. Наоборот: частая смена одной деятельности на другую потребует от учащихся дополнительных адаптационных усил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       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няя продолжительность и частота чередования различных видов учебной деятельности. Ориентировочная норма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-10 мину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        Количество видов преподавания: словесный, наглядный, аудиовизуальный, самостоятельная работа и т.д. норма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 менее тре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.        Чередование видов преподавания: норма: не позже чем через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-1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мину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0920" y="1125360"/>
            <a:ext cx="67881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6.Творческого самовыражения самих учащихся, когда они действительно превращаются из «потребителей знаний» в субъектов действия по их получению и созиданию. Это такие методы как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метод свободного выбор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свободная беседа, выбор действия, выбор способа действия, выбор способа взаимодействия, свобода творчества);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активные методы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ученики в роли учителя, обучения действием, обсуждение в группах, ролевая игра, дискуссия, семинар, ученик как исследователь);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методы, направленные на самопознание и развитие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интеллекта, эмоций, общения, воображения, самооценки, взаимооценки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Место и длительность применения ТСО (в соответствии с гигиеническими нормами), умение учителя использовать их как возможности инициирования дискуссии, обсу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алеологические требования к урок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а учащих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чередование позы (наблюдает ли учитель реально за посадкой учащихся; чередуются ли позы в соответствии с видом работ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3:53:37Z</dcterms:created>
  <dc:creator>OEM</dc:creator>
  <dc:description/>
  <dc:language>en-US</dc:language>
  <cp:lastModifiedBy>Пользователь</cp:lastModifiedBy>
  <dcterms:modified xsi:type="dcterms:W3CDTF">2012-12-15T03:55:11Z</dcterms:modified>
  <cp:revision>2</cp:revision>
  <dc:subject/>
  <dc:title>Валеологические требования к уроку</dc:title>
</cp:coreProperties>
</file>