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4F1A-6DBE-4248-BCC8-00A2BD2F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E19B-AD56-4FF3-8D74-FC9ECBA0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8A4-DAC0-456C-9AB8-49912B99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880-7DF4-4052-8CDC-A824D952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ACC2-86A1-4632-873D-FA0EE0F5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D863-8FD9-4EC6-8E89-360B4B78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9041-5038-4E66-B40A-CD62B1B2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2B8B-C830-492C-B0E6-03ED0122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E321-4743-47AA-B0BF-D2141998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B5B7-E1FE-4C0F-8A60-F930D4AC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DEBA-C23E-4185-9B1F-23DB49AD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F204-23A2-4E11-A19A-87DFF91F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81E9-0BFE-439C-8290-278C85A7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5EEF-D01D-4667-ADDD-D4C9C765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9CC2-0B3D-4A2F-AB05-73D13483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EFC8-968E-42E5-9FE0-19DF67B0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16D7-8BD3-45F3-8D7C-335B90DC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E04-321C-401D-B4B5-D318750C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0D1-2088-4566-AD65-770133EF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3C0-FE50-4160-BE9A-61249C57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863D-3686-4EC4-BE3E-F4FD167B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2BF-89A5-4F90-9DA9-1C156EE0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43BA-4B4A-47CA-8F50-99FB7EFD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DAD-89FD-43A1-9EA6-2F77C8BC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1E1E-E0D9-4948-9C44-F6BB3AC95F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3909-2DE3-4C56-B35F-FB320ACD57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алеологические требования к уроку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исова А. Н. доцент кафедры ЕНД БИПКиП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197000"/>
            <a:ext cx="6400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9. Наличие, место, содержание и продолжительность оздоровительных моментов на уроке: физкультминутки, динамические паузы, минуты релаксации, дыхательная гимнастика, гимнастика для глаз, массаж активных точек; соответствуют ли условия в классе для проведения таких форм работы, особенно для дыхательных упражнений. Норма: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 15-20 минут урока по 1 минуте из 3-х легких упражнений с 3-4 повторениями каждог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 Наличие в содержательной части урока вопросов, связанных со здоровьем и здоровым образом жизни, демонстрация, прослеживание этих связей. Формирование отношение к человеку и его здоровью как к ценности; выработка понимания сущности здорового образа жизни; выработка индивидуального способа безопасного поведения, сообщение учащимся знаний о возможных последствиях выбора поведения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. Наличие мотивации деятельности учащихся на уроке. Внешняя мотивация: оценка, похвала, поддержка, соревновательный момент и т.п. Стимуляция  внутренней мотивации: стремление больше узнать, радость от активности, интерес к изучаемому материалу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. Наличие на уроке эмоциональных разрядок: шутка, улыбка, юмористическая или поучительная картинка, поговорка, известное высказывание с комментарием, небольшое стихотворение, музыкальная минутка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11280" y="162828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. Психологический климат на уроке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заимоотношения на уроке: между учителем и ученик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комфорт – напряжение, сотрудничество – авторитарность, индивидуальные – фронтальные, учет возрастных особенностей: достаточный – недостаточный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жду ученик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отрудничество – соперничество, дружелюбие – враждебность, заинтересованность-безразличие, активность-пассив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онце урока обратите внимание на следующе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.  Плотность урока, то есть количество времени, затраченного школьниками на учебную работу. Норма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менее 60 % и не более 75-80 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052280"/>
            <a:ext cx="6400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конце урока обратите внимание на следующе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.     Момент наступления утомления учащихся и снижение их  учебной активности. определяется в ходе наблюдения по возрастанию двигательных и пассивных отвлечений у детей в процессе учебной работы. Норма: не ранее 25-30 минут в 1 классе, 35-40 минут в начальной школе, 40 минут в средней и старшей школе, 30 минут для учащихся классов компенсирующего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конце урока обратите внимание на следующ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.     Темп окончания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ыстрый темп, «скомканность», нет времени на вопросы учащихся, быстрое, практически без комментариев записывание домашней работы, зад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покойное завершение урока, учащиеся имеют возможность задать учителю вопросы, педагог комментирует заданное им на дом задание, учитель и учащиеся прощают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держивание учащихся в классе после звонка (на перемен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        Обстановка и гигиенические условия в классе: температура и свежесть воздуха, рациональность освещения класса и доски, наличие/отсутствие монотонных, неприятных звуков, раздражителей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95640" y="1600200"/>
            <a:ext cx="6643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   Количество видов учебной деятельности: опрос учащихся, письмо, чтение, рассказ. Слушание, рассматривание наглядных пособий, ответы на вопросы, решение примеров и задач и т.д. Норма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-7 видов за ур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днообразность уроков способствует утомлению школьников, как бывает, например, при выполнении контрольной работы. Сочинение – более творческая задача, и коэффициент утомления при этом несколько ниже. Наоборот: частая смена одной деятельности на другую потребует от учащихся дополнительных адаптационных усил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       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няя продолжительность и частота чередования различных видов учебной деятельности. Ориентировочная норма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-10 мину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        Количество видов преподавания: словесный, наглядный, аудиовизуальный, самостоятельная работа и т.д. норма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 менее тре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.        Чередование видов преподавания: норма: не позже чем через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-1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мину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0920" y="1125360"/>
            <a:ext cx="67881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6.Творческого самовыражения самих учащихся, когда они действительно превращаются из «потребителей знаний» в субъектов действия по их получению и созиданию. Это такие методы как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метод свободного выбор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свободная беседа, выбор действия, выбор способа действия, выбор способа взаимодействия, свобода творчества);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активные методы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ученики в роли учителя, обучения действием, обсуждение в группах, ролевая игра, дискуссия, семинар, ученик как исследователь);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методы, направленные на самопознание и развитие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интеллекта, эмоций, общения, воображения, самооценки, взаимооценки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Место и длительность применения ТСО (в соответствии с гигиеническими нормами), умение учителя использовать их как возможности инициирования дискуссии, обсу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а учащих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чередование позы (наблюдает ли учитель реально за посадкой учащихся; чередуются ли позы в соответствии с видом работ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3:53:37Z</dcterms:created>
  <dc:creator>OEM</dc:creator>
  <dc:description/>
  <dc:language>en-US</dc:language>
  <cp:lastModifiedBy>Пользователь</cp:lastModifiedBy>
  <dcterms:modified xsi:type="dcterms:W3CDTF">2012-12-15T03:55:11Z</dcterms:modified>
  <cp:revision>2</cp:revision>
  <dc:subject/>
  <dc:title>Валеологические требования к уроку</dc:title>
</cp:coreProperties>
</file>