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9CE7-9656-414B-8C8B-669E66B5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3B17-A84B-47F1-B5BC-A5751635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13FF-F59D-4B0C-B1EF-6FB10C6E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5745-4FCE-4ACC-B001-6D948406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793E-C928-495C-A6E5-C7D971A1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FA18-97F2-49A7-95FF-2E45B1FF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0D6D-3395-4029-8582-88D94A88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451-5F34-4554-8079-9D178CF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526-4D59-4F3C-A7DD-4F43640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BC3-1EED-441C-B2D6-37434EC2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89A4-C5A6-44C0-8E77-D0F8232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EB62-66AD-480B-B93D-6D1B698A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F0D-6B41-446C-942F-31B13BE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C06F-4701-45FE-B3D2-8E6802B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33B5-D1B3-4535-9FE7-EF0FCB7A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5D13-57C8-40EA-B4D9-C7E41F51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E12-CD92-4DBC-82F1-2D4B258B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90FC-3BF0-42CD-915C-6D3AFBC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1E52-B421-4F49-B548-25036EE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7323-5021-4D16-A34E-4327297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2459-8837-42D1-A0FF-FE958F6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B5D9-239F-46F1-8935-C6A088A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47F1-2950-495E-80A2-D06C9E2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7E56-C70A-4FE1-962D-275B4D2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BEE-E4C0-44E9-8466-4CD1ED569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9952-4AB2-47B1-8F6E-C86CA31FB3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Имена собственные в английском и русском языка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566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От  названия профессий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309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ith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ith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y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ll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ll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ilo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ilor Tayl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ндарь-Бондарев, бочар - бочаро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кузнец-Кузнец, Кузнецов, Ковале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ьник – Мельнико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тной – Портнов) и т.д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т  цветообразования и  названия  животных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13000"/>
          <a:ext cx="8218440" cy="544500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лый -  Бе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рный – Чер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рый – Бу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olf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ol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x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l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l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волк – Волков)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лисица – Лисицын )(бык – Быков) и.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ерты   различия  между англоязычными и  русской  антропонимическими система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263700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844640"/>
          <a:ext cx="8507520" cy="475308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 нескольких   личных  имен при  одной  фамилии  в англоязычной   антропонимической системе. Чаще всего встречаются  2 имени  (при  этом   второе  имя называется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ddle 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«промежуточное  им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 русском  языке отсутствует  традиция давать человеку  2 (3 или  даже  4) имени,  однако имеется такой  необычный для английской антропонимической системы компонент, как  отчество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620640"/>
          <a:ext cx="8229600" cy="623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lliam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peace Thackeray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bert George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ll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orge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ll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George Bernard Shaw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lliam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merset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ugh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усское отчество – оно только для русских характерно. Во всех странах существовал обычай называть детей по отцу, и это превратилось в фамилию ( Иванов сын). А в русском языке появились два отчества: ( Иванов сын, Петров сын, а потом Иванович, Петрович)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01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можность   в  английском   языке  именовать   жену  через личное имя и фамилию  муж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: Mrs. John Smith, Mrs. William Brown, Mrs. Frank Algernon Cowperwood, Mrs.  Soames  Forsyte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русском  языке на  жену   распространяется  только фамилия   супруга (причем с  окончанием женского рода),  но не  его личное  и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60280"/>
          <a:ext cx="8229600" cy="850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у подавляющего большинства  английских  фамилий окончаний- формантов, служащих  для  их   построения (исключение   составляют  фамилии, имеющие формант –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или довольно редко   употребляющееся  с этой целью формант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 русском  языке имеется  немалое  число   формантов   образующих   фамилии: ов (а), ев (а), - ин (а),  иногда  - ский  - (ская), - цкий  - (цкая)  и позволяющих  без  труда  идентифицировать фамилии   в  потоке   связанной 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отребление  антропонимов и  вопросы этикет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84280"/>
          <a:ext cx="8229600" cy="607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ter, Missis, Miss +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милия адреса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r./Mrs./Ms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фами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от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ты» или «в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r – gentle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am – la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/ка, товарищ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сподин, госпож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фами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от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шей работе мы исследуем   имена собственные преимущественно на материале английского языка, выделяем разнообразные типы имен собственных, описываем особенности их функционирования и использования, в отдельных случаях показана история их происхож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анализа учебников было обнаружено, что в учебниках приводится большое количество наиболее часто встречающихся в наши дни имен собственных, имеются упражнения с именами собственными по теме «Обращения», даются транскрипции имен собственных, используется художественный текс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ктика показывает, что имена собственные – это важный источник информации, от умелого пользования которым зависит глубина нашего проникновения в сокровищницу изучаемого язы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9280" y="47592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а работа посвящена одному из важных элементов человеческой  культуры –именам собственным, которые занимают особое место в любом язы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е небольшое исследование проведено в сопоставительном плане имен собственных в английском и русском язык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ая цель  нашей работ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сходств и различий между английскими и русскими именами собственны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достижения данной цели нами был проведен  сопоставительный анализ  имен собственных не только теоретического, но и исследовательского харак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рассмотреть особенности английских и русских имен собственных;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провести сопоставительный анализ английских и русских имен собственных;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сравнить английские и русские имена собственны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0"/>
          <a:ext cx="8229600" cy="649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ена собственные  невоплощенные(ИС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ена собственные воплощённые (ИС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ry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равним: Ваня, Маша, Буров, Иван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liver Cromwell ,  Isaac Newton,  William  Shakespeare, George  Washington,  Thomas  Edison, Mark  Twai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. Толстой, А.Пушкин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лин, Гагари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которые   грамматические  особенности употребления  ИС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тикль  перед ИС  не  употребляется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to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 фамильными  именами во  мн.  ч.  для обозначения всех  членов  семьи как  единого целого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Jonson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trov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. т.д.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вторичными  именованиями  ( названиями  гостиниц, кораблей и  т.  д., образованными  от  других  ИС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”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корабль (о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президент  США) и.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износительные особенности И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chael Fara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atha Chris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hing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binson Crus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rlock Hol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raham Lincol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йкл Фарадей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гата Кристи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шингтон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бинзон Крузо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рлок Холмс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раам Линколь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ерты сходства между англоязычными и  русской  антропонимическими система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44640"/>
          <a:ext cx="8362800" cy="6102360"/>
        </p:xfrm>
        <a:graphic>
          <a:graphicData uri="http://schemas.openxmlformats.org/drawingml/2006/table">
            <a:tbl>
              <a:tblPr/>
              <a:tblGrid>
                <a:gridCol w="4248000"/>
                <a:gridCol w="4114800"/>
              </a:tblGrid>
              <a:tr h="69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позиция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ristia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st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na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истианские традици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me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seph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org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oma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r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the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tha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the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zabeth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sa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 личное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 фамиль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ван, Яков, Иосиф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оргий, Фома, Ма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на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катерин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лиза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личие сходных способов образования фами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95280" y="1600200"/>
          <a:ext cx="8291520" cy="457848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 личных  имен: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ne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ew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ew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Иван-Ивано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Андрей-Андрее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Петр-Петров) и. т. 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2:40:55Z</dcterms:created>
  <dc:creator>ЗамВР</dc:creator>
  <dc:description/>
  <dc:language>en-US</dc:language>
  <cp:lastModifiedBy>Пользователь</cp:lastModifiedBy>
  <dcterms:modified xsi:type="dcterms:W3CDTF">2012-12-16T14:10:48Z</dcterms:modified>
  <cp:revision>7</cp:revision>
  <dc:subject/>
  <dc:title>Слайд 1</dc:title>
</cp:coreProperties>
</file>