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049A-EDD3-4FD9-9792-0C5A3031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E42A-7033-42FC-84BD-38E152D3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88F9-563B-4B3C-963E-67C9D074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3756-1040-4E1D-A9B3-76FC35DD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C8AE-E961-416D-9389-5AC0D195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2A6-FFFE-4A35-BD3A-C7D68F4F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19DC-B4AF-4722-8561-5BB5F702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B888-DEEA-4840-B8CB-ED76906E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F23C-068A-4C0D-8CF7-BDCC8212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CE96-ED55-492A-ADD1-0B171EEB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5B85-29C2-4173-AE34-36DACC8C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703A-5EC5-4AFE-908F-91AC48AD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0B6E-BC46-410A-B3C6-157268F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CC02-B4C5-48DE-BAF5-E4C6967C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83DE-6CF7-487A-8104-C807BBF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0A2C-2630-40BF-8385-27302766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BCA-7F8A-441B-94F4-0B3AFE05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E104-ADB5-4F08-B40F-E99C736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D03F-EF72-4B8A-AE82-E7CA864C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5830-2BF7-4850-BC4F-6A56E6FD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26FB-CD3F-49A5-B96B-68C5628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BE1B-770D-4307-806C-A5AE947B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8120-2FA4-44F7-8CF7-03E37DF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76589-6D00-4BDB-BB8F-C235E83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B89F-7578-40F5-97B3-579C9A0B9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F07-EBA2-4F2D-A9D6-CBF9B3E69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Имена собственные в английском и русском языках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566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От  названия профессий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309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ope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oper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ack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mith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mith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my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lle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ll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ilo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ilor Tayl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ондарь-Бондарев, бочар - бочаров)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кузнец-Кузнец, Кузнецов, Ковалев)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льник – Мельников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ртной – Портнов) и т.д.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т  цветообразования и  названия  животных: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13000"/>
          <a:ext cx="8218440" cy="544500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t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hit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ack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ack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w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w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лый -  Бе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рный – Чер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рый – Бу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olf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olf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x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x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ull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ull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волк – Волков)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лисица – Лисицын )(бык – Быков) и.т.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Черты   различия  между англоязычными и  русской  антропонимическими система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263700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844640"/>
          <a:ext cx="8507520" cy="4753080"/>
        </p:xfrm>
        <a:graphic>
          <a:graphicData uri="http://schemas.openxmlformats.org/drawingml/2006/table">
            <a:tbl>
              <a:tblPr/>
              <a:tblGrid>
                <a:gridCol w="4254480"/>
                <a:gridCol w="4253040"/>
              </a:tblGrid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 нескольких   личных  имен при  одной  фамилии  в англоязычной   антропонимической системе. Чаще всего встречаются  2 имени  (при  этом   второе  имя называется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ddle 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«промежуточное  им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 русском  языке отсутствует  традиция давать человеку  2 (3 или  даже  4) имени,  однако имеется такой  необычный для английской антропонимической системы компонент, как  отчество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620640"/>
          <a:ext cx="8229600" cy="623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lliam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kepeace Thackeray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rbert George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ll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orge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ll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George Bernard Shaw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lliam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merset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ugh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усское отчество – оно только для русских характерно. Во всех странах существовал обычай называть детей по отцу, и это превратилось в фамилию ( Иванов сын). А в русском языке появились два отчества: ( Иванов сын, Петров сын, а потом Иванович, Петрович)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01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можность   в  английском   языке  именовать   жену  через личное имя и фамилию  муж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: Mrs. John Smith, Mrs. William Brown, Mrs. Frank Algernon Cowperwood, Mrs.  Soames  Forsyte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русском  языке на  жену   распространяется  только фамилия   супруга (причем с  окончанием женского рода),  но не  его личное  им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-63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260280"/>
          <a:ext cx="8229600" cy="850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утствие у подавляющего большинства  английских  фамилий окончаний- формантов, служащих  для  их   построения (исключение   составляют  фамилии, имеющие формант –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или довольно редко   употребляющееся  с этой целью формант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 русском  языке имеется  немалое  число   формантов   образующих   фамилии: ов (а), ев (а), - ин (а),  иногда  - ский  - (ская), - цкий  - (цкая)  и позволяющих  без  труда  идентифицировать фамилии   в  потоке   связанной  реч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потребление  антропонимов и  вопросы этикет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84280"/>
          <a:ext cx="8229600" cy="607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ter, Missis, Miss +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милия адреса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r./Mrs./Ms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фами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от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ты» или «вы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r – gentle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dam – lad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жданин/ка, товарищ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сподин, госпож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фами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и от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ашей работе мы исследуем   имена собственные преимущественно на материале английского языка, выделяем разнообразные типы имен собственных, описываем особенности их функционирования и использования, в отдельных случаях показана история их происхож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анализа учебников было обнаружено, что в учебниках приводится большое количество наиболее часто встречающихся в наши дни имен собственных, имеются упражнения с именами собственными по теме «Обращения», даются транскрипции имен собственных, используется художественный текс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актика показывает, что имена собственные – это важный источник информации, от умелого пользования которым зависит глубина нашего проникновения в сокровищницу изучаемого язы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9280" y="47592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ша работа посвящена одному из важных элементов человеческой  культуры –именам собственным, которые занимают особое место в любом язык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ше небольшое исследование проведено в сопоставительном плане имен собственных в английском и русском язык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ая цель  нашей работ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ние сходств и различий между английскими и русскими именами собственны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достижения данной цели нами был проведен  сопоставительный анализ  имен собственных не только теоретического, но и исследовательского харак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рассмотреть особенности английских и русских имен собственных;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провести сопоставительный анализ английских и русских имен собственных;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сравнить английские и русские имена собственны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0"/>
          <a:ext cx="8229600" cy="649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ена собственные  невоплощенные(ИС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ена собственные воплощённые (ИС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ry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ow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равним: Ваня, Маша, Буров, Иван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liver Cromwell ,  Isaac Newton,  William  Shakespeare, George  Washington,  Thomas  Edison, Mark  Twai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. Толстой, А.Пушкин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лин, Гагарин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екоторые   грамматические  особенности употребления  ИС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тикль  перед ИС  не  употребляется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h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to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 фамильными  именами во  мн.  ч.  для обозначения всех  членов  семьи как  единого целого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Jonson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trov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. т.д.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вторичными  именованиями  ( названиями  гостиниц, кораблей и  т.  д., образованными  от  других  ИС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hington”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корабль (от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hingto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президент  США) и.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износительные особенности И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chael Fara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gatha Christ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hing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binson Crus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rlock Hol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braham Lincol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йкл Фарадей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гата Кристи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шингтон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бинзон Крузо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рлок Холмс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раам Линколь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Черты сходства между англоязычными и  русской  антропонимическими система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844640"/>
          <a:ext cx="8362800" cy="6102360"/>
        </p:xfrm>
        <a:graphic>
          <a:graphicData uri="http://schemas.openxmlformats.org/drawingml/2006/table">
            <a:tbl>
              <a:tblPr/>
              <a:tblGrid>
                <a:gridCol w="4248000"/>
                <a:gridCol w="4114800"/>
              </a:tblGrid>
              <a:tr h="69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позиция: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rst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ristia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ve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st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m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rnam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ристианские традици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mes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seph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org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omas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ry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n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ther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/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thar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ther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izabeth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lisa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 личное -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мя  фамиль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ван, Яков, Иосиф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оргий, Фома, Ма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на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катерин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лиза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личие сходных способов образования фамил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95280" y="1600200"/>
          <a:ext cx="8291520" cy="457848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 личных  имен: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ne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ohn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rew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rew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ter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ters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terson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Иван-Иванов),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Андрей-Андреев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Петр-Петров) и. т. д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2:40:55Z</dcterms:created>
  <dc:creator>ЗамВР</dc:creator>
  <dc:description/>
  <dc:language>en-US</dc:language>
  <cp:lastModifiedBy>Пользователь</cp:lastModifiedBy>
  <dcterms:modified xsi:type="dcterms:W3CDTF">2012-12-16T14:10:48Z</dcterms:modified>
  <cp:revision>7</cp:revision>
  <dc:subject/>
  <dc:title>Слайд 1</dc:title>
</cp:coreProperties>
</file>