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AA61-8AD6-4E9B-B209-7CE163EB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3899-49BC-40B4-AA71-B54A1BB4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5F8-BD6F-4BE5-9007-798508B1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1330-9D60-41BB-84FB-FB247A66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4C00-8529-470F-B922-2943D45D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811-1591-4949-BB18-594958C8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27A-B692-4E86-9629-58BB6EBA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634-9200-4455-8EF1-4C4DFC7C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A98-D182-4567-825D-FC820350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107-233E-49C4-8172-F3B0F86D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B57-CE4D-4A03-9EA2-87D6692A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F0B-9A2F-437B-842F-491DD9A3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dd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2EAB-D30D-4182-A550-E93F8B67A0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56;&#1091;&#1089;&#1089;&#1082;&#1072;&#1103;_&#1087;&#1088;&#1072;&#1074;&#1086;&#1089;&#1083;&#1072;&#1074;&#1085;&#1072;&#1103;_&#1094;&#1077;&#1088;&#1082;&#1086;&#1074;&#1100;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971640" y="1916280"/>
            <a:ext cx="748980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блема времени в учении 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вгустина Аврелия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4643280" y="436572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итель начальных классов МБОУ «СОШ с УИОП» Смирнова Елен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 сотворено Бо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г пребывает в вечности, которая есть отсутствие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шедшего и будущего, как таковых, не существует, а настоящее не имеет дл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времени существуют только в нашей душе: настоящее прошедшего – это память; настоящее настоящего – это непосредственное созерцание; настоящее будущего – его ожи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ряем время мы также только в нашей душ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395280" y="333360"/>
            <a:ext cx="820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аженный Августин утверждал: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5" name="Рисунок 3" descr="63783964_62407385_bill.gif"/>
          <p:cNvPicPr/>
          <p:nvPr/>
        </p:nvPicPr>
        <p:blipFill>
          <a:blip r:embed="rId1"/>
          <a:stretch/>
        </p:blipFill>
        <p:spPr>
          <a:xfrm>
            <a:off x="3635280" y="5157720"/>
            <a:ext cx="2432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15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6227640" y="-97920"/>
            <a:ext cx="2916360" cy="71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ософия истории Августина заложила основы теории общественного прогресса. История общества имеет начало и все время развивается по пути своего совершенств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история имеет смысл и предназначе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беду христианства во всемирном масштаб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авославии признан блаженным, а в католицизме - святым и Учителем Церк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память отмечается Католической церковь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8 авгус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усской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славной церковью 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 ию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старому сти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211640" y="2492280"/>
            <a:ext cx="4713120" cy="29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 я измеряю время, это я знаю, но я не могу измерить будущего, ибо его еще нет; не могу измерить настоящего, потому что в нем нет длительности, не могу измерить прошлого, потому что его уже нет. Что же я измеряю? Время, которое проходит, но еще не прошл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вгустин Авре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686040" cy="5010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3851280" y="5877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354-43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8"/>
          <p:cNvSpPr txBox="1"/>
          <p:nvPr/>
        </p:nvSpPr>
        <p:spPr>
          <a:xfrm>
            <a:off x="826920" y="260280"/>
            <a:ext cx="74901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блема времени в учении 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вгустина Аврелия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5"/>
          <p:cNvSpPr/>
          <p:nvPr/>
        </p:nvSpPr>
        <p:spPr>
          <a:xfrm>
            <a:off x="4102200" y="907920"/>
            <a:ext cx="504180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густин родился 13 ноября 354 в Тагасте на территории нынешнего Алжи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Его отец, римский гражданин Патриций, был мелким землевладельц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ать, Моника, была христианкой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одители обеспечили ему гуманитарное образование, открывавшее путь к карьере учителя, юриста или правительственного чинов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о восемнадцати лет он жил земной жизнью,  с любовными приключениями и студенческими забав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 совершеннолетию он обзавелся наложницей и стал отцом мальчика, которому дал имя Адеодат. Для самогó юного студента семейный образ жизни послужил стимулом к пробуждению интереса к философ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0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711600" cy="4824360"/>
          </a:xfrm>
          <a:prstGeom prst="rect">
            <a:avLst/>
          </a:prstGeom>
          <a:ln w="0">
            <a:noFill/>
          </a:ln>
        </p:spPr>
      </p:pic>
      <p:sp>
        <p:nvSpPr>
          <p:cNvPr id="49" name="WordArt 31"/>
          <p:cNvSpPr txBox="1"/>
          <p:nvPr/>
        </p:nvSpPr>
        <p:spPr>
          <a:xfrm>
            <a:off x="1042920" y="0"/>
            <a:ext cx="70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ткое жизнеописание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951280" y="0"/>
            <a:ext cx="619272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 девятнадцати годам он прочел Гортензия Цицерона, что побудило его обратиться к чтению Библии. Но она показалась ему невразумительной и он обратился к манихейст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о не найдя нигде удовлетворения, чуть не пришёл в отчаяние и лишь знакомство с платонической и неоплатонической философией, ставшей ему доступной благодаря латинскому переводу, на время дало пищу его у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383 переехал в Рим, а вскоре получил место ритора в Милане, где познакомился с епископом Амвросием и начал изучать сочинения неоплатоников и послания апостола Павла. Это окончательно склонила его к принятию нового веро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возрасте тридцати двух лет принял крещение в Медиолане. Основал монашескую общину в Гиппоне, в течение тридцати пяти лет был епископом Гипп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густин умер 28 августа 430 г., во время первой осады Гиппона вандал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augustin.jpg"/>
          <p:cNvPicPr/>
          <p:nvPr/>
        </p:nvPicPr>
        <p:blipFill>
          <a:blip r:embed="rId1"/>
          <a:stretch/>
        </p:blipFill>
        <p:spPr>
          <a:xfrm>
            <a:off x="324000" y="765000"/>
            <a:ext cx="2541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0552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О быт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Бог, мир и челове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О благода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О свободе и божественном предопределен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О вечности, времени и памя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Добро и зло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Истина и достоверное зна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Об обществе и истор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Позна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«О граде Божьем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«О Троице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«О свободной воле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«Пересмотры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«Исповедь» (его духовная биография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2"/>
          <p:cNvSpPr txBox="1"/>
          <p:nvPr/>
        </p:nvSpPr>
        <p:spPr>
          <a:xfrm>
            <a:off x="395280" y="333360"/>
            <a:ext cx="33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чинения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WordArt 13"/>
          <p:cNvSpPr txBox="1"/>
          <p:nvPr/>
        </p:nvSpPr>
        <p:spPr>
          <a:xfrm>
            <a:off x="5651640" y="333360"/>
            <a:ext cx="25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ения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Рисунок 5" descr="rubric_issue_54971.jpg"/>
          <p:cNvPicPr/>
          <p:nvPr/>
        </p:nvPicPr>
        <p:blipFill>
          <a:blip r:embed="rId1"/>
          <a:stretch/>
        </p:blipFill>
        <p:spPr>
          <a:xfrm>
            <a:off x="324000" y="3573360"/>
            <a:ext cx="471636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376360" cy="199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2286000" cy="2952720"/>
          </a:xfrm>
          <a:prstGeom prst="rect">
            <a:avLst/>
          </a:prstGeom>
          <a:ln w="0">
            <a:noFill/>
          </a:ln>
        </p:spPr>
      </p:pic>
      <p:sp>
        <p:nvSpPr>
          <p:cNvPr id="59" name="WordArt 6"/>
          <p:cNvSpPr txBox="1"/>
          <p:nvPr/>
        </p:nvSpPr>
        <p:spPr>
          <a:xfrm>
            <a:off x="324000" y="189000"/>
            <a:ext cx="5976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такое вечность?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2556000" y="2562840"/>
            <a:ext cx="604980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ечность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 — она ни была, ни будет, она только есть. В вечном нет ни преходящего, ни будущего. В вечности нет изменчивости и нет промежутков времени, так как промежутки времени состоят из прошедших и будущих изменений предметов. Вечность — мир мыслей-идей Бога, где всё раз и навсегд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3564000" y="4005360"/>
            <a:ext cx="1893960" cy="2565360"/>
          </a:xfrm>
          <a:prstGeom prst="rect">
            <a:avLst/>
          </a:prstGeom>
          <a:ln w="0">
            <a:noFill/>
          </a:ln>
        </p:spPr>
      </p:pic>
      <p:sp>
        <p:nvSpPr>
          <p:cNvPr id="62" name="WordArt 9"/>
          <p:cNvSpPr txBox="1"/>
          <p:nvPr/>
        </p:nvSpPr>
        <p:spPr>
          <a:xfrm>
            <a:off x="1763640" y="189000"/>
            <a:ext cx="5977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такое время?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250920" y="1251000"/>
            <a:ext cx="8893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овершенно ясно теперь одно,- говорит Августин,- ни будущего, ни прошлого нет, и неправильно говорить о существовании трех времен: прошедшего, настоящего и будущего… есть три времени – настоящее прошедшего, настоящее настоящего и настоящее будущего. Некие три времени эти существуют в нашей душе, и нигде в другом месте я их не вижу: настоящее прошедшего – это память; настоящее настоящего – это непосредственное созерцание; настоящее будущего – его ожидани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Organization Chart 4"/>
          <p:cNvGrpSpPr/>
          <p:nvPr/>
        </p:nvGrpSpPr>
        <p:grpSpPr>
          <a:xfrm>
            <a:off x="1116000" y="2276640"/>
            <a:ext cx="6913080" cy="3458160"/>
            <a:chOff x="1116000" y="2276640"/>
            <a:chExt cx="6913080" cy="3458160"/>
          </a:xfrm>
        </p:grpSpPr>
        <p:cxnSp>
          <p:nvCxnSpPr>
            <p:cNvPr id="65" name="_s1028"/>
            <p:cNvCxnSpPr>
              <a:stCxn id="66" idx="0"/>
              <a:endCxn id="67" idx="2"/>
            </p:cNvCxnSpPr>
            <p:nvPr/>
          </p:nvCxnSpPr>
          <p:spPr>
            <a:xfrm flipV="1">
              <a:off x="6991920" y="4437720"/>
              <a:ext cx="2880" cy="43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29"/>
            <p:cNvCxnSpPr>
              <a:stCxn id="69" idx="0"/>
              <a:endCxn id="70" idx="2"/>
            </p:cNvCxnSpPr>
            <p:nvPr/>
          </p:nvCxnSpPr>
          <p:spPr>
            <a:xfrm flipV="1">
              <a:off x="2152800" y="4437720"/>
              <a:ext cx="2880" cy="43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030"/>
            <p:cNvCxnSpPr>
              <a:stCxn id="72" idx="0"/>
              <a:endCxn id="73" idx="2"/>
            </p:cNvCxnSpPr>
            <p:nvPr/>
          </p:nvCxnSpPr>
          <p:spPr>
            <a:xfrm flipV="1">
              <a:off x="4572360" y="4437720"/>
              <a:ext cx="2880" cy="43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1"/>
            <p:cNvCxnSpPr>
              <a:stCxn id="67" idx="0"/>
              <a:endCxn id="75" idx="2"/>
            </p:cNvCxnSpPr>
            <p:nvPr/>
          </p:nvCxnSpPr>
          <p:spPr>
            <a:xfrm flipV="1" rot="16200000">
              <a:off x="5565600" y="2146680"/>
              <a:ext cx="432720" cy="2420280"/>
            </a:xfrm>
            <a:prstGeom prst="bentConnector3">
              <a:avLst>
                <a:gd name="adj1" fmla="val 333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1032"/>
            <p:cNvCxnSpPr>
              <a:stCxn id="73" idx="0"/>
              <a:endCxn id="75" idx="2"/>
            </p:cNvCxnSpPr>
            <p:nvPr/>
          </p:nvCxnSpPr>
          <p:spPr>
            <a:xfrm flipV="1">
              <a:off x="4572360" y="3140640"/>
              <a:ext cx="2880" cy="43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3"/>
            <p:cNvCxnSpPr>
              <a:stCxn id="70" idx="0"/>
              <a:endCxn id="75" idx="2"/>
            </p:cNvCxnSpPr>
            <p:nvPr/>
          </p:nvCxnSpPr>
          <p:spPr>
            <a:xfrm flipH="1" flipV="1" rot="5400000">
              <a:off x="3146040" y="2146680"/>
              <a:ext cx="432720" cy="2420280"/>
            </a:xfrm>
            <a:prstGeom prst="bentConnector3">
              <a:avLst>
                <a:gd name="adj1" fmla="val 333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5" name="_s1034"/>
            <p:cNvSpPr/>
            <p:nvPr/>
          </p:nvSpPr>
          <p:spPr>
            <a:xfrm>
              <a:off x="3535560" y="2276640"/>
              <a:ext cx="2073960" cy="86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b049"/>
                </a:gs>
                <a:gs pos="50000">
                  <a:srgbClr val="fc9fcb"/>
                </a:gs>
                <a:gs pos="100000">
                  <a:srgbClr val="f8b04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21b0e"/>
                  </a:solidFill>
                  <a:latin typeface="Arial"/>
                </a:rPr>
                <a:t>ВРЕМ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5"/>
            <p:cNvSpPr/>
            <p:nvPr/>
          </p:nvSpPr>
          <p:spPr>
            <a:xfrm>
              <a:off x="1116000" y="3573360"/>
              <a:ext cx="2073960" cy="86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b049"/>
                </a:gs>
                <a:gs pos="50000">
                  <a:srgbClr val="fc9fcb"/>
                </a:gs>
                <a:gs pos="100000">
                  <a:srgbClr val="f8b04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ШЛ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6"/>
            <p:cNvSpPr/>
            <p:nvPr/>
          </p:nvSpPr>
          <p:spPr>
            <a:xfrm>
              <a:off x="3535560" y="3573360"/>
              <a:ext cx="2073960" cy="86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b049"/>
                </a:gs>
                <a:gs pos="50000">
                  <a:srgbClr val="fc9fcb"/>
                </a:gs>
                <a:gs pos="100000">
                  <a:srgbClr val="f8b04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СТОЯЩ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7"/>
            <p:cNvSpPr/>
            <p:nvPr/>
          </p:nvSpPr>
          <p:spPr>
            <a:xfrm>
              <a:off x="5955120" y="3573360"/>
              <a:ext cx="2073960" cy="86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b049"/>
                </a:gs>
                <a:gs pos="50000">
                  <a:srgbClr val="fc9fcb"/>
                </a:gs>
                <a:gs pos="100000">
                  <a:srgbClr val="f8b04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БУДУЩ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8"/>
            <p:cNvSpPr/>
            <p:nvPr/>
          </p:nvSpPr>
          <p:spPr>
            <a:xfrm>
              <a:off x="3535560" y="4870440"/>
              <a:ext cx="2073960" cy="86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b049"/>
                </a:gs>
                <a:gs pos="50000">
                  <a:srgbClr val="fc9fcb"/>
                </a:gs>
                <a:gs pos="100000">
                  <a:srgbClr val="f8b04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ЗЕРЦ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9"/>
            <p:cNvSpPr/>
            <p:nvPr/>
          </p:nvSpPr>
          <p:spPr>
            <a:xfrm>
              <a:off x="1116000" y="4870440"/>
              <a:ext cx="2073960" cy="861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b049"/>
                </a:gs>
                <a:gs pos="50000">
                  <a:srgbClr val="fc9fcb"/>
                </a:gs>
                <a:gs pos="100000">
                  <a:srgbClr val="f8b04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СПОМИН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0"/>
            <p:cNvSpPr/>
            <p:nvPr/>
          </p:nvSpPr>
          <p:spPr>
            <a:xfrm>
              <a:off x="5955120" y="4870440"/>
              <a:ext cx="2073960" cy="861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b049"/>
                </a:gs>
                <a:gs pos="50000">
                  <a:srgbClr val="fc9fcb"/>
                </a:gs>
                <a:gs pos="100000">
                  <a:srgbClr val="f8b04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ДЕЖ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ЖИД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WordArt 19"/>
          <p:cNvSpPr txBox="1"/>
          <p:nvPr/>
        </p:nvSpPr>
        <p:spPr>
          <a:xfrm>
            <a:off x="324000" y="189000"/>
            <a:ext cx="8351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мнению Августина...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012000" y="4724280"/>
            <a:ext cx="1942920" cy="1946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665440" cy="4149720"/>
          </a:xfrm>
          <a:prstGeom prst="rect">
            <a:avLst/>
          </a:prstGeom>
          <a:ln w="0">
            <a:noFill/>
          </a:ln>
        </p:spPr>
      </p:pic>
      <p:sp>
        <p:nvSpPr>
          <p:cNvPr id="81" name="WordArt 8"/>
          <p:cNvSpPr txBox="1"/>
          <p:nvPr/>
        </p:nvSpPr>
        <p:spPr>
          <a:xfrm>
            <a:off x="2916360" y="260280"/>
            <a:ext cx="59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мы измеряем время?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2843280" y="320400"/>
            <a:ext cx="630072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я существует лишь в нашей душе, так и измерять время мы можем только в ней ж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«Внимание, существующее в настоящем, переправляет будущее в прошлое; уменьшается будущее – растет прошлое; исчезает совсем будущее – и все становится прошлым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 в душе существуют три времен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«Она и ждет, и внимает, и помнит: то, чего она ждет, проходит через то, чему она внимает, и уходит туда, о чем она вспоминает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20:34:59Z</dcterms:created>
  <dc:creator>Users</dc:creator>
  <dc:description/>
  <dc:language>en-US</dc:language>
  <cp:lastModifiedBy>Olechk@</cp:lastModifiedBy>
  <dcterms:modified xsi:type="dcterms:W3CDTF">2012-12-18T17:58:20Z</dcterms:modified>
  <cp:revision>10</cp:revision>
  <dc:subject/>
  <dc:title>Проблема времени в учении Августина Аврелия</dc:title>
</cp:coreProperties>
</file>