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5DE2-8C68-4F6C-8778-CAECAB344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FB5A-8239-4DCE-90D2-9D4D83DC2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7C94-77A8-4B25-A127-9EEF0D594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9796-82BA-48BC-BD65-DBED2EA83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A9908-1C8E-4D43-A571-5AB19E67F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2EE9C-8BE7-405A-BD0B-1E09A4F9A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B24F8-DF91-46BB-99BB-8B990BE71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69683-346B-4A87-BAA9-EA4A7196D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C55E5-C55E-439E-B47F-92E75D4F2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6EB62-59FF-4EF0-A9BB-32F0950FD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EBCDF-752A-4475-97B7-BC178215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195A-461D-4F3F-AD8D-ED6CDA5B7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A1F6A-D8B7-4C2A-8372-C9F0F9CB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68454-952C-4434-B90F-B0BBE330F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18DC2-2090-49EE-9ACF-301D0084D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DD11B-B7F7-4F37-A2E2-3047BF700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BA2FC-D52A-4922-AB9E-EDC35AD62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B140-A2C4-43DA-853A-E9C7F572C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FE7C-75F6-4EFB-A18C-56B56BF10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4794-DB5C-43D9-914A-413182D3B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8601-A4DC-415A-8137-FDF52A94D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AE61-B255-4F3D-AD4A-6A25EE64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15D0-987A-4AE7-A290-09780A005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CDF5-65D4-46C1-AA3B-66ADEF7B7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6080"/>
                        <a:gd name="textAreaBottom" fmla="*/ 226440 h 22608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56880"/>
                      <a:gd name="textAreaBottom" fmla="*/ 57240 h 5688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37080"/>
                      <a:gd name="textAreaBottom" fmla="*/ 37440 h 3708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>
                      <a:gd name="textAreaLeft" fmla="*/ 0 w 24480"/>
                      <a:gd name="textAreaRight" fmla="*/ 24840 w 24480"/>
                      <a:gd name="textAreaTop" fmla="*/ 0 h 60840"/>
                      <a:gd name="textAreaBottom" fmla="*/ 61200 h 6084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>
                      <a:gd name="textAreaLeft" fmla="*/ 0 w 38880"/>
                      <a:gd name="textAreaRight" fmla="*/ 39240 w 38880"/>
                      <a:gd name="textAreaTop" fmla="*/ 0 h 42120"/>
                      <a:gd name="textAreaBottom" fmla="*/ 42120 h 4212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AC845-CA23-4FC6-B0BA-C54BCED087A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6080"/>
                        <a:gd name="textAreaBottom" fmla="*/ 226440 h 22608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56880"/>
                      <a:gd name="textAreaBottom" fmla="*/ 57240 h 5688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37080"/>
                      <a:gd name="textAreaBottom" fmla="*/ 37440 h 3708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>
                      <a:gd name="textAreaLeft" fmla="*/ 0 w 24480"/>
                      <a:gd name="textAreaRight" fmla="*/ 24840 w 24480"/>
                      <a:gd name="textAreaTop" fmla="*/ 0 h 60840"/>
                      <a:gd name="textAreaBottom" fmla="*/ 61200 h 6084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>
                      <a:gd name="textAreaLeft" fmla="*/ 0 w 38880"/>
                      <a:gd name="textAreaRight" fmla="*/ 39240 w 38880"/>
                      <a:gd name="textAreaTop" fmla="*/ 0 h 42120"/>
                      <a:gd name="textAreaBottom" fmla="*/ 42120 h 4212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69C3B-6622-4365-8E7F-E7E06F579B95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МОБУ СОШ №3 им.Ю.А. Гагарина г.Таганрога</a:t>
            </a:r>
            <a:endParaRPr b="0" lang="en-US" sz="1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619280" y="458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Учитель физики высшей категории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Архиповская Е.В.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2012 г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WordArt 4"/>
          <p:cNvSpPr txBox="1"/>
          <p:nvPr/>
        </p:nvSpPr>
        <p:spPr>
          <a:xfrm>
            <a:off x="826920" y="1341360"/>
            <a:ext cx="7429680" cy="29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2f1311"/>
                </a:solidFill>
                <a:latin typeface="Arial"/>
              </a:rPr>
              <a:t>Повторение темы: </a:t>
            </a:r>
            <a:endParaRPr b="0" lang="en-US" sz="1800" spc="1" strike="noStrike">
              <a:ln w="0">
                <a:noFill/>
              </a:ln>
              <a:solidFill>
                <a:srgbClr val="2f1311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2f1311"/>
                </a:solidFill>
                <a:latin typeface="Arial"/>
              </a:rPr>
              <a:t>«Электростатика»</a:t>
            </a:r>
            <a:endParaRPr b="0" lang="en-US" sz="1800" spc="1" strike="noStrike">
              <a:ln w="0">
                <a:noFill/>
              </a:ln>
              <a:solidFill>
                <a:srgbClr val="2f1311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Решение задач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63160" y="1484280"/>
            <a:ext cx="36162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Сборник задач В.И.Лукашик, Е.В.Иванова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560520" indent="-560520">
              <a:spcBef>
                <a:spcPts val="700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№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1174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560520" indent="-560520">
              <a:spcBef>
                <a:spcPts val="700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1182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560520" indent="-560520">
              <a:spcBef>
                <a:spcPts val="700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1194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560520" indent="-560520">
              <a:spcBef>
                <a:spcPts val="700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1198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560520" indent="-560520">
              <a:spcBef>
                <a:spcPts val="700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1207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560520" indent="-560520">
              <a:spcBef>
                <a:spcPts val="700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1218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560520" indent="-560520">
              <a:spcBef>
                <a:spcPts val="700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1223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2f1311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В ядре атома алюминия 27 частиц и вокруг атома движутся 13 электронов. Сколько в ядре атома протонов и нейтронов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Решение задач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2f1311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 поле равномерно заряженного шара находиться пылинка. Как направлена сила, действующая на пылинку со стороны поля? Действует ли поле пылинки на шар?  Ответ обоснуйт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Домашнее задание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73864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тр.34 учебник физика 8 класс Н.М.Шамаев «Самое важное в главе 1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№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197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№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193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№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203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№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214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8642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7d47d"/>
                </a:solidFill>
                <a:uFillTx/>
                <a:latin typeface="Arial"/>
              </a:rPr>
              <a:t>ТС</a:t>
            </a:r>
            <a:br>
              <a:rPr sz="2000"/>
            </a:br>
            <a:r>
              <a:rPr b="0" lang="ru-RU" sz="1200" spc="-1" strike="noStrike">
                <a:solidFill>
                  <a:srgbClr val="f7d47d"/>
                </a:solidFill>
                <a:latin typeface="Arial"/>
              </a:rPr>
              <a:t>Часть 1.</a:t>
            </a:r>
            <a:r>
              <a:rPr b="0" lang="ru-RU" sz="18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7d47d"/>
                </a:solidFill>
                <a:latin typeface="Arial"/>
              </a:rPr>
              <a:t>Из предложенных ответов выберите один правильный.</a:t>
            </a:r>
            <a:endParaRPr b="0" lang="en-US" sz="1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052280"/>
            <a:ext cx="346716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2f1311"/>
                </a:solidFill>
                <a:uFillTx/>
                <a:latin typeface="Arial"/>
              </a:rPr>
              <a:t>Какая из перечисленных частиц имеет наименьший отрицательный заряд?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f1311"/>
              </a:buClr>
              <a:buSzPct val="80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ротон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f1311"/>
              </a:buClr>
              <a:buSzPct val="80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Нейтрон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f1311"/>
              </a:buClr>
              <a:buSzPct val="80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Электрон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f1311"/>
              </a:buClr>
              <a:buSzPct val="80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озитрон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995280" y="981000"/>
            <a:ext cx="469116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2f1311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2f1311"/>
                </a:solidFill>
                <a:uFillTx/>
                <a:latin typeface="Arial"/>
              </a:rPr>
              <a:t>Чтобы разрядить конденсатор, достаточно…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f1311"/>
              </a:buClr>
              <a:buSzPct val="80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Соединить его обкладки проводником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f1311"/>
              </a:buClr>
              <a:buSzPct val="80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Наэлектризовать каждую из его обкладок в отдельности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f1311"/>
              </a:buClr>
              <a:buSzPct val="80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Сообщить заряд одной из обкладок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f1311"/>
              </a:buClr>
              <a:buSzPct val="80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Заземлить одну из обкладок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24000" y="26028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2f1311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2f1311"/>
                </a:solidFill>
                <a:uFillTx/>
                <a:latin typeface="Arial"/>
              </a:rPr>
              <a:t>Если в атоме число электронов больше числа протонов, то атом -…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2f1311"/>
              </a:buClr>
              <a:buSzPct val="80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Отрицательно заряженный ион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2f1311"/>
              </a:buClr>
              <a:buSzPct val="80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Электрически нейтрален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2f1311"/>
              </a:buClr>
              <a:buSzPct val="80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Положительно заряженный ион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2f1311"/>
              </a:buClr>
              <a:buSzPct val="80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протон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2349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01480" indent="-501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2f1311"/>
                </a:solidFill>
                <a:uFillTx/>
                <a:latin typeface="Arial"/>
              </a:rPr>
              <a:t>Часть 2.</a:t>
            </a:r>
            <a:r>
              <a:rPr b="0" lang="ru-RU" sz="2800" spc="-1" strike="noStrike" u="sng">
                <a:solidFill>
                  <a:srgbClr val="2f1311"/>
                </a:solidFill>
                <a:uFillTx/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2f1311"/>
                </a:solidFill>
                <a:uFillTx/>
                <a:latin typeface="Arial"/>
              </a:rPr>
              <a:t>Дайте развёрнутый ответ</a:t>
            </a:r>
            <a:r>
              <a:rPr b="0" lang="ru-RU" sz="2800" spc="-1" strike="noStrike" u="sng">
                <a:solidFill>
                  <a:srgbClr val="2f1311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501480" indent="-501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4. В 1753 г. Профессор Туринского университета Дж. Беккариа заметил, что сплошной металлический куб и полый куб, одинаково наэлектризованные, притягиваются одинаково. Почему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501480" indent="-501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5. Почему при проведении опытов с электризацией человека он должен стоять на изолированной подставке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501480" indent="-501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7d47d"/>
                </a:solidFill>
                <a:latin typeface="Arial"/>
              </a:rPr>
              <a:t>Часть  3.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Приведите полное решение задачи.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2f1311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Чему равен заряд тела, если оно имеет 20 лишних электронов?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(е = 1,6*10</a:t>
            </a:r>
            <a:r>
              <a:rPr b="0" lang="ru-RU" sz="3200" spc="-1" strike="noStrike" baseline="40000">
                <a:solidFill>
                  <a:srgbClr val="2f1311"/>
                </a:solidFill>
                <a:latin typeface="Arial"/>
              </a:rPr>
              <a:t>-19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Кл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f1311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 ядре атома 164 частицы. Из них 80 протонов. Сколько нейтронов и электронов в этом ядре? В этом атоме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7d47d"/>
                </a:solidFill>
                <a:latin typeface="Arial"/>
              </a:rPr>
              <a:t>Ответы:</a:t>
            </a:r>
            <a:endParaRPr b="0" lang="en-US" sz="1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403848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Заряды находятся на поверхности, поэтому наличие полости не сказывается на электрических свойствах тел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48320" y="692280"/>
            <a:ext cx="403848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2f1311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Тело человека является проводником, поэтому если он не будет стоять на изолирующей подставке, заряды уйдут в землю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2f1311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-3,2*10-18К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2f1311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В ядре: 84 нейтрона, нет электронов. В атоме: 84 нейтрона, 80 электронов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5T15:43:41Z</dcterms:created>
  <dc:creator>Arhipovskai</dc:creator>
  <dc:description/>
  <dc:language>en-US</dc:language>
  <cp:lastModifiedBy>User</cp:lastModifiedBy>
  <dcterms:modified xsi:type="dcterms:W3CDTF">2012-12-18T19:10:35Z</dcterms:modified>
  <cp:revision>19</cp:revision>
  <dc:subject/>
  <dc:title>Слайд 1</dc:title>
</cp:coreProperties>
</file>