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A58-5031-42E0-8568-4ED4225A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428-DF43-41D8-8C05-32FD20C2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9BB-45FB-4EAF-A919-56D09594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EEA-3A0B-4A2F-8873-01B7CDD7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717D-5FFC-4D8A-85CB-3E4B5FB1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AB68-5134-40CF-83D4-91F48F47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B232-A716-4A09-8928-BC3D361C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23A2-7FB6-4963-AAD4-F7EE1335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F493-70B6-484D-81F9-7A950314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BCD7-6E08-4D38-9796-BAF5D6F8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65DD-4E88-4205-AAF1-65632A9F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AE1-521C-4F17-ACCD-BE81977E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DCB-1EB3-47A2-B250-BFAC6E1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BBD9-AC9C-46B6-99F6-CBDC1F71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B0C5-BCBE-4D19-A3E3-17E73D4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C587-9CF1-498A-B22D-AD4874B3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A858-A907-4C9B-B3CD-19F6C044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D89-A303-430C-B3EC-DAE6F6C2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104-0439-457D-B166-4F001B59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DF9-EE80-48EE-A9B6-59D9FF25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BD1-4ABA-46E6-8D24-26131A6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E16-E63D-433E-BD26-0E5A5C9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6AB-2CC5-4757-9399-3FE3933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1A8-19E9-453C-9BDC-B5A1806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30B0-CBE2-40EB-9ABB-88C17BF999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1B48-6FC6-48E5-A5D5-3DD95E6F84A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ОБУ СОШ №3 им.Ю.А. Гагарина г.Таганрога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19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читель физики высшей категори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рхиповская Е.В.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826920" y="1341360"/>
            <a:ext cx="74296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f1311"/>
                </a:solidFill>
                <a:latin typeface="Arial"/>
              </a:rPr>
              <a:t>Повторение темы: </a:t>
            </a:r>
            <a:endParaRPr b="0" lang="en-US" sz="1800" spc="1" strike="noStrike">
              <a:ln w="0">
                <a:noFill/>
              </a:ln>
              <a:solidFill>
                <a:srgbClr val="2f131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f1311"/>
                </a:solidFill>
                <a:latin typeface="Arial"/>
              </a:rPr>
              <a:t>«Электростатика»</a:t>
            </a:r>
            <a:endParaRPr b="0" lang="en-US" sz="1800" spc="1" strike="noStrike">
              <a:ln w="0">
                <a:noFill/>
              </a:ln>
              <a:solidFill>
                <a:srgbClr val="2f131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шение задач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484280"/>
            <a:ext cx="3616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борник задач В.И.Лукашик, Е.В.Иванов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17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18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19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19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0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1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2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ядре атома алюминия 27 частиц и вокруг атома движутся 13 электронов. Сколько в ядре атома протонов и нейтронов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шение задач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поле равномерно заряженного шара находиться пылинка. Как направлена сила, действующая на пылинку со стороны поля? Действует ли поле пылинки на шар?  Ответ обоснуйт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738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р.34 учебник физика 8 класс Н.М.Шамаев «Самое важное в главе 1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19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19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20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21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7d47d"/>
                </a:solidFill>
                <a:uFillTx/>
                <a:latin typeface="Arial"/>
              </a:rPr>
              <a:t>ТС</a:t>
            </a:r>
            <a:br>
              <a:rPr sz="2000"/>
            </a:b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Часть 1.</a:t>
            </a: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Из предложенных ответов выберите один правильный.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46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Какая из перечисленных частиц имеет наименьший отрицательный заряд?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т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йт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лект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зит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995280" y="981000"/>
            <a:ext cx="4691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Чтобы разрядить конденсатор, достаточно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единить его обкладки проводник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электризовать каждую из его обкладок в отдель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общить заряд одной из обклад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землить одну из обклад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Если в атоме число электронов больше числа протонов, то атом -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трицательно заряженный ио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лектрически нейтрале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ложительно заряженный ио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тон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Часть 2.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Дайте развёрнутый ответ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 В 1753 г. Профессор Туринского университета Дж. Беккариа заметил, что сплошной металлический куб и полый куб, одинаково наэлектризованные, притягиваются одинаково. Почему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. Почему при проведении опытов с электризацией человека он должен стоять на изолированной подставк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Часть  3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Приведите полное решение зада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му равен заряд тела, если оно имеет 20 лишних электронов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(е = 1,6*10</a:t>
            </a:r>
            <a:r>
              <a:rPr b="0" lang="ru-RU" sz="3200" spc="-1" strike="noStrike" baseline="40000">
                <a:solidFill>
                  <a:srgbClr val="2f1311"/>
                </a:solidFill>
                <a:latin typeface="Arial"/>
              </a:rPr>
              <a:t>-19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л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ядре атома 164 частицы. Из них 80 протонов. Сколько нейтронов и электронов в этом ядре? В этом атом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ряды находятся на поверхности, поэтому наличие полости не сказывается на электрических свойствах те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человека является проводником, поэтому если он не будет стоять на изолирующей подставке, заряды уйдут в земл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3,2*10-18К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ядре: 84 нейтрона, нет электронов. В атоме: 84 нейтрона, 80 электрон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5:43:41Z</dcterms:created>
  <dc:creator>Arhipovskai</dc:creator>
  <dc:description/>
  <dc:language>en-US</dc:language>
  <cp:lastModifiedBy>User</cp:lastModifiedBy>
  <dcterms:modified xsi:type="dcterms:W3CDTF">2012-12-18T19:10:35Z</dcterms:modified>
  <cp:revision>19</cp:revision>
  <dc:subject/>
  <dc:title>Слайд 1</dc:title>
</cp:coreProperties>
</file>