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BB8-D066-456F-A4B7-360B9C27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B0C-7C75-4F9F-893D-B4C51149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C00D-96E0-4E23-9FEA-EAF0D022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2BC3-1302-4FBF-B969-B4B34EC8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4BF-19BB-4D9A-A08D-54BCC906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F488-B69E-48B6-84A0-C582A64D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2B02-29D4-4C0B-A9C8-FF785761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8B2-B010-4D4B-8179-9C06BF9A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A10-EA38-4B9E-8AC5-7ECB6867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2CB-3369-4AC2-8201-C77BD897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B1CC-EF8E-4970-BF3A-403F72D8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FB0-7998-4DAC-822B-4AB11354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1EA0-56F8-4197-8199-E4AEACC36D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332000" y="1484280"/>
            <a:ext cx="691200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аблиц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лгебра 8 клас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AL_8_08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AL_8_09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AL_8_10"/>
          <p:cNvPicPr/>
          <p:nvPr/>
        </p:nvPicPr>
        <p:blipFill>
          <a:blip r:embed="rId1"/>
          <a:stretch/>
        </p:blipFill>
        <p:spPr>
          <a:xfrm>
            <a:off x="216540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AL_8_11"/>
          <p:cNvPicPr/>
          <p:nvPr/>
        </p:nvPicPr>
        <p:blipFill>
          <a:blip r:embed="rId1"/>
          <a:stretch/>
        </p:blipFill>
        <p:spPr>
          <a:xfrm>
            <a:off x="216540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AL_8_12"/>
          <p:cNvPicPr/>
          <p:nvPr/>
        </p:nvPicPr>
        <p:blipFill>
          <a:blip r:embed="rId1"/>
          <a:stretch/>
        </p:blipFill>
        <p:spPr>
          <a:xfrm>
            <a:off x="216540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AL_8_13"/>
          <p:cNvPicPr/>
          <p:nvPr/>
        </p:nvPicPr>
        <p:blipFill>
          <a:blip r:embed="rId1"/>
          <a:stretch/>
        </p:blipFill>
        <p:spPr>
          <a:xfrm>
            <a:off x="216540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AL_8_14"/>
          <p:cNvPicPr/>
          <p:nvPr/>
        </p:nvPicPr>
        <p:blipFill>
          <a:blip r:embed="rId1"/>
          <a:stretch/>
        </p:blipFill>
        <p:spPr>
          <a:xfrm>
            <a:off x="216540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2050920" y="692280"/>
            <a:ext cx="5113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Рациональные дроби и их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умма и разность дроб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роизведение и частное дроб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Функция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y=k/x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и ее граф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Действительные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Арифметический квадратный кор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Функция квадратного корня из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x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и его граф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Свойства арифметического квадратного кор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Квадратное уравнение и его кор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Формула корней квадратного урав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Дробные рациональные урав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Числовые неравенства и их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Неравенства с одной переменой и их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Степень с целым показателем и ее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L_8_01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AL_8_02"/>
          <p:cNvPicPr/>
          <p:nvPr/>
        </p:nvPicPr>
        <p:blipFill>
          <a:blip r:embed="rId1"/>
          <a:stretch/>
        </p:blipFill>
        <p:spPr>
          <a:xfrm>
            <a:off x="21240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L_8_03"/>
          <p:cNvPicPr/>
          <p:nvPr/>
        </p:nvPicPr>
        <p:blipFill>
          <a:blip r:embed="rId1"/>
          <a:stretch/>
        </p:blipFill>
        <p:spPr>
          <a:xfrm>
            <a:off x="216540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AL_8_04"/>
          <p:cNvPicPr/>
          <p:nvPr/>
        </p:nvPicPr>
        <p:blipFill>
          <a:blip r:embed="rId1"/>
          <a:stretch/>
        </p:blipFill>
        <p:spPr>
          <a:xfrm>
            <a:off x="216540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AL_8_05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AL_8_06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AL_8_07"/>
          <p:cNvPicPr/>
          <p:nvPr/>
        </p:nvPicPr>
        <p:blipFill>
          <a:blip r:embed="rId1"/>
          <a:stretch/>
        </p:blipFill>
        <p:spPr>
          <a:xfrm>
            <a:off x="216540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6:18:46Z</dcterms:created>
  <dc:creator>Ученик</dc:creator>
  <dc:description/>
  <dc:language>en-US</dc:language>
  <cp:lastModifiedBy>Админчик</cp:lastModifiedBy>
  <dcterms:modified xsi:type="dcterms:W3CDTF">2012-12-18T18:56:59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  <property fmtid="{D5CDD505-2E9C-101B-9397-08002B2CF9AE}" pid="3" name="Муниципалитет">
    <vt:lpwstr/>
  </property>
</Properties>
</file>