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220-1B8F-4316-9487-FCCAC321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054-E9B9-4CEF-9F94-3279BDE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3CB-50E0-4629-B843-F25EC08D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CAF-BF25-44EC-AC03-88C7F1C6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0AE-01BD-402A-B7CE-20705072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5A9-A492-4047-9DF7-87A3B202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4E6-CAEC-4589-8BC6-391D3124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75E-2B25-4F6C-9527-9A2B8EF6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E14-DD31-4784-A6C5-43D968E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5E2-75B0-40BF-B4A1-90215499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865-F192-4F72-BB07-4E9E23B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7AE-BCBA-4C96-AD93-82E5E7B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A8E-AD00-4697-8139-01EF8E889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32000" y="1484280"/>
            <a:ext cx="6912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блиц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гебра 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L_8_08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AL_8_09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L_8_10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L_8_11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AL_8_12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L_8_13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AL_8_14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2050920" y="692280"/>
            <a:ext cx="5113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циональные дроби и их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умма и разность 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роизведение и частное 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Функци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y=k/x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и ее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Действитель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Арифметический квадратный 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Функция квадратного корня из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и его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Свойства арифметического квадратного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вадратное уравнение и его ко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Формула корней квадратного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Дробные рациональные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Числовые неравенства и их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Неравенства с одной переменой и их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Степень с целым показателем и е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L_8_01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AL_8_02"/>
          <p:cNvPicPr/>
          <p:nvPr/>
        </p:nvPicPr>
        <p:blipFill>
          <a:blip r:embed="rId1"/>
          <a:stretch/>
        </p:blipFill>
        <p:spPr>
          <a:xfrm>
            <a:off x="2124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AL_8_03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AL_8_04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L_8_05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L_8_06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L_8_07"/>
          <p:cNvPicPr/>
          <p:nvPr/>
        </p:nvPicPr>
        <p:blipFill>
          <a:blip r:embed="rId1"/>
          <a:stretch/>
        </p:blipFill>
        <p:spPr>
          <a:xfrm>
            <a:off x="216540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>
            <a:hlinkClick r:id="" action="ppaction://hlinkshowjump?jump=previousslide"/>
          </p:cNvPr>
          <p:cNvSpPr/>
          <p:nvPr/>
        </p:nvSpPr>
        <p:spPr>
          <a:xfrm>
            <a:off x="7812000" y="602136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7493"/>
                </a:moveTo>
                <a:lnTo>
                  <a:pt x="14144" y="7493"/>
                </a:lnTo>
                <a:lnTo>
                  <a:pt x="14144" y="12828"/>
                </a:lnTo>
                <a:cubicBezTo>
                  <a:pt x="14144" y="13751"/>
                  <a:pt x="14945" y="14482"/>
                  <a:pt x="15980" y="14482"/>
                </a:cubicBezTo>
                <a:lnTo>
                  <a:pt x="17643" y="14482"/>
                </a:lnTo>
                <a:cubicBezTo>
                  <a:pt x="18679" y="14482"/>
                  <a:pt x="19479" y="13751"/>
                  <a:pt x="19479" y="12828"/>
                </a:cubicBezTo>
                <a:lnTo>
                  <a:pt x="19479" y="7493"/>
                </a:lnTo>
                <a:lnTo>
                  <a:pt x="17643" y="7493"/>
                </a:lnTo>
                <a:lnTo>
                  <a:pt x="21150" y="3985"/>
                </a:lnTo>
                <a:lnTo>
                  <a:pt x="24823" y="7493"/>
                </a:lnTo>
                <a:lnTo>
                  <a:pt x="22987" y="7493"/>
                </a:lnTo>
                <a:lnTo>
                  <a:pt x="22987" y="12828"/>
                </a:lnTo>
                <a:cubicBezTo>
                  <a:pt x="22987" y="15596"/>
                  <a:pt x="20411" y="18155"/>
                  <a:pt x="17643" y="18155"/>
                </a:cubicBezTo>
                <a:lnTo>
                  <a:pt x="15980" y="18155"/>
                </a:lnTo>
                <a:cubicBezTo>
                  <a:pt x="13213" y="18155"/>
                  <a:pt x="10636" y="15596"/>
                  <a:pt x="1063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6:18:46Z</dcterms:created>
  <dc:creator>Ученик</dc:creator>
  <dc:description/>
  <dc:language>en-US</dc:language>
  <cp:lastModifiedBy>Админчик</cp:lastModifiedBy>
  <dcterms:modified xsi:type="dcterms:W3CDTF">2012-12-18T18:56:59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Документ</vt:lpwstr>
  </property>
  <property fmtid="{D5CDD505-2E9C-101B-9397-08002B2CF9AE}" pid="3" name="Муниципалитет">
    <vt:lpwstr/>
  </property>
</Properties>
</file>