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0D5-97D2-4D2D-8F05-12ED9384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95D-7A12-44C3-9FA9-CFB9317B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11A-D348-450E-874C-81F04428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A0F-F60F-41BB-9D3B-F82D9BFC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628E-05D0-4F50-8A43-16CA5691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573B-1820-4F30-9644-5E81E9FA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2B61-5C37-4413-ACE2-9667A7DC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E58F-3A1A-4EEE-AE35-1420A605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0BDD-4196-4D46-9E3D-37C9729C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D702-E63E-4011-B661-536D9151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D607-7DC7-45F5-B6DB-D9267B28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A06-4D7F-47A7-803E-99439C08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D617-277E-4F7A-824E-206C1D2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B2F2-DE7C-41B7-92B4-A7AD93D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2A2C-ECEB-46B9-B1BC-12384076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2909-E705-496D-BEA6-583A274E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9C77-DE1F-4645-AEE7-D9D29E08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285-F2B0-4976-9F4D-B25E45E9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383-B827-4B1E-BE0C-E718E6BE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0CD-1C32-409B-9913-B38351A5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DFA-747F-4496-B360-B2C5F169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FE7-F465-4F8C-A5E0-17C41BF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176-54C5-488A-97C4-D3292E6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058-053A-453E-9F31-8CCEBAD1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0879-6900-467E-A484-8B72AF7B35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064B-8323-4DFA-B3C6-8E6D19B37B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4" descr=""/>
          <p:cNvPicPr/>
          <p:nvPr/>
        </p:nvPicPr>
        <p:blipFill>
          <a:blip r:embed="rId1"/>
          <a:stretch/>
        </p:blipFill>
        <p:spPr>
          <a:xfrm>
            <a:off x="2620800" y="1127160"/>
            <a:ext cx="4548240" cy="151272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3" descr=""/>
          <p:cNvPicPr/>
          <p:nvPr/>
        </p:nvPicPr>
        <p:blipFill>
          <a:blip r:embed="rId2"/>
          <a:stretch/>
        </p:blipFill>
        <p:spPr>
          <a:xfrm>
            <a:off x="3486240" y="2481120"/>
            <a:ext cx="2817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26"/>
          <p:cNvSpPr/>
          <p:nvPr/>
        </p:nvSpPr>
        <p:spPr>
          <a:xfrm>
            <a:off x="1332000" y="515772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число первой строки умножьте на 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27"/>
          <p:cNvSpPr/>
          <p:nvPr/>
        </p:nvSpPr>
        <p:spPr>
          <a:xfrm>
            <a:off x="1187280" y="51768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числам третьей строки прибавьте числа четвёртой стро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27"/>
          <p:cNvSpPr/>
          <p:nvPr/>
        </p:nvSpPr>
        <p:spPr>
          <a:xfrm>
            <a:off x="1258920" y="5084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а четвёртой строки дополните до 10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26"/>
          <p:cNvSpPr/>
          <p:nvPr/>
        </p:nvSpPr>
        <p:spPr>
          <a:xfrm>
            <a:off x="1403280" y="505476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ел четвёртой строки вычтите числа первой стро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1763640" y="3009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1763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284328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287964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995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514836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6227640" y="2997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7329600" y="2997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014720" y="3789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1"/>
          <p:cNvSpPr/>
          <p:nvPr/>
        </p:nvSpPr>
        <p:spPr>
          <a:xfrm>
            <a:off x="5148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2"/>
          <p:cNvSpPr/>
          <p:nvPr/>
        </p:nvSpPr>
        <p:spPr>
          <a:xfrm>
            <a:off x="6300720" y="3800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7380360" y="378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76364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5"/>
          <p:cNvSpPr/>
          <p:nvPr/>
        </p:nvSpPr>
        <p:spPr>
          <a:xfrm>
            <a:off x="2881440" y="21337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6"/>
          <p:cNvSpPr/>
          <p:nvPr/>
        </p:nvSpPr>
        <p:spPr>
          <a:xfrm>
            <a:off x="402588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5148360" y="216360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6249960" y="21337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7364520" y="21337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0"/>
          <p:cNvSpPr/>
          <p:nvPr/>
        </p:nvSpPr>
        <p:spPr>
          <a:xfrm>
            <a:off x="1763640" y="134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2881440" y="1343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3995640" y="134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23"/>
          <p:cNvSpPr/>
          <p:nvPr/>
        </p:nvSpPr>
        <p:spPr>
          <a:xfrm>
            <a:off x="5148360" y="1341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4"/>
          <p:cNvSpPr/>
          <p:nvPr/>
        </p:nvSpPr>
        <p:spPr>
          <a:xfrm>
            <a:off x="6300720" y="135252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5"/>
          <p:cNvSpPr/>
          <p:nvPr/>
        </p:nvSpPr>
        <p:spPr>
          <a:xfrm>
            <a:off x="7380360" y="135252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рямоугольник 27"/>
          <p:cNvSpPr/>
          <p:nvPr/>
        </p:nvSpPr>
        <p:spPr>
          <a:xfrm>
            <a:off x="1258920" y="502920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сумму всех чисел второй стро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8:23:26Z</dcterms:created>
  <dc:creator>MAMA</dc:creator>
  <dc:description/>
  <dc:language>en-US</dc:language>
  <cp:lastModifiedBy>Я</cp:lastModifiedBy>
  <dcterms:modified xsi:type="dcterms:W3CDTF">2012-12-19T15:52:19Z</dcterms:modified>
  <cp:revision>7</cp:revision>
  <dc:subject/>
  <dc:title>Презентация PowerPoint</dc:title>
</cp:coreProperties>
</file>