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478-1F21-46DF-95F7-42FFE42C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635-C606-49CC-B12C-45DA4B49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CE3-D53F-4F70-8E98-05C80528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2BA-A610-4466-B08F-B22BCB08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59AF-67FB-48AD-88A3-87B1DB5F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3CD2-9AF1-4813-A4EE-CC3D72D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967F-9A80-499F-A1FE-F0B1CCAE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0A13-4A01-4844-BCA2-63AD029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7ED8-0E05-4227-8E17-315AC05A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52C6-AF67-4DA8-9F15-0DDE61AA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F82-961F-40C7-AC41-F9C2469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236-3B49-4D52-ADF8-D3E61AC4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D69C-3BA8-4CB7-A00B-0F7615F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59B5-5C3F-40C0-8FE8-CF77267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1AB2-048C-479F-9A3C-95E57863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554D-CD14-4E1C-BA61-53BABE05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7872-93C6-47FA-AC65-D6B9518C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EF4-FD21-4A3F-A6D3-56825ED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CF6-C2D1-468E-BC41-644256A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D3F-6BE2-4D76-8A64-1F60EF32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EF7-CA9F-48EA-A19D-81A5393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86D-4883-4FA7-9A91-03F61A7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0C4-106E-491C-A558-ECC2FA9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2F0-E7CF-452B-8AA8-A689D0D9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C36C-E714-4104-9501-AC4179B16B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137D-70B2-4406-947E-685C28D9A6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4" descr=""/>
          <p:cNvPicPr/>
          <p:nvPr/>
        </p:nvPicPr>
        <p:blipFill>
          <a:blip r:embed="rId1"/>
          <a:stretch/>
        </p:blipFill>
        <p:spPr>
          <a:xfrm>
            <a:off x="2620800" y="1127160"/>
            <a:ext cx="454824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" descr=""/>
          <p:cNvPicPr/>
          <p:nvPr/>
        </p:nvPicPr>
        <p:blipFill>
          <a:blip r:embed="rId2"/>
          <a:stretch/>
        </p:blipFill>
        <p:spPr>
          <a:xfrm>
            <a:off x="3486240" y="2481120"/>
            <a:ext cx="2817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6"/>
          <p:cNvSpPr/>
          <p:nvPr/>
        </p:nvSpPr>
        <p:spPr>
          <a:xfrm>
            <a:off x="1332000" y="51577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число первой строки умножьте на 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1187280" y="51768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ислам третьей строки прибавьте числа четвёртой стро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27"/>
          <p:cNvSpPr/>
          <p:nvPr/>
        </p:nvSpPr>
        <p:spPr>
          <a:xfrm>
            <a:off x="1258920" y="5084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четвёртой строки дополните до 10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1403280" y="50547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ел четвёртой строки вычтите числа первой стро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7"/>
          <p:cNvSpPr/>
          <p:nvPr/>
        </p:nvSpPr>
        <p:spPr>
          <a:xfrm>
            <a:off x="1258920" y="502920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умму всех чисел второй стро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8:23:26Z</dcterms:created>
  <dc:creator>MAMA</dc:creator>
  <dc:description/>
  <dc:language>en-US</dc:language>
  <cp:lastModifiedBy>Я</cp:lastModifiedBy>
  <dcterms:modified xsi:type="dcterms:W3CDTF">2012-12-19T15:52:19Z</dcterms:modified>
  <cp:revision>7</cp:revision>
  <dc:subject/>
  <dc:title>Презентация PowerPoint</dc:title>
</cp:coreProperties>
</file>