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  <p:custShowLst>
    <p:custShow name="Произвольный показ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06E-8697-4318-9B3D-B1DA45D8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CFF-A538-4BFE-B1F2-9422C464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9D4-1EA3-43D0-859E-A4D2CC95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B8F-A418-4DDF-B2BF-E62C13AE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0311-6A7A-4775-B719-CC9FD2E4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F0D-74A3-4147-91B6-2CB9E71C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272E-68AE-45A9-A233-C1AE288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CB28-27E2-4F7F-8C7D-C82C7135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5899-36E9-49CA-AEC4-38B46F28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5933-DDA2-40AC-B47A-D9C83961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85DC-FC51-404B-A4E1-40D8463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453-B89C-4DAB-BFE5-5DDB8C55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97CE-68A5-457A-90BB-ECE6F093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ED9B-BB1D-4288-95E6-7116C1D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1664-AABF-464C-BDFE-3540849D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36F5-ABF1-4346-B78C-6004D10E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265A-AFA5-49C1-9E30-EA8D2F79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DDC-4247-4751-9CD3-37EB6917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CCD-9265-44E6-8688-39F43CFD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EE5-3502-41E0-8637-06EA4765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E15-4C67-4C67-BB9E-EE380B85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42B-40A8-484C-A536-577BFE88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135-374C-4855-9308-74F932B8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DA2-1CD1-4655-BEAE-A35CE67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00b85c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A7FE-033A-4AD7-914C-AFAFDE755F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00b85c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C765-38AC-4B5C-8D93-0D44B4B066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1915920"/>
            <a:ext cx="7772400" cy="13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Garamond"/>
              </a:rPr>
              <a:t>Дать</a:t>
            </a:r>
            <a:r>
              <a:rPr b="1" lang="en-US" sz="4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200" spc="-1" strike="noStrike">
                <a:solidFill>
                  <a:srgbClr val="ffffcc"/>
                </a:solidFill>
                <a:latin typeface="Garamond"/>
              </a:rPr>
              <a:t>характеристику новому классу органических веществ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1268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Arial"/>
              </a:rPr>
              <a:t>Цель урока:</a:t>
            </a: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Garamond"/>
              </a:rPr>
              <a:t>Свойства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352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Растворимость в во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 – COOH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 – COO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 – COO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 С  кисло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→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хлори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 С основ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O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Na 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1600" y="620640"/>
            <a:ext cx="5079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ие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ладкие, безвкусные, горь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620640"/>
            <a:ext cx="172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836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: зависит от ради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3440" y="4149720"/>
            <a:ext cx="575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органическ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фотерные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508640"/>
            <a:ext cx="9144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ецифическое  - взаимодействие между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COO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ти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20" y="5445000"/>
            <a:ext cx="86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инокислоты – элементарные частицы природ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меров- бе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227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полярный 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71640" y="1557360"/>
            <a:ext cx="5329080" cy="719280"/>
            <a:chOff x="971640" y="1557360"/>
            <a:chExt cx="5329080" cy="719280"/>
          </a:xfrm>
        </p:grpSpPr>
        <p:sp>
          <p:nvSpPr>
            <p:cNvPr id="139" name=""/>
            <p:cNvSpPr/>
            <p:nvPr/>
          </p:nvSpPr>
          <p:spPr>
            <a:xfrm>
              <a:off x="2411640" y="155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411640" y="16286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59280" y="1557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858920" y="16286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1640" y="2276640"/>
              <a:ext cx="43344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46560" y="2276640"/>
              <a:ext cx="4334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7640" y="2276640"/>
              <a:ext cx="43308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73400" y="907920"/>
            <a:ext cx="1865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имические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51640" y="1197000"/>
            <a:ext cx="149400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31687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лабораторный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сусная кисло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хлоруксусная кислота→аминоуксус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СООН +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СООН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260280"/>
            <a:ext cx="38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способы получения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87640" y="692280"/>
            <a:ext cx="504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692280"/>
            <a:ext cx="50472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59640" y="2060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дролиз бел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67320" y="974880"/>
            <a:ext cx="4412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омышленный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173480" y="189000"/>
            <a:ext cx="4970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ых организ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аминокислоты (около 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иногенные аминокислоты (около 20) в бел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789360"/>
            <a:ext cx="468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менимы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ин, лейцин, лизин, треонин, цистеин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биотики (пеницил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амидные смолы (капрон, нейл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Добавка к кор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565440" cy="2457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600360" cy="1292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716360" y="2852640"/>
            <a:ext cx="41212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64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557360"/>
            <a:ext cx="882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Состав вещества  выражается  формулой  С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Н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333360"/>
            <a:ext cx="6408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Определить класс вещ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ответив 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989000"/>
            <a:ext cx="8353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Анализ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Кислородсодержащий  УВ : карбоновые кислоты и сложные эф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Азотсодержащий УВ :  нитросоединения, амины, …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5733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Известно, при взаимодействи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моль  данного  вещества с активными металлами выделяе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ль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5280" y="4724280"/>
            <a:ext cx="6985080" cy="1864440"/>
            <a:chOff x="395280" y="4724280"/>
            <a:chExt cx="6985080" cy="1864440"/>
          </a:xfrm>
        </p:grpSpPr>
        <p:sp>
          <p:nvSpPr>
            <p:cNvPr id="93" name=""/>
            <p:cNvSpPr/>
            <p:nvPr/>
          </p:nvSpPr>
          <p:spPr>
            <a:xfrm>
              <a:off x="395280" y="4724280"/>
              <a:ext cx="6985080" cy="186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ahoma"/>
                </a:rPr>
                <a:t>Вывод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ahoma"/>
                </a:rPr>
                <a:t>Имеется карбоксильная группа       - С- ОН  , значит, карбоновая </a:t>
              </a:r>
              <a:r>
                <a:rPr b="1" i="1" lang="en-US" sz="2400" spc="-1" strike="noStrike" u="sng">
                  <a:solidFill>
                    <a:srgbClr val="ff9900"/>
                  </a:solidFill>
                  <a:uFillTx/>
                  <a:latin typeface="Tahoma"/>
                </a:rPr>
                <a:t>кисл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867280" y="5157360"/>
              <a:ext cx="0" cy="144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24360" y="472428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ahoma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940360" y="5157360"/>
              <a:ext cx="0" cy="144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2205000"/>
            <a:ext cx="87487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ишите структурную формулу данного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9560" y="771480"/>
            <a:ext cx="71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ное вещество – гетерофункциональн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являет основное св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6320" y="1700280"/>
            <a:ext cx="858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Вывод :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 имеется     </a:t>
            </a:r>
            <a:r>
              <a:rPr b="1" i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амино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-  группа    -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56240" y="3543480"/>
            <a:ext cx="391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-   C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 - 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47640" y="2276640"/>
            <a:ext cx="583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МИНОКИСЛО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08360" y="10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08000" y="404640"/>
            <a:ext cx="59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Tahoma"/>
              </a:rPr>
              <a:t>5. План характерист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1413000"/>
            <a:ext cx="457200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1" action="ppaction://hlinksldjump"/>
              </a:rPr>
              <a:t>Определение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2" action="ppaction://hlinksldjump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3" action="ppaction://hlinksldjump"/>
              </a:rPr>
              <a:t>Изоме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4" action="ppaction://hlinksldjump"/>
              </a:rPr>
              <a:t>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5" action="ppaction://hlinksldjump"/>
              </a:rPr>
              <a:t>Пол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996600"/>
                </a:solidFill>
                <a:uFillTx/>
                <a:latin typeface="Tahoma"/>
                <a:hlinkClick r:id="rId6" action="ppaction://hlinksldjump"/>
              </a:rPr>
              <a:t>Приме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403280" y="4437000"/>
            <a:ext cx="6553440" cy="20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2400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2. Почему аминокислоты – 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мфотерные органические соединения?</a:t>
            </a:r>
            <a:br>
              <a:rPr sz="2400"/>
            </a:br>
            <a:br>
              <a:rPr sz="2400"/>
            </a:br>
            <a:br>
              <a:rPr sz="29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1044720" y="5084640"/>
            <a:ext cx="46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Домашнее задание: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§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26, 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зучить кон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4040" y="1052640"/>
            <a:ext cx="74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. Какому новому классу мы дали характеристику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9120" y="2924280"/>
            <a:ext cx="836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. Почему аминокислоты имеют важную роль в природ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260280"/>
            <a:ext cx="505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Выводы по уроку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16000" y="692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айте   свое определение  класс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1413000"/>
            <a:ext cx="6840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инокислоты – гетерофункциональные соединения, которые обязательно содержат две функциональные группы: аминогруппу –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карбоксильную группу 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OH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связанные с углеводородным радикалом (стр. 220 учебника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03120" y="494172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бщая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2997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инокислоты – производные кислот, которые можно рассматривать как продукты замещения одного или более атомов водорода в их радикалах на одну или более аминогрупп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урс органической хими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стр.371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00720" y="4292640"/>
            <a:ext cx="3024000" cy="2090160"/>
            <a:chOff x="4500720" y="4292640"/>
            <a:chExt cx="3024000" cy="2090160"/>
          </a:xfrm>
        </p:grpSpPr>
        <p:sp>
          <p:nvSpPr>
            <p:cNvPr id="116" name=""/>
            <p:cNvSpPr/>
            <p:nvPr/>
          </p:nvSpPr>
          <p:spPr>
            <a:xfrm>
              <a:off x="4500720" y="4292640"/>
              <a:ext cx="3024000" cy="20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– CH – CO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4360" y="51577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84200" y="1628640"/>
            <a:ext cx="8659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количеству функциональных групп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ноаминомонокарбо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аминомонокарбон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С-С-С-С-С -С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he-IL" sz="1800" spc="-1" strike="noStrike">
                <a:solidFill>
                  <a:srgbClr val="000000"/>
                </a:solidFill>
                <a:latin typeface="Arial"/>
                <a:cs typeface="Arial"/>
              </a:rPr>
              <a:t>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04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взаимному расположению функциональных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–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 – С – СО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–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 – С – СО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–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 – С – С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2                             NH2                            NH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600" y="36450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 6 – диаминогексановая   кисл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4149720"/>
            <a:ext cx="71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ноаминодикарбоновые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НООС-С-С-С-С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800" y="501336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там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5229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аминопентанди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88000" y="1916280"/>
            <a:ext cx="2270160" cy="30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2000" y="1557360"/>
            <a:ext cx="66247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оптическая изомер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Н</a:t>
            </a:r>
            <a:r>
              <a:rPr b="0" lang="ru-RU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H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– C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*-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0" lang="he-IL" sz="2400" spc="-1" strike="noStrike">
                <a:solidFill>
                  <a:srgbClr val="990033"/>
                </a:solidFill>
                <a:latin typeface="Arial"/>
              </a:rPr>
              <a:t>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6206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изомерия углеродного ске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1052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изомерия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2421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.40 учеб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06:30:27Z</dcterms:created>
  <dc:creator>Пользователь</dc:creator>
  <dc:description/>
  <dc:language>en-US</dc:language>
  <cp:lastModifiedBy>Home</cp:lastModifiedBy>
  <dcterms:modified xsi:type="dcterms:W3CDTF">2012-12-19T16:29:24Z</dcterms:modified>
  <cp:revision>161</cp:revision>
  <dc:subject/>
  <dc:title>Дать характеристику новому классу органических веществ</dc:title>
</cp:coreProperties>
</file>