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Произвольный показ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903-E1BB-4ECF-9DD2-F674DF66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DB1-8C09-46DB-8316-DFEEDBB4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487-81C6-4F38-82E9-6FDE642F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906-FDD0-4EE8-AB7D-272A7DA4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44B0-AFF8-4DF5-9C8D-4F8B19B4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8F32-CDA0-4BB3-9AF6-940E83CA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9014-9BE3-48F7-8EEA-43EB13E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7A6C-4AE0-49E5-9F24-79A2174D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E0D2-8642-4B2F-8A71-F664C5E0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44F2-2D28-42AE-A50A-C0879C2A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B60E-3A19-47B4-A3AD-A9664AE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6F16-381B-46C2-A734-FC3B3F98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E5EA-C014-4190-BD12-9678F9A4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8FAF-D6AF-4C06-8B35-234086C1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A7D3-31AC-4FC1-B20E-3A9B6CF4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F71B-56F1-4E6A-BF6E-36285567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C875-5236-4CAD-BFD4-B5A2DE02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DAD-A1ED-406B-A6F2-77D56F5C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713-5A9B-4D6B-B794-ECD9F794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E91-30CD-4FCB-B64F-77560B12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10DF-52FE-4E22-B1A3-3511B682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101-7842-45E5-940E-E832C5E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A84-9256-45EA-A4AE-0173457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A09-41D5-4FC6-8498-00AE1B7C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00b85c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2617-A6FB-404F-B920-BE44B14CE00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00b85c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6CE0-06E2-4C02-ADD4-FB2C968802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1915920"/>
            <a:ext cx="7772400" cy="13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Garamond"/>
              </a:rPr>
              <a:t>Дать</a:t>
            </a:r>
            <a:r>
              <a:rPr b="1" lang="en-US" sz="4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ffffcc"/>
                </a:solidFill>
                <a:latin typeface="Garamond"/>
              </a:rPr>
              <a:t>характеристику новому классу органических веществ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1268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Цель урока: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Garamond"/>
              </a:rPr>
              <a:t>Свойства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352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Растворимость в во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 – COOH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 – COO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 – COO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 С  кисло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→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хлор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С основ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O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Na 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1600" y="620640"/>
            <a:ext cx="5079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ие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ладкие, безвкусные, горь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620640"/>
            <a:ext cx="172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836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: зависит от ради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3440" y="4149720"/>
            <a:ext cx="575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органическ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фотерные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08640"/>
            <a:ext cx="9144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ецифическое  - взаимодействие между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ти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20" y="5445000"/>
            <a:ext cx="86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инокислоты – элементарные частицы природ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меров- бе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227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полярный 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71640" y="1557360"/>
            <a:ext cx="5329080" cy="719280"/>
            <a:chOff x="971640" y="1557360"/>
            <a:chExt cx="5329080" cy="719280"/>
          </a:xfrm>
        </p:grpSpPr>
        <p:sp>
          <p:nvSpPr>
            <p:cNvPr id="139" name=""/>
            <p:cNvSpPr/>
            <p:nvPr/>
          </p:nvSpPr>
          <p:spPr>
            <a:xfrm>
              <a:off x="2411640" y="155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411640" y="1628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59280" y="155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858920" y="16286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1640" y="2276640"/>
              <a:ext cx="43344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46560" y="2276640"/>
              <a:ext cx="4334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7640" y="2276640"/>
              <a:ext cx="43308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73400" y="907920"/>
            <a:ext cx="1865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имические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51640" y="1197000"/>
            <a:ext cx="149400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31687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лабораторный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сусная кисло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хлоруксусная кислота→аминоуксус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СООН +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СООН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260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способы получения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87640" y="692280"/>
            <a:ext cx="504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692280"/>
            <a:ext cx="504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59640" y="2060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дролиз бе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67320" y="974880"/>
            <a:ext cx="4412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мышленный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173480" y="189000"/>
            <a:ext cx="4970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ых организ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аминокислоты (около 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иногенные аминокислоты (около 20) в бел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789360"/>
            <a:ext cx="468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меним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ин, лейцин, лизин, треонин, цистеин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биотики (пеницил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амидные смолы (капрон, нейл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Добавка к кор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565440" cy="2457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600360" cy="1292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716360" y="2852640"/>
            <a:ext cx="41212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64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557360"/>
            <a:ext cx="882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Состав вещества  выражается  формулой  С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333360"/>
            <a:ext cx="6408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Определить класс вещ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ответив 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989000"/>
            <a:ext cx="8353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Анализ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Кислородсодержащий  УВ : карбоновые кислоты и сложные эф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Азотсодержащий УВ :  нитросоединения, амины, …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57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Известно, при взаимодействи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моль  данного  вещества с активными металлами выделяе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ь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5280" y="4724280"/>
            <a:ext cx="6985080" cy="1864440"/>
            <a:chOff x="395280" y="4724280"/>
            <a:chExt cx="6985080" cy="1864440"/>
          </a:xfrm>
        </p:grpSpPr>
        <p:sp>
          <p:nvSpPr>
            <p:cNvPr id="93" name=""/>
            <p:cNvSpPr/>
            <p:nvPr/>
          </p:nvSpPr>
          <p:spPr>
            <a:xfrm>
              <a:off x="395280" y="4724280"/>
              <a:ext cx="6985080" cy="186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ahoma"/>
                </a:rPr>
                <a:t>Вывод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ahoma"/>
                </a:rPr>
                <a:t>Имеется карбоксильная группа       - С- ОН  , значит, карбоновая </a:t>
              </a:r>
              <a:r>
                <a:rPr b="1" i="1" lang="en-US" sz="2400" spc="-1" strike="noStrike" u="sng">
                  <a:solidFill>
                    <a:srgbClr val="ff9900"/>
                  </a:solidFill>
                  <a:uFillTx/>
                  <a:latin typeface="Tahoma"/>
                </a:rPr>
                <a:t>кисл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867280" y="5157360"/>
              <a:ext cx="0" cy="144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24360" y="472428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ahoma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940360" y="5157360"/>
              <a:ext cx="0" cy="144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2205000"/>
            <a:ext cx="87487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ишите структурную формулу данного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9560" y="771480"/>
            <a:ext cx="71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ное вещество – гетерофункциональн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являет основное 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6320" y="1700280"/>
            <a:ext cx="858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Вывод :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 имеется     </a:t>
            </a:r>
            <a:r>
              <a:rPr b="1" i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амино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-  группа    -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56240" y="3543480"/>
            <a:ext cx="391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-   C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- 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47640" y="2276640"/>
            <a:ext cx="583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МИНОКИСЛ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08360" y="10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8000" y="404640"/>
            <a:ext cx="59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ahoma"/>
              </a:rPr>
              <a:t>5. План характерис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457200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1" action="ppaction://hlinksldjump"/>
              </a:rPr>
              <a:t>Определение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2" action="ppaction://hlinksldjump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3" action="ppaction://hlinksldjump"/>
              </a:rPr>
              <a:t>Изом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4" action="ppaction://hlinksldjump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5" action="ppaction://hlinksldjump"/>
              </a:rPr>
              <a:t>Пол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6" action="ppaction://hlinksldjump"/>
              </a:rPr>
              <a:t>Приме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403280" y="4437000"/>
            <a:ext cx="6553440" cy="20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2400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2. Почему аминокислоты –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мфотерные органические соединения?</a:t>
            </a:r>
            <a:br>
              <a:rPr sz="2400"/>
            </a:br>
            <a:br>
              <a:rPr sz="2400"/>
            </a:br>
            <a:br>
              <a:rPr sz="29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1044720" y="508464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омашнее задание: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§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26, 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зучить 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4040" y="1052640"/>
            <a:ext cx="74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. Какому новому классу мы дали характеристику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120" y="2924280"/>
            <a:ext cx="836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. Почему аминокислоты имеют важную роль в природ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260280"/>
            <a:ext cx="505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ыводы по уроку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692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айте   свое определение  класс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1413000"/>
            <a:ext cx="6840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инокислоты – гетерофункциональные соединения, которые обязательно содержат две функциональные группы: аминогруппу 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карбоксильную группу 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O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связанные с углеводородным радикалом (стр. 220 учебника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03120" y="494172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бщая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2997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инокислоты – производные кислот, которые можно рассматривать как продукты замещения одного или более атомов водорода в их радикалах на одну или более аминогрупп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урс органической хими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стр.371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00720" y="4292640"/>
            <a:ext cx="3024000" cy="2090160"/>
            <a:chOff x="4500720" y="4292640"/>
            <a:chExt cx="3024000" cy="2090160"/>
          </a:xfrm>
        </p:grpSpPr>
        <p:sp>
          <p:nvSpPr>
            <p:cNvPr id="116" name=""/>
            <p:cNvSpPr/>
            <p:nvPr/>
          </p:nvSpPr>
          <p:spPr>
            <a:xfrm>
              <a:off x="4500720" y="4292640"/>
              <a:ext cx="3024000" cy="20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– CH – CO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4360" y="51577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84200" y="1628640"/>
            <a:ext cx="8659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количеству функциональных групп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ноаминомонокарбо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аминомонокарбон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С-С-С-С-С -С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04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взаимному расположению функциональных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–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 – С – СО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–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 – С – СО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–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 – С – С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2                             NH2                            NH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600" y="36450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 6 – диаминогексановая  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149720"/>
            <a:ext cx="71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ноаминодикарбоновые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НООС-С-С-С-С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800" y="501336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там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5229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аминопентанди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88000" y="1916280"/>
            <a:ext cx="2270160" cy="30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2000" y="1557360"/>
            <a:ext cx="66247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птическая изомер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– C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*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0" lang="he-IL" sz="2400" spc="-1" strike="noStrike">
                <a:solidFill>
                  <a:srgbClr val="990033"/>
                </a:solidFill>
                <a:latin typeface="Arial"/>
              </a:rPr>
              <a:t>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6206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изомерия углеродного ске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1052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изомерия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2421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.40 учеб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6:30:27Z</dcterms:created>
  <dc:creator>Пользователь</dc:creator>
  <dc:description/>
  <dc:language>en-US</dc:language>
  <cp:lastModifiedBy>Home</cp:lastModifiedBy>
  <dcterms:modified xsi:type="dcterms:W3CDTF">2012-12-19T16:29:24Z</dcterms:modified>
  <cp:revision>161</cp:revision>
  <dc:subject/>
  <dc:title>Дать характеристику новому классу органических веществ</dc:title>
</cp:coreProperties>
</file>