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950-F674-464B-83CA-F5CE10FF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4A3-BFAB-419B-842F-64D7B4A4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F33-165C-40E5-B489-2F566CFB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B31-9D29-445E-84D8-BCE4A01C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D0F6-2C77-4BA8-9AD2-90D907B4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25FA-9169-48D9-BEDA-1544DA36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140D-92B3-4897-819F-B292FA9E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D47C-38BD-445D-8CEA-0A3767BA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B99-5DF9-4EDE-8540-01DE3A5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134-2682-45C3-98FC-5F67DA08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D75F-51DE-42C0-A886-65D9DDA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4D6-0722-494B-B849-2B53597F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B9F-A114-4C35-8CCD-5D1AE78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9839-3BF8-4AA6-A2F3-8F834D3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CD30-79E4-4978-B6C9-F25C56D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07A-0353-4F61-AFFA-D5E68876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B06C-C771-4157-AAB7-AA173D2C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5BC-8C56-44FE-86F3-A8F6AB6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7CA-2C7D-467F-852E-59D3DA4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A34-41E7-4667-8E0D-6CEC2C4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94C-81B4-43E9-941F-E94ACBF2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D8F-92ED-4B60-8223-F324A4B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645-324E-4812-93D2-2D9015D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056-145E-478E-933C-AA7C3B7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7C61-5104-49A8-B911-CAD2953DBA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E24A-88F2-448F-B57A-258261125F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52388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оциальный проект на тему: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981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Моя школа и мо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867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и:Кургеева В. 11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астрикова А. 11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456840"/>
            <a:ext cx="7772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вод:в нашем районе есть недостатки:мы считаем,что для молодежи недостаточно вечернего культурного досуга,и мы предлагаем открыть клуб «16+»,также недостаточно оздоровительных комплексов,и поэтому мы хотели бы,чтобы для наших односельчан был открыт аквапарк(бассейн,сауна,горки и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омцевская земля, сибирская Швейцария - так ее называют гости и местные поэты. Все, кто побывал в Муромцево, единодушно признают - это самый живописный район в Омской области. Природа наделила этот край красивейшими лиственными и хвойными лесами, богатыми ягодами, грибами, дичью. Судоходные реки Иртыш и Тара, таежные речки и многочисленные озера стали надежным местом обитания для водоплавающих птиц и рыб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омцевский район расположен в северо-восточной части Омской области в бассейне нижнего течения реки Тара. Площадь Муромцевского района в современных границах составляет 6660 кв. км и по этому показателю входит в пятерку крупнейших районов Омской об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ш район славится не только красотой природы,но и достопримечательностями,которые расширяют кругозор муромчан.Например,наш  музей привлекает своими экспонатами, возможностью заглянуть в историю далеко назад, увидеть уникальные шедевры, которые и сейчас потрясаю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ей, это не кинотеатр, но тоже хорошая форма отдыха и положительных впечатл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456840"/>
            <a:ext cx="7772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ромцево много спортсменов,которые славят наш район своими достижениями.И поэтому для них создали спортивный комплекс «Факел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52680" y="3429000"/>
            <a:ext cx="24098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533160"/>
            <a:ext cx="77724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но-досуговый центр «Альтернатива»,там проводятся все праздники,такие как 1 сентября,9 мая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52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30492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инотеатр также вносит разнообразие в нашу жизнь:фильмы, развлекательные программы для детей,которые отвлекают нас от повседневной суе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04812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блиотека им.Ульянова повышает уровень образованности местного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4724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286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же без образования?!Люди должны быть образованными,и для этого в Муромцево есть школы:Муромцевская школа №1 и лицей №1.Мы учимся в лицее и гордимся им,носим гордое звание Лицеиста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&amp;Fcy;&amp;acy;&amp;jcy;&amp;lcy;:&amp;Lcy;&amp;icy;&amp;tscy;&amp;iecy;&amp;jcy; &amp;numero;1.jpg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9-17T11:41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