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128-11EE-4864-969A-3DED1E74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59C-14F6-451F-A232-0812713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D64-B904-4D33-8899-D5FD664A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34B-416A-4BE8-A8BF-2F7C717F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A32C-881C-444F-B8D8-EE607EE7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822D-286B-4E60-B369-43FEAD39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52C4-A0A4-45A2-B03C-492F1951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C17D-273D-4D16-9DCD-E24107BA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9E55-2690-43EC-ADF6-60B19D2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A0C-0362-465B-B3F5-1DEA95FE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EFDD-37E9-4A9E-8644-87DB522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D38-8FE9-4EFB-9F9A-6EBC8088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C0DD-4138-47C0-A246-8FF1A0B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F73-90F2-4018-A746-7FA9BBA4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3275-48A4-4710-8DAA-D6F9966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D7F-A134-4CAE-8F69-56D8ADD6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DC6F-B2E9-4F70-BECC-86EE5312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D35-CED2-49B0-BDDD-878C51B8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6D9-07DF-4129-9111-F743939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2A8-23CE-4A20-8A08-5CC202F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3A3-3CFC-4E1A-A0EA-A688A57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4E5-46E1-47C3-8E77-4C8C556C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70F-7D91-44F2-A491-5A987FA2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A76-667F-4B86-972D-7F04328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3B86-BC5F-49E8-9B2B-DB8311984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BDF-EF46-4737-935F-180D99CCD8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3880" y="152388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Социальный проект на тему: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981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«Моя школа и мо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86728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и:Кургеева В. 11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астрикова А. 11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2600" y="456840"/>
            <a:ext cx="7772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вод:в нашем районе есть недостатки:мы считаем,что для молодежи недостаточно вечернего культурного досуга,и мы предлагаем открыть клуб «16+»,также недостаточно оздоровительных комплексов,и поэтому мы хотели бы,чтобы для наших односельчан был открыт аквапарк(бассейн,сауна,горки и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омцевская земля, сибирская Швейцария - так ее называют гости и местные поэты. Все, кто побывал в Муромцево, единодушно признают - это самый живописный район в Омской области. Природа наделила этот край красивейшими лиственными и хвойными лесами, богатыми ягодами, грибами, дичью. Судоходные реки Иртыш и Тара, таежные речки и многочисленные озера стали надежным местом обитания для водоплавающих птиц и рыб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ромцевский район расположен в северо-восточной части Омской области в бассейне нижнего течения реки Тара. Площадь Муромцевского района в современных границах составляет 6660 кв. км и по этому показателю входит в пятерку крупнейших районов Омской обла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2600" y="304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ш район славится не только красотой природы,но и достопримечательностями,которые расширяют кругозор муромчан.Например,наш  музей привлекает своими экспонатами, возможностью заглянуть в историю далеко назад, увидеть уникальные шедевры, которые и сейчас потрясаю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ей, это не кинотеатр, но тоже хорошая форма отдыха и положительных впечатле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456840"/>
            <a:ext cx="77724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Муромцево много спортсменов,которые славят наш район своими достижениями.И поэтому для них создали спортивный комплекс «Факел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352680" y="3429000"/>
            <a:ext cx="24098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182600" y="533160"/>
            <a:ext cx="77724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ультурно-досуговый центр «Альтернатива»,там проводятся все праздники,такие как 1 сентября,9 мая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52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304920"/>
            <a:ext cx="7772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инотеатр также вносит разнообразие в нашу жизнь:фильмы, развлекательные программы для детей,которые отвлекают нас от повседневной суе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048120"/>
            <a:ext cx="7010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иблиотека им.Ульянова повышает уровень образованности местного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4724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286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же без образования?!Люди должны быть образованными,и для этого в Муромцево есть школы:Муромцевская школа №1 и лицей №1.Мы учимся в лицее и гордимся им,носим гордое звание Лицеиста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&amp;Fcy;&amp;acy;&amp;jcy;&amp;lcy;:&amp;Lcy;&amp;icy;&amp;tscy;&amp;iecy;&amp;jcy; &amp;numero;1.jpg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9-17T11:41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