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4C7A-F464-4557-AE96-30A367A562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60A7-8D37-4B72-8DC5-5386B37627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0FD-C958-4B63-8EB3-F053EAA9EE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923-9BE1-49D9-8816-3A046628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CAF-C5E1-47DE-B90F-0CAE4B22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830-C2AD-4342-AC12-3F933F37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A2D-755B-4069-BAD6-818FACB1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ED13-DAAA-4CEF-AB4E-B3EC2839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040D-CBFA-481D-A229-FA327A6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78E5-BCF6-46C6-96DE-49E8161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885F-7BD3-4422-8104-5AF92BAD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74C5-99EA-4D3A-96F1-1B7E10F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2222-D9D6-4C16-9A0B-EFD0605D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E861-0864-4D8D-93E6-1E3E304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BE6-1BFA-4423-AE8A-84CAF4E7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475-489F-4284-ABA2-BCF4A9F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C32-3AFF-42A1-9026-1FD40BC8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9532-8C38-4D84-9A10-40A3D45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F8A-E0E0-411C-98AF-B1EAAB83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2B27-B3C4-4312-A49E-D9C30688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797-C9F5-4FED-8CA6-DCC1449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FF6-379C-4C7B-9546-EB81AD32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630-4AFC-41A0-A1F3-15EF54AE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926-4612-4A31-B4EF-6F212370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FA4-039F-4D9E-B53B-8C1B466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E6E-A8E1-4175-BEC2-6D4CA62C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99F-BB78-421D-82BF-88D58809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9801-9A21-4A44-8CA2-ED33E29CA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941C-5820-4B4C-9606-A761150AFF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0" y="2491920"/>
            <a:ext cx="6480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РЕГИТЕ          ПРИРОДУ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5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кавказ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лошад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мор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рыс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осен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осень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топь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рка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жа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осень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природа-ф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5719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ДРА КАВКАЗСК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3" descr="выдра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ЫС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3" descr="2 рысь"/>
          <p:cNvPicPr/>
          <p:nvPr/>
        </p:nvPicPr>
        <p:blipFill>
          <a:blip r:embed="rId1"/>
          <a:stretch/>
        </p:blipFill>
        <p:spPr>
          <a:xfrm>
            <a:off x="250920" y="1054080"/>
            <a:ext cx="87138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УБ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зубр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РОФ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3" descr="дрофа"/>
          <p:cNvPicPr/>
          <p:nvPr/>
        </p:nvPicPr>
        <p:blipFill>
          <a:blip r:embed="rId1"/>
          <a:stretch/>
        </p:blipFill>
        <p:spPr>
          <a:xfrm>
            <a:off x="75564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ЧЕЛА – ПЛОТНИК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3" descr="пчела-плотник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БЕД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3" descr="лебеди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байкал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УРАВ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3" descr="журавль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РЯВЫЙ  ПЕЛИК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3" descr="пеликан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РАЯ  ЖАБ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3" descr="жаба ква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сова"/>
          <p:cNvPicPr/>
          <p:nvPr/>
        </p:nvPicPr>
        <p:blipFill>
          <a:blip r:embed="rId1"/>
          <a:stretch/>
        </p:blipFill>
        <p:spPr>
          <a:xfrm>
            <a:off x="0" y="1341360"/>
            <a:ext cx="4495680" cy="511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сова1"/>
          <p:cNvPicPr/>
          <p:nvPr/>
        </p:nvPicPr>
        <p:blipFill>
          <a:blip r:embed="rId2"/>
          <a:stretch/>
        </p:blipFill>
        <p:spPr>
          <a:xfrm>
            <a:off x="4648320" y="1268280"/>
            <a:ext cx="44956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Экологические  прави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разорять птичьи гнез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одходи к гнездам птиц. По твоим следам их могут отыскать и разорить хищ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лови и не уноси домой здоровых птенцов и детенышей зве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кармливай птиц зимой, а весной делай для них дом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обрывай в лесу паутину и не убивай па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лови бабочек шмелей, стрекоз и др. насеком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разоряй муравей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реги лягушек, жаб и их головаст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рви без надобности цветы и травы в ле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9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0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41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УБ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3" descr="зубр"/>
          <p:cNvPicPr/>
          <p:nvPr/>
        </p:nvPicPr>
        <p:blipFill>
          <a:blip r:embed="rId1"/>
          <a:stretch/>
        </p:blipFill>
        <p:spPr>
          <a:xfrm>
            <a:off x="179280" y="981000"/>
            <a:ext cx="8785440" cy="568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айкал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ТЕРЕ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02" name="Picture 3" descr="тетерев"/>
          <p:cNvPicPr/>
          <p:nvPr/>
        </p:nvPicPr>
        <p:blipFill>
          <a:blip r:embed="rId1"/>
          <a:stretch/>
        </p:blipFill>
        <p:spPr>
          <a:xfrm>
            <a:off x="179280" y="1131840"/>
            <a:ext cx="8785440" cy="55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ЖУРАВ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8" name="Picture 3" descr="журавль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ЕБЕДЬ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454" name="Picture 3" descr="лебеди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ИГ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30" name="Picture 3" descr="тигр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54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байкал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147636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241128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334800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4284720" y="98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241128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3348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4284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521964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615636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702000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7956720" y="1916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1476360" y="285264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241128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7"/>
          <p:cNvSpPr/>
          <p:nvPr/>
        </p:nvSpPr>
        <p:spPr>
          <a:xfrm>
            <a:off x="334800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18"/>
          <p:cNvSpPr/>
          <p:nvPr/>
        </p:nvSpPr>
        <p:spPr>
          <a:xfrm>
            <a:off x="428472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19"/>
          <p:cNvSpPr/>
          <p:nvPr/>
        </p:nvSpPr>
        <p:spPr>
          <a:xfrm>
            <a:off x="521964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20"/>
          <p:cNvSpPr/>
          <p:nvPr/>
        </p:nvSpPr>
        <p:spPr>
          <a:xfrm>
            <a:off x="6156360" y="285264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1"/>
          <p:cNvSpPr/>
          <p:nvPr/>
        </p:nvSpPr>
        <p:spPr>
          <a:xfrm>
            <a:off x="7020000" y="285264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2"/>
          <p:cNvSpPr/>
          <p:nvPr/>
        </p:nvSpPr>
        <p:spPr>
          <a:xfrm>
            <a:off x="241128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3"/>
          <p:cNvSpPr/>
          <p:nvPr/>
        </p:nvSpPr>
        <p:spPr>
          <a:xfrm>
            <a:off x="3348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428472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21964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615636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020000" y="378936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1476360" y="4724280"/>
            <a:ext cx="934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241128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334800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31"/>
          <p:cNvSpPr/>
          <p:nvPr/>
        </p:nvSpPr>
        <p:spPr>
          <a:xfrm>
            <a:off x="4284720" y="472428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2"/>
          <p:cNvSpPr/>
          <p:nvPr/>
        </p:nvSpPr>
        <p:spPr>
          <a:xfrm>
            <a:off x="539640" y="5661000"/>
            <a:ext cx="936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33"/>
          <p:cNvSpPr/>
          <p:nvPr/>
        </p:nvSpPr>
        <p:spPr>
          <a:xfrm>
            <a:off x="147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241128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35"/>
          <p:cNvSpPr/>
          <p:nvPr/>
        </p:nvSpPr>
        <p:spPr>
          <a:xfrm>
            <a:off x="334800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36"/>
          <p:cNvSpPr/>
          <p:nvPr/>
        </p:nvSpPr>
        <p:spPr>
          <a:xfrm>
            <a:off x="428472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7"/>
          <p:cNvSpPr/>
          <p:nvPr/>
        </p:nvSpPr>
        <p:spPr>
          <a:xfrm>
            <a:off x="521964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8"/>
          <p:cNvSpPr/>
          <p:nvPr/>
        </p:nvSpPr>
        <p:spPr>
          <a:xfrm>
            <a:off x="6156360" y="5661000"/>
            <a:ext cx="9144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ДРЯВЫЙ  ПЕЛИК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06" name="Picture 3" descr="пеликан"/>
          <p:cNvPicPr/>
          <p:nvPr/>
        </p:nvPicPr>
        <p:blipFill>
          <a:blip r:embed="rId1"/>
          <a:stretch/>
        </p:blipFill>
        <p:spPr>
          <a:xfrm>
            <a:off x="179280" y="1197000"/>
            <a:ext cx="878544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8880" y="256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БЕРЕГИТЕ  ПРИРОДУ !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жаба2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кавказ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вказ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кавказ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0:18:29Z</dcterms:created>
  <dc:creator>Даня</dc:creator>
  <dc:description/>
  <dc:language>en-US</dc:language>
  <cp:lastModifiedBy>wiitos</cp:lastModifiedBy>
  <dcterms:modified xsi:type="dcterms:W3CDTF">2012-12-19T11:00:56Z</dcterms:modified>
  <cp:revision>12</cp:revision>
  <dc:subject/>
  <dc:title>Слайд 1</dc:title>
</cp:coreProperties>
</file>