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0AAB-8125-4828-A847-42D20E598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138E-DBE5-4A93-BFCB-BEECE9F068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4CDF-2ECC-473F-9956-A7A9A30C0E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348-5980-4AD6-82ED-A92DD4AB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5AD-5EE3-48FA-9DB7-465CE770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C9AA-3F9D-4E99-B5FD-2F3A5046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48B7-8F0A-4757-AE41-16A56A48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A7A3-AB70-4809-A006-583D3166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43AD-6493-4E87-AA9A-8244F22A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49EE-AF80-4DFB-8B5E-BC0B61D0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3CB3-28FF-41E7-8015-C0A48D56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9815-0BF7-4DD5-A987-40575380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8FC0-F87A-4838-A167-A0F83AF1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3F93-8E37-4EA7-A2B2-9D747623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D1C-DF8B-41FD-B5D2-3FBD5337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922E-7233-4855-819E-FC067235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7AA0-FC01-4DD8-B156-A9EC9B70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BD27-6C67-4477-8371-E870AF7A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35E3-A482-4BC8-A089-7E0EA6E1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6844-9CD9-46F0-A091-05067130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419-963A-49FC-8944-4786E645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BE4-3160-48C1-8F7B-011F75EF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387-1221-4B30-ACD8-0C25D8D5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E4E-7CD7-4214-8B8E-30D9C9E2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CFC-FD3C-474E-9F60-0DDFBBC8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D17-231A-44F4-AFE1-68215202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8DD-EFD5-4B15-9B80-487C648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8A23-3FDD-4A77-9D1E-005CB6476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4FE7-2652-4DA3-A60B-10CF9ABB07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0" y="2491920"/>
            <a:ext cx="648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ЕРЕГИТЕ          ПРИРОДУ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advTm="5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кавказ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лошад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мор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рыс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осень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осень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топь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рка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жа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Водяные лил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зака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ЗАКА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осень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природа-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5719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ДРА КАВКАЗСК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3" descr="выдра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ЫС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3" descr="2 рысь"/>
          <p:cNvPicPr/>
          <p:nvPr/>
        </p:nvPicPr>
        <p:blipFill>
          <a:blip r:embed="rId1"/>
          <a:stretch/>
        </p:blipFill>
        <p:spPr>
          <a:xfrm>
            <a:off x="250920" y="1054080"/>
            <a:ext cx="8713800" cy="56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УБ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зубр"/>
          <p:cNvPicPr/>
          <p:nvPr/>
        </p:nvPicPr>
        <p:blipFill>
          <a:blip r:embed="rId1"/>
          <a:stretch/>
        </p:blipFill>
        <p:spPr>
          <a:xfrm>
            <a:off x="179280" y="981000"/>
            <a:ext cx="87854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РОФ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3" descr="дрофа"/>
          <p:cNvPicPr/>
          <p:nvPr/>
        </p:nvPicPr>
        <p:blipFill>
          <a:blip r:embed="rId1"/>
          <a:stretch/>
        </p:blipFill>
        <p:spPr>
          <a:xfrm>
            <a:off x="755640" y="1197000"/>
            <a:ext cx="799308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ЧЕЛА – ПЛОТНИК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3" descr="пчела-плотник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ЕБЕДЬ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3" descr="лебеди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байкал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ЖУРАВ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3" descr="журавль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ДРЯВЫЙ  ПЕЛИК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3" descr="пеликан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РАЯ  ЖАБ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3" descr="жаба ква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3" descr="сова"/>
          <p:cNvPicPr/>
          <p:nvPr/>
        </p:nvPicPr>
        <p:blipFill>
          <a:blip r:embed="rId1"/>
          <a:stretch/>
        </p:blipFill>
        <p:spPr>
          <a:xfrm>
            <a:off x="0" y="1341360"/>
            <a:ext cx="4495680" cy="511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сова1"/>
          <p:cNvPicPr/>
          <p:nvPr/>
        </p:nvPicPr>
        <p:blipFill>
          <a:blip r:embed="rId2"/>
          <a:stretch/>
        </p:blipFill>
        <p:spPr>
          <a:xfrm>
            <a:off x="4648320" y="1268280"/>
            <a:ext cx="449568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кологические  прави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разорять птичьи гнез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одходи к гнездам птиц. По твоим следам их могут отыскать и разорить хищ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лови и не уноси домой здоровых птенцов и детенышей звер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кармливай птиц зимой, а весной делай для них дом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обрывай в лесу паутину и не убивай па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лови бабочек шмелей, стрекоз и др. насеком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разоряй муравей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реги лягушек, жаб и их головаст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рви без надобности цветы и травы в лес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8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9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40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41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УБ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6" name="Picture 3" descr="зубр"/>
          <p:cNvPicPr/>
          <p:nvPr/>
        </p:nvPicPr>
        <p:blipFill>
          <a:blip r:embed="rId1"/>
          <a:stretch/>
        </p:blipFill>
        <p:spPr>
          <a:xfrm>
            <a:off x="179280" y="981000"/>
            <a:ext cx="8785440" cy="568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айкал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ТЕРЕ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02" name="Picture 3" descr="тетерев"/>
          <p:cNvPicPr/>
          <p:nvPr/>
        </p:nvPicPr>
        <p:blipFill>
          <a:blip r:embed="rId1"/>
          <a:stretch/>
        </p:blipFill>
        <p:spPr>
          <a:xfrm>
            <a:off x="179280" y="1131840"/>
            <a:ext cx="8785440" cy="553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ЖУРАВ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78" name="Picture 3" descr="журавль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ЕБЕДЬ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454" name="Picture 3" descr="лебеди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ИГ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30" name="Picture 3" descr="тигр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байкал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ДРЯВЫЙ  ПЕЛИК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06" name="Picture 3" descr="пеликан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58880" y="2565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БЕРЕГИТЕ  ПРИРОДУ !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6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жаба2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кавказ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вказ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кавказ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0:18:29Z</dcterms:created>
  <dc:creator>Даня</dc:creator>
  <dc:description/>
  <dc:language>en-US</dc:language>
  <cp:lastModifiedBy>wiitos</cp:lastModifiedBy>
  <dcterms:modified xsi:type="dcterms:W3CDTF">2012-12-19T11:00:56Z</dcterms:modified>
  <cp:revision>12</cp:revision>
  <dc:subject/>
  <dc:title>Слайд 1</dc:title>
</cp:coreProperties>
</file>