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1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3.jpeg" ContentType="image/jpeg"/>
  <Override PartName="/ppt/media/image15.png" ContentType="image/png"/>
  <Override PartName="/ppt/media/image2.gif" ContentType="image/gif"/>
  <Override PartName="/ppt/media/image28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94E-430D-4237-AE16-44FF4916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915-B742-481F-B6A2-1EBAB0B0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57C-DB78-4CE1-B8CE-D800F61D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A2F-E448-496F-8020-5AB5C767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2BC1-5C14-4F2C-9350-DEECA1AE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0D8E-3A0A-465F-88DE-07CFA3A4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0EEB-794D-4F36-9F31-C7DC14D9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4613-AF9A-4518-8EE6-C35F8A92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5C2B-A77A-49DE-B96B-ABB03959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87B8-A2C1-4087-ADE6-DB85C361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1CE5-0C03-49EA-B41D-5D735FF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272-C5A9-4005-88B8-34B5CE32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C129-B075-4FFD-A540-2E048DFE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1DA0-468E-4421-BF81-6D1AA1DE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92AA-3995-4010-A3F2-8D1B9105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9959-4DB3-427B-8107-34544FE3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FDCE-5897-4BA0-BED4-1214F33B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23D-9BFC-46AF-A0E0-709AC479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BD4-0F86-48FC-9AEB-88051406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F60-A034-4BF3-85FB-FEDE324E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A59-7B6F-47A4-91AE-78F520DD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67C-06E6-4BFA-8D73-72E2E20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884-7C1D-4E52-93D8-0EA54490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486-3018-4050-A630-499F9A30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09F4-F69F-42C0-84B7-AE2C60FE93C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7379-C83E-4457-9721-0F4C8910FFA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2492280"/>
            <a:ext cx="6121440" cy="20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itish holiday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227640" y="4365720"/>
            <a:ext cx="2484720" cy="17827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027160" cy="20703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24000" y="5013360"/>
            <a:ext cx="1944360" cy="15904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2916360" y="260280"/>
            <a:ext cx="1842840" cy="20322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7251840" y="2133720"/>
            <a:ext cx="1892160" cy="1419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2700360" y="4581360"/>
            <a:ext cx="2933640" cy="1873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5076720" y="765000"/>
            <a:ext cx="987480" cy="15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95280" y="333360"/>
            <a:ext cx="5688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R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835280" y="2276640"/>
            <a:ext cx="5616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St. George's Da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788000" y="1413000"/>
            <a:ext cx="1990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 апре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64500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День покровителя Англии, святого Джорджа, которого чтят за то, что он убил дракона, который терроризировал несколько английских деревень. В сущности, это английский вариант дня святого Патрика. В этот день поднимают флаг Англии, известный под названием "Крест св. Джорджа" (the St. George Cross). Англичане носят красные розы, эмблему Англии; к праздничному столу они готовят традиционные английские блюда, такие, как ростбиф и йоркширский пудинг, сосиски в тесте (toad-in-the-hole) и т.д. Кроме того, в этот день они распевают английские народные песн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196040" y="0"/>
            <a:ext cx="1947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389 0.66274 C 0.21285 0.42303 0.06198 0.18355 0.00208 0.16136 C -0.05781 0.13916 0.07292 0.47157 0.00417 0.52959 C -0.06458 0.58762 -0.4099 0.59802 -0.41059 0.50971 C -0.41129 0.42141 -0.20573 0.21059 -3.88889E-006 5.83449E-006 E">
                                      <p:cBhvr>
                                        <p:cTn id="321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50920" y="333360"/>
            <a:ext cx="568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R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95280" y="1557360"/>
            <a:ext cx="6335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aster (Пасха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236000" y="1125360"/>
            <a:ext cx="1447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пре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292428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Этот день для многих является более важным религиозным праздником, чем Рождество. Многие жители Великобритании присутствуют на пасхальной службе. Пасхальная служба в субботу вечером продолжается более двух часов, начинаясь в 9.30 вечера и заканчиваясь в полночь. После службы все поздравляют друг друга с окончанием Великого поста и началом нового года (кстати, чтобы показать начало нового года и новой жизни, многие церкви украшают ветками деревьев с набухшими почками, нарциссами и разукрашенными яйцами. После службы все возвращаются домой и едят пасхальный кулич (это по-нашему, а у них - Easter Simnel cake), который представляет собой пирог, схожий с рождественским, но украшенный марципанами, символизирующими 12 апостолов Иисуса Христа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076720" y="4124160"/>
            <a:ext cx="38102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920" y="2924280"/>
            <a:ext cx="3799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May Day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084720" y="2708280"/>
            <a:ext cx="27352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1 м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10" name=""/>
          <p:cNvSpPr/>
          <p:nvPr/>
        </p:nvSpPr>
        <p:spPr>
          <a:xfrm>
            <a:off x="684360" y="429264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то совсем не "праздник мира и труда". В средние века в этот день девушки вставали до рассвета и умывались росой, веря, что это сделает их неотразимыми на год вперед. Также в этот день проводились соревнования по стрельбе из лука, жители пели и плясали. Этот обычай еще выживает в некоторых глухих британских деревушках, но городские жители полностью его игнорирую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338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68360" y="404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95280" y="1628640"/>
            <a:ext cx="54151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День рождения монарха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(официальный)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553000" y="2276640"/>
            <a:ext cx="359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-я суббота июня 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3068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Официальный день рождения правящего монарха празднуется во вторую субботу июня. Он отмечается церемониальным парадом в Уайтхолле (Whitehall), на котором присутствует королевская семья, приглашенные ею гости и просто зрители. Эта церемония берет свое начало с конца семнадцатого века, когда было принято проносить знамена перед солдатами, чтобы те могли их увидеть и запомнить. С 1748 года парад с торжественным пронесением знамен перед войском стал проводиться в официальный день рождения монарха. Во время церемонии королева инспектирует войска, а после нее она дает большой бал, где собирается вся знать государства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7088040" y="260280"/>
            <a:ext cx="2055960" cy="22050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00000" y="2708280"/>
            <a:ext cx="56293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idsummer's Da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093080" y="2637000"/>
            <a:ext cx="1704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24 ию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450864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радиционно считается самым длинным днем года. В этот день все друиды отправляются к древнему Stonehenge и наблюдают за тем, как солнце светит на знаменитый Heel stone. Для друидов этот праздник представляет собой самое важное событие года, остальным же жителям островов совершенно не до него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rcRect l="0" t="38043" r="0" b="0"/>
          <a:stretch/>
        </p:blipFill>
        <p:spPr>
          <a:xfrm>
            <a:off x="324000" y="333360"/>
            <a:ext cx="6408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CTO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00000" y="2900520"/>
            <a:ext cx="6408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Tattie Holiday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e Potatoe Holidays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360" y="4508640"/>
            <a:ext cx="81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ньше в эти выходные молодые люди помогали фермерам собирать урожай картофеля, но теперь, когда этот процесс механизирован, эти дни называются просто октябрьскими выходными. Британцы в этот день отправляются в свой загородный дом или просто навещают родственников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00000" y="2276640"/>
            <a:ext cx="740088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allowe'en (Hallows Evening)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732720" y="1628640"/>
            <a:ext cx="2114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31 октябр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40194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ечер перед Днем всех святых, когда духи и привидения освобождаются и рыщут по улицам в поисках людей. В старину люди в этот день не выходили на улицу и запирали все окна и двери, чтобы не дать злым духам проникнуть в дом. В наше время этот праздник отмечают весело и шумно. Дети наряжаются в костюмы чудовищ и ходят по соседским домам, требуя сладостей. Также в этот день устраивают маскарады и выставляют в окно полую тыкву с вырезанными глазами и ртом и свечкой внутри, чтобы отпугнуть духов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609480" y="647640"/>
            <a:ext cx="7925040" cy="55627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6156360" y="2419200"/>
            <a:ext cx="2987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547640" y="260280"/>
            <a:ext cx="388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V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55640" y="1052640"/>
            <a:ext cx="7056360" cy="106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Guy Fawkes' Da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659640" y="692280"/>
            <a:ext cx="2232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 ноябр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57720"/>
            <a:ext cx="88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39640" y="2060640"/>
            <a:ext cx="86043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Это один из уникальных праздников Англии, возникший из совсем не праздничного события.5 ноября 1605 года кучка католиков попытались взорвать здание парламента вместе с правительством, королем Джеймсом I, королевой и их сыном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Заговорщики были недовольны отношением короля к католикам и надеялись, что английские католики смогут захватить власть в стране, если они убьют членов правительства и королевской семьи. Заговорщики арендовали подвал под зданием парламента, и за несколько дней до открытия парламента Гай Фоукс (Guy Fawkes) спрятал в подвале двадцать бочек с порохом. Но один из заговорщиков предупредил своего родственника, лорда Монтигла (Monteagle), чтобы тот не приходил в парламент 5 ноября. Упомянутый лорд, в свою очередь, предупредил власти, которые и схватили Гая на месте преступления. Все остальные конспираторы либо погибли, пытаясь спастись от ареста, либо были казнены. Так что 5 ноября остался днем воспоминаний об этом событии. За несколько дней до праздника дети делают чучело Гая в натуральную величину из старой одежды, набитой соломой и газетами, и носят это чучело по улицам, крича "Penn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e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for the Guy!" и зарабатывая деньги. Вечером 5 ноября люди делают большие костры, на которых чучела сжигаются, запускают фейерверки и даже пекут картошку и каштаны на углях костра. Этот праздник считается очень веселым, несмотря на то, что из-за "пылкости" празднования в этот день случается гораздо больше пожаров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33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73 0.61536 C -0.11927 0.62044 -0.10885 0.63015 -0.1 0.61836 C -0.09583 0.61281 -0.10035 0.60195 -0.09791 0.59478 C -0.09548 0.58739 -0.08732 0.58508 -0.08229 0.58299 C -0.07257 0.57421 -0.07239 0.57074 -0.06232 0.57999 C -0.05521 0.61698 -0.06267 0.58253 -0.05781 0.52081 C -0.05677 0.50879 -0.05035 0.50694 -0.04444 0.50001 C -0.03281 0.4866 -0.02187 0.47088 -0.00677 0.46464 C 0.00295 0.46557 0.01285 0.46441 0.02222 0.46741 C 0.02535 0.46834 0.02639 0.47366 0.02882 0.47643 C 0.0309 0.47874 0.03351 0.4799 0.03542 0.48221 C 0.04011 0.48776 0.04427 0.494 0.04879 0.50001 C 0.05573 0.50925 0.06024 0.51919 0.06875 0.52659 C 0.08524 0.48336 0.07882 0.49076 0.08663 0.56219 C 0.09115 0.55919 0.09514 0.55248 0.1 0.55341 C 0.10295 0.5541 0.10209 0.56913 0.10209 0.5652 C 0.10452 0.45216 0.06424 0.33057 0.15104 0.28711 C 0.16389 0.28064 0.16875 0.28064 0.18212 0.27809 C 0.19097 0.27902 0.20035 0.27763 0.20886 0.2811 C 0.22448 0.28734 0.23472 0.31878 0.24219 0.33427 C 0.24531 0.34074 0.25035 0.34559 0.2533 0.35207 C 0.25625 0.35854 0.25712 0.3664 0.2599 0.37287 C 0.27031 0.39807 0.27535 0.40754 0.29097 0.42303 C 0.29983 0.42164 0.31198 0.42188 0.31997 0.41425 C 0.32205 0.41217 0.3224 0.40801 0.32431 0.40546 C 0.32761 0.40084 0.33212 0.39784 0.33542 0.39344 C 0.33733 0.3909 0.3382 0.3872 0.33993 0.38466 C 0.3441 0.37842 0.3533 0.36686 0.3533 0.36686 C 0.35643 0.40731 0.34097 0.4584 0.37778 0.46164 C 0.38316 0.4621 0.38802 0.45771 0.39323 0.45563 C 0.40747 0.41933 0.43472 0.3308 0.46441 0.30468 C 0.4849 0.28665 0.50729 0.27324 0.52882 0.25752 C 0.5507 0.24157 0.57361 0.22909 0.59549 0.21314 C 0.60747 0.20435 0.63108 0.18632 0.63108 0.18632 C 0.6809 0.07236 0.61615 0.22308 0.65764 0.11836 C 0.67518 0.07421 0.66389 0.11397 0.67327 0.07698 C 0.67101 0.06913 0.66997 0.06034 0.66667 0.05318 C 0.66528 0.05017 0.66233 0.04878 0.6599 0.0474 C 0.64774 0.04023 0.63524 0.03792 0.62222 0.03561 C 0.61163 0.03075 0.60174 0.02405 0.59097 0.02081 C 0.5783 0.01226 0.57726 0.00902 0.56215 0.00602 C 0.55035 -0.00207 0.53906 -0.01178 0.52656 -0.01779 C 0.51094 -0.02542 0.51337 -0.02057 0.5 -0.02958 C 0.49011 -0.03628 0.48316 -0.04946 0.47327 -0.05616 C 0.46354 -0.06287 0.45538 -0.07142 0.44653 -0.07997 C 0.44063 -0.08575 0.43577 -0.09431 0.42882 -0.09754 C 0.41858 -0.10216 0.42448 -0.09985 0.41111 -0.10355 C 0.40087 -0.11257 0.38889 -0.11395 0.37778 -0.12135 C 0.34948 -0.11788 0.32118 -0.10633 0.29323 -0.09754 C 0.28542 -0.095 0.24618 -0.09199 0.24445 -0.09176 C 0.2191 -0.08044 0.23577 -0.08621 0.19323 -0.08275 C 0.15938 -0.07211 0.12344 -0.07466 0.08889 -0.06795 C 0.06563 -0.05848 0.03924 -0.05085 0.01997 -0.02958 C 0.01268 -0.02149 0.00729 5.5571E-006 -3.33333E-006 5.5571E-006 E">
                                      <p:cBhvr>
                                        <p:cTn id="46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539640" y="836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V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2349360"/>
            <a:ext cx="4965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 Andrew's Da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588000" y="2133720"/>
            <a:ext cx="228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30 ноябр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8920" y="342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День покровителя Шотландии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6588000" y="4076640"/>
            <a:ext cx="19051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95280" y="33336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39640" y="1197000"/>
            <a:ext cx="684072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dvent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подготовка к Рождеству)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867280" y="1341360"/>
            <a:ext cx="290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-24 декабр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2852640"/>
            <a:ext cx="889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то недели подготовки к Рождеству. В это время духовные наставники христиан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просят их задуматься об истинном смысле Рождества и обдумать, действительно ли они следуют примеру Иисуса Христа в своей жизни. Одна из главных традиций этих недель - это венки со свечами, которые имеют особое значение. Такие венки делают на первое воскресенье этого периода, и обычно они состоят из 5 свечей: четырех красных и одной белой. Каждое воскресенье зажигается новая красная свеча. Они зажигаются в то время, когда семья собирается вместе за молитвой, праздничным столом и т.д. Белую свечу зажигают в вечер перед Рождеством как символ того, что в мир придет Христос и осветит тьму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ANU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2411280" y="2852640"/>
            <a:ext cx="3800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Up- Helly-Aa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3789360"/>
            <a:ext cx="795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 9 веке на Шетландские острова, что рядом с побережьем Шотландии, напали викинги. Это событие отмечают каждую зиму жители города Лервик (Lerwick), стоящего на одном из островов. Они делают модель корабля викингов (с драконом на носу), наряжаются в наряды викингов и морозным январским вечером несут корабль через весь город к морю, где, следуя обычаю викингов хоронить своих воинов, его торжественно сжигаю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95280" y="40464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920" y="1700280"/>
            <a:ext cx="515628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Christma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296040" y="2492280"/>
            <a:ext cx="2847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4-25 декабр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24000" y="171360"/>
            <a:ext cx="8820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Обычай вешать носки для подарков пришел из Англии. Санта Клаус однажды уронил несколько золотых монет, когда спускался вниз по дымоходу. Монеты бы провалились в печку и пропали бы, если бы они не попали в носок, который был повешен для просушки. С тех пор дети вешают носки на камин в надежде найти их полными подарков. Дети пишут письма Санта Клаусу с описанием их желаний, но вместо того, чтобы отправлять их почтой, они бросают их в огонь. А Санта Клаус прилежно читает дым. Дом украшают хвойными ветками и лесными ягодами. Эта традиция соблюдалась задолго до крещения Англии. Ветки и ягоды приносили в дом, чтобы разогнать зимнее уныние и напомнить, что весна уже не за горами. Омелу (mistletoe) можно найти на яблонях и ивах. Ее развешивали по дому еще древние друиды, которые верили, что омела обладает мистическими силами, которые приносят удачу дому и отпугивают злых духов. Рождественскую ель стали украшать на Рождество около тысячи лет назад в Германии, когда святой Бонифаций, который обратил немцев в христианство, по легенде наткнулся на группу язычников, которые собирались принести в жертву дубу мальчика. В ярости святой Бонифаций срубил большой дуб и, к его удивлению, из дубового пня выросла ель. Святой воспринял это как знак христианской веры. Лишь в шестнадцатом веке елки стали приносить домой. Украшение рождественской елки, хотя и исконно немецкий обычай, стало очень популярным с 19841 года, когда принц Альберт приказал принести и украсить елку в Виндзорском замке для его жены Виктории и их детей. Елки украшали свечами до тех пор, пока не изобрели электрические гирлянды. В Сочельник дети оставляют пироги с мясом и бренди для Санда Клауса и морковь для оленей. По традиции к праздничному обеду, кроме всего прочего, подаются рождественские крекеры. Когда их разламывают (естественно, с громким треском), оттуда выпадает праздничный бумажный головной убор в форме короны, игрушка или подарок и праздничная шутка. Подарки открываются утром в Рождество. Дети просыпаются очень рано утром и находят носок, полный подарков, в ногах кровати и подарки на полу. Позже семья собирается вместе, чтобы открыть все подарки, которые были оставлены под елкой.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95280" y="47628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042920" y="2060640"/>
            <a:ext cx="4249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oxing Da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372360" y="2133720"/>
            <a:ext cx="2257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6 декабр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50028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звание этого праздника происходит совсем не от бокса, а от слова 'box' (коробка, ящик). По традиции в этот день в церквях открывают коробки с пожертвованиями и их содержимое раздается бедным. Раньше в этот день слуг отпускали домой на праздничный обед с семьей. По сути своей, праздник является добавочным выходным после Рождеств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95280" y="47628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C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763640" y="1413000"/>
            <a:ext cx="4537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овый го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800760" y="1052640"/>
            <a:ext cx="234324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31 декабр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 январ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2852640"/>
            <a:ext cx="8748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В Англии же существует не менее любопытная традиция: за несколько минут до полуночного боя часов в новогоднюю ночь отец семейства или темноволосый гость покидает дом через черный ход, унося небольшой сверток, в котором находятся кусок угля, ломоть хлеба и монета. В наши дни англичане, конечно, испытывают большие трудности при разыскивании угля для этой традиции. Человек, который "уносит старый год" и затем "приносит Новый год", ни в коем случае не должен быть блондином или рыжим - это может принести неудачу. Через минуту после наступления Нового года этот человек входит в дом, громко хлопая дверью, а вся семья встречает его смехом, криками, поздравлениями и поцелуями. Затем сверток, который был принесен таким же образом год назад, выбрасывается в мусорную корзину, а новый сверток хранится до конца года. Содержимое свертка должно обеспечить семью теплом, едой и достатком в течение всего наступившего года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EBRU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547640" y="2852640"/>
            <a:ext cx="51292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t. Valentine's Da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386064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Святой Валентин - покровитель всех влюбленных. В этот день влюбленные дарят</a:t>
            </a: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Monotype Corsiva"/>
              </a:rPr>
              <a:t>друг другу особые открытки ("валентинки")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5286240" cy="3429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800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332000" y="3166920"/>
            <a:ext cx="561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St. David's Da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451640" y="3213000"/>
            <a:ext cx="129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 март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4221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вятой Дэвид - покровитель Уэльса. Этот праздник очень важен для жителей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Уэльса, которые носят в этот день в петлицах нарциссы - эмблему стран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6723000" y="333360"/>
            <a:ext cx="19638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116000" y="0"/>
            <a:ext cx="621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26920" y="476280"/>
            <a:ext cx="4896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451640" y="3213000"/>
            <a:ext cx="1292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рт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453708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42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аслен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pancake wee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shrov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619280" y="2492280"/>
            <a:ext cx="54579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t. Patrick's Da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04000" y="3573360"/>
            <a:ext cx="1981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7 мар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1280" y="436572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ень покровителя Ирландии. В отличие от жителей других стран Объединенного Королевства, ирландцы очень активно отмечают день Святого Патрика. Он отмечается не только в самой Ирландии, но и везде, где есть хоть сколько-нибудь значительное скопление этого веселого народца. Например, в Нью-Йорке в этот день проводится парад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1400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258920" y="3068640"/>
            <a:ext cx="4718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other's Day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093080" y="3141720"/>
            <a:ext cx="1761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6 март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393372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 викторианские времена детей посылали работать вдали от дома в раннем возрасте, а деньги, заработанные ими, пересылали в семейный бюджет. Один день в году детям разрешалось провести дома вместе с родителями. Они приносили матерям (и бабушкам) небольшие подарки, такие, как букетики цветов или свежие яйца. Теперь в этот день дети дарят матерям и бабушкам букетики цветов и выполняют за них всю домашнюю работу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5079960" cy="38102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4716360" y="4189320"/>
            <a:ext cx="4427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R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00000" y="3166920"/>
            <a:ext cx="561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pril Fool's Day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04000" y="3141720"/>
            <a:ext cx="20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1 апр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5280" y="4437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Этот праздник появился в средних веках, хотя тогда он имел несколько другой вид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 этот день слуги становились хозяевами, а хозяева слугами. За века традиции изменились, и теперь 1 апреля - день шуток и розыгрыше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9100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135 0.40499 C -0.39149 0.39875 -0.3625 0.39713 -0.4085 0.40222 C -0.50312 0.40083 -0.59236 0.39852 -0.68524 0.39089 C -0.70937 0.3828 -0.72552 0.3791 -0.75104 0.37679 C -0.76198 0.37379 -0.77222 0.36893 -0.78298 0.36546 C -0.79184 0.35737 -0.80243 0.35483 -0.81285 0.35113 C -0.81076 0.34928 -0.80677 0.34905 -0.80642 0.34558 C -0.8059 0.33957 -0.81076 0.32848 -0.81076 0.32848 C -0.81007 0.31993 -0.81441 0.30652 -0.8085 0.30305 C -0.79496 0.29496 -0.77864 0.30189 -0.76389 0.30028 C -0.75451 0.29912 -0.74548 0.29427 -0.73628 0.29172 C -0.72708 0.26283 -0.72257 0.24295 -0.69791 0.23232 C -0.68524 0.20527 -0.66771 0.16019 -0.69583 0.13592 C -0.6901 0.13407 -0.68385 0.13384 -0.67882 0.13014 C -0.67378 0.12644 -0.67656 0.11489 -0.67448 0.10749 C -0.66649 0.07859 -0.65712 0.04716 -0.64687 0.01965 C -0.6408 0.00347 -0.64514 0.00254 -0.63628 -0.01133 C -0.63212 -0.01803 -0.62569 -0.02196 -0.62135 -0.02843 C -0.5908 -0.07397 -0.55521 -0.1105 -0.51701 -0.14448 C -0.50312 -0.15696 -0.48628 -0.1632 -0.47239 -0.17568 C -0.45642 -0.19001 -0.43819 -0.2092 -0.41927 -0.21544 C -0.4092 -0.21891 -0.38871 -0.22007 -0.3809 -0.22099 C -0.37413 -0.26722 -0.37951 -0.23833 -0.37448 -0.17846 C -0.37378 -0.17037 -0.36962 -0.16366 -0.36823 -0.1558 C -0.34826 -0.15858 -0.32795 -0.15835 -0.3085 -0.16436 C -0.3026 -0.16621 -0.29375 -0.17846 -0.29375 -0.17846 C -0.29028 -0.16574 -0.29166 -0.16366 -0.28298 -0.1558 C -0.28107 -0.15765 -0.2783 -0.15881 -0.27691 -0.16158 C -0.27448 -0.16667 -0.27656 -0.17568 -0.27239 -0.17846 C -0.26962 -0.18031 -0.26684 -0.18239 -0.26406 -0.18424 C -0.25816 -0.20227 -0.25746 -0.22423 -0.24687 -0.2381 C -0.22413 -0.26838 -0.20451 -0.28872 -0.17673 -0.31161 C -0.15868 -0.32663 -0.1585 -0.33796 -0.13628 -0.34281 C -0.09427 -0.37772 -0.04149 -0.39598 0.00625 -0.41378 C 0.03559 -0.42464 0.06545 -0.44036 0.09566 -0.44475 C 0.10625 -0.44383 0.11858 -0.44938 0.12761 -0.44198 C 0.13577 -0.43528 0.13611 -0.41933 0.14028 -0.408 C 0.14844 -0.3865 0.16007 -0.36547 0.16597 -0.34281 C 0.16528 -0.33056 0.16528 -0.31808 0.16372 -0.30606 C 0.16042 -0.28132 0.12726 -0.26191 0.11476 -0.24364 C 0.10556 -0.23001 0.10313 -0.2129 0.09566 -0.19834 C 0.08785 -0.16597 0.09254 -0.13199 0.08715 -0.09917 C 0.08577 -0.09015 0.0849 -0.07351 0.07865 -0.06796 C 0.07622 -0.06588 0.07292 -0.06634 0.07014 -0.06519 C 0.06025 -0.06149 0.04983 -0.05617 0.04028 -0.05109 C 0.03733 -0.04947 0.03472 -0.04693 0.03177 -0.04531 C 0.02761 -0.043 0.0191 -0.03976 0.0191 -0.03976 C 0.01077 -0.03213 0.00781 -0.03421 0.00209 -0.02265 C -0.00035 -0.00578 1.11111E-006 -0.01341 1.11111E-006 2.32085E-006 E">
                                      <p:cBhvr>
                                        <p:cTn id="288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39640" y="836640"/>
            <a:ext cx="56880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PR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58920" y="2924280"/>
            <a:ext cx="7200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ень рожд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оролевы Елизаветы II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675400" y="1916280"/>
            <a:ext cx="34686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21 апр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280" y="537372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 этот день все британцы, весь мир и все газеты, радио- и телевизионные станции поздравляют королеву с ее днем рождения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2666880" y="1136520"/>
            <a:ext cx="3810240" cy="4584960"/>
          </a:xfrm>
          <a:prstGeom prst="rect">
            <a:avLst/>
          </a:prstGeom>
          <a:ln w="254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3:42:42Z</dcterms:created>
  <dc:creator>Осяева Любовь Дмитриевна</dc:creator>
  <dc:description/>
  <dc:language>en-US</dc:language>
  <cp:lastModifiedBy>Осяева Любовь Дмитриевна</cp:lastModifiedBy>
  <dcterms:modified xsi:type="dcterms:W3CDTF">2005-05-05T15:32:25Z</dcterms:modified>
  <cp:revision>20</cp:revision>
  <dc:subject/>
  <dc:title>Слайд 1</dc:title>
</cp:coreProperties>
</file>