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83B4-9EFD-47E2-9D1E-33C1B43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D017-0050-43D9-9898-0C2D440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0A8F-0532-48F8-95A3-D485D3DF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0A2EF-3568-475F-9967-70F91104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B9BF-2E06-442F-ABCD-F432699C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648-F848-4DEA-9491-83B6A53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4B1C-6420-407D-93BF-13039F50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9FB6-2E5D-4A41-A3E4-E7623CF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A59B-CB37-49CA-9F46-555AB4F6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CE29-34E9-46FA-BD81-D2D5600F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C3EF-E30B-46F1-8C77-A6E4373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C1EF-7E80-49DC-933E-3B0366F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0AD-8827-4A48-A519-1E6463D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6CA3-4B22-4E8A-9698-B22AE19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3BAD-34F8-4F82-9786-832A3D7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DB11-8B98-48ED-942E-20D9C418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03F-B66B-4591-95FD-C47AA70B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B6E4-24BD-4AC9-BF63-1268BC40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75F5-B78A-43A0-B615-8CB56E8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19AA-28D3-4667-8488-33D3BE2B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B52B-D5FB-4B99-9272-F67243E2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8673-31B6-4BA5-A4B1-6616016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1878-7300-4A4C-B6E6-29B2385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19CD-6026-4237-9793-E1D6483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82F-9131-4B6E-8712-77FDD66DF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A4F-3976-4478-A5B5-674DFAC870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1197000"/>
            <a:ext cx="6335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уховно-нравственное воспитание в рамках предмета ОБ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513400" y="4333680"/>
            <a:ext cx="30607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готовила: Кашкина Н.И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ОБЖ МОУ«Каменская основная общеобразовательная школа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27380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рганизация социально открытого пространства духовно-нравственного развития и воспитания личности гражданина России, нравственного уклада жизни обучающихся осуществляется на основе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равственного примера педаг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ьно-педагогического партнёр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-личностно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гративности программ духовно-нравственного воспит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ьной востребованности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Каждая из базовых ценностей, педагогически определяемая как вопрос, превращается в воспитательную задачу. Для её решения обучающиеся вместе с педагогами, родителями, иными субъектами духовной, культурной, социальной жизни обращаются к содержа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стории России, российских народов, своей семьи, р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енного опыта своих родителей, пред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адиционных российских рели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изведений литературы и искусства, лучших образцов отечественной и мировой куль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иодической литературы, СМИ, отражающих современную жиз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льклора народов России; общественно полезной и личностно значим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ебных дисципл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гих источников информации и научного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 основное содержание примерных программ по ОБЖ в стандартах второго поколения включены следующие темы, направленные на духовно-нравственное развитие и воспит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ормативно-правовая база противодействия терроризму, экстремизму и наркотизму в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е основы системы противодействия терроризму и экстремизму в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ховно-нравственные основы противодействия терроризму и экстремиз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ственность несовершеннолетних за антиобщественное поведение и за участие в террористической и экстремистск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вовые аспекты взаимоотношений по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ы проведения уроков ОБЖ,  направленные на развитие духовно-нравственных качеств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се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ктор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ловые, правовые, ролевые, экологически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тные журн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ст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исп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нин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Благодарю за внимани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981000"/>
            <a:ext cx="6135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ь духовно-нравственного развития и воспитания шк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8920" y="400536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оспитание, социально-педагогическая поддержка становления и развития высоконравственного, ответственного, творческого, инициативного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мпетентного гражданина Росси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чами духовно-нравственного развития и воспитания являютс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 воспитание обучающихся должно обеспеч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к духовному развитию, нравственному самосовершенствованию, самооценке, пониманию смысла своей жизни, индивидуально-ответственному повед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к реализации творческого потенциала в духовной и предметно-продуктивной деятельности, социальной и профессиональной мобильности на основе моральных норм, непрерывного образования и универсальной духовно-нравственной установки «становиться лучше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крепление нравственности, основанной на свободе, воле и духовных отечественных традициях, внутренней установке личности поступать согласно своей сове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формирование морали как осознанной личностью необходимости определённого поведения, основанного на принятых в обществе представлениях о добре и зле, должном и недопустим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звитие совести как нравственного самосознания личности, способности формулировать собственные нравственные обязательства, осуществлять нравственный самоконтроль, требовать от себя выполнения моральных норм, давать нравственную самооценку своим и чужим поступк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инятие личностью базовых национальных ценностей, национальных духовных тради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8000" y="-2968560"/>
            <a:ext cx="14292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выражать и отстаивать свою общественную позицию, критически оценивать собственные намерения, мысли и поступ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пособность к самостоятельным поступкам и действиям, совершаемым на основе морального выбора, принятию ответственности за их результаты, целеустремленность и настойчивость в достижении результ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рудолюбие, бережливость, жизненный оптимизм, способность к преодолению труд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сознание ценности других людей, ценности человеческой жизни, нетерпимость к действиям и влияниям, представляющим угрозу жизни, физическому и нравственному здоровью, духовной безопасности личности, умение им противодействова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вободолюбие как способность к сознательному личностному, профессиональному, гражданскому и иному самоопределению и развитию в сочетании с моральной ответственностью личности перед семьей, обществом, Россией, будущими поколени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крепление веры в Россию, чувства личной ответственности за Отечество перед прошлыми, настоящими и будущими поколени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 сфере общественных отношений духовно-нравственное развитие и воспитание обучающихся должно обеспеч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себя гражданином России на основе принятия общих национальных нравственных ценнос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отовность граждан солидарно противостоять внешним и внутренним вызов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витость чувства патриотизма и гражданской солидар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боту о благосостоянии многонационального народа Российской Федерации, поддержание межэтнического мира и соглас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безусловной ценности семьи как первоосновы нашей принадлежности к многонациональному народу Российской Федерации, Отечеств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нимание и поддержание таких нравственных устоев семьи, как любовь, взаимопомощь, уважение к родителям, забота о младших и старших, ответственность за другого челове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режное отношение к жизни человека, забота о продолжении род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конопослушность и сознательно поддерживаемый гражданами правопоряд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уховную, культурную и социальную преемственность покол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В сфере государственных отношений духовно-нравственное развитие и воспитание обучающихся должно содействов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рмированию мотивации к активному и ответственному участию в общественной жизни, формировании власти и участию в государственных дел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реплению и совершенствованию демократического федеративного правового государства с республиканской формой 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вышению доверия к государственным институтам со стороны граждан и общественных организаций; повышению эффективности усилий государства, направленных на модернизацию стра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реплению национальной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43280" y="1341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Национальный воспитательный идеал, определённый в Концепции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407664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ременный национальный воспитательный идеал – 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ённый в духовных и культурных традициях многонационального народа Российской Федер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Базовые национальные ценности, сформулированные в Концеп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атриотизм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юбовь к России, к своему народу, к своей малой родине, служение Отечеств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циальная солидарность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вобода личная и национальная, доверие к людям, институтам государства и гражданского общества, справедливость, милосердие, честь, достоинств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твенность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ужение Отечеству, правовое государство, гражданское общество, закон и правопорядок, поликультурный мир, свобода совести и вероисповед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мья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юбовь и верность, здоровье, достаток, уважение к родителям, забота о старших и младших, забота о продолжении род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уд и творчество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важение к труду, творчество и созидание, целеустремлённость и настойчив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ук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енность знания, стремление к истине, научная картина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адиционные российские религии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дставления о вере, духовности, религиозной жизни человека, ценности религиозного мировоззрения, толерантности, формируемые на основе межконфессионального диалог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кусство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 литература — красота, гармония, духовный мир человека, нравственный выбор, смысл жизни, эстетическое развитие, этическое развит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род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эволюция, родная земля, заповедная природа, планета Земля, экологическое созн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ловечество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ир во всём мире, многообразие культур и народов, прогресс человечества, международное сотрудниче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457200"/>
            <a:ext cx="7067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сновное содержание и принципы организации духовно-нравственного развития личности школь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6:28:08Z</dcterms:created>
  <dc:creator>дом</dc:creator>
  <dc:description/>
  <dc:language>en-US</dc:language>
  <cp:lastModifiedBy>дом</cp:lastModifiedBy>
  <dcterms:modified xsi:type="dcterms:W3CDTF">2012-01-17T21:26:43Z</dcterms:modified>
  <cp:revision>2</cp:revision>
  <dc:subject/>
  <dc:title>Слайд 1</dc:title>
</cp:coreProperties>
</file>