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63D3-9723-4D85-9DF2-52311DEA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0BBE-A218-4754-93E8-18A079CE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8909-3C5E-4E0D-B127-33174F1D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16CD-B051-446C-9F90-365D7923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955D-304C-4A4B-AE39-89A8E67B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84B7-9791-4425-9CFF-4874975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F25E-87D4-4D58-A1C9-B5FD6BCA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2175-C58A-4E02-A66A-A4483DBA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87CA-956F-420E-8020-0A139DE0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0C78-8AA5-48B3-83EF-4E2F1857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7BC0-6EA5-453C-BFC5-688CB3A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55DE-4951-4D3E-BF83-ED22FDD9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0354-432A-4DF3-9F51-04D9AA84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5D4A-003A-4613-A727-4AD61DC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FC26-7362-4845-B5EB-C28612C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67DA-1B6F-40DF-A075-CE375EB9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F1DD-2E4C-4618-8602-00E035EC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5F3C-F6E1-4723-8D6C-1D36DD53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4E45-63D1-40DF-B984-06F1D4B1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515A-D362-4540-AD4D-5E9A5C70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F1B1-17B7-48BD-B338-37AFFC63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B42A-3911-4BA7-86A1-F170029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0FF6-3023-4A46-A14B-4F8B1B1E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DC18-24B4-4130-9441-E8161A19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89DA-58BD-40DA-8835-95D5C69F96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4202-3BCE-41D0-A3A4-11680555D0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0" y="1197000"/>
            <a:ext cx="6335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уховно-нравственное воспитание в рамках предмета ОБ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513400" y="4333680"/>
            <a:ext cx="306072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готовила: Кашкина Н.И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ОБЖ МОУ«Каменская основная общеобразовательная школа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620640"/>
            <a:ext cx="727380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рганизация социально открытого пространства духовно-нравственного развития и воспитания личности гражданина России, нравственного уклада жизни обучающихся осуществляется на основе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равственного примера педагог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циально-педагогического партнёр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видуально-личностно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гративности программ духовно-нравственного воспита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циальной востребованности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Каждая из базовых ценностей, педагогически определяемая как вопрос, превращается в воспитательную задачу. Для её решения обучающиеся вместе с педагогами, родителями, иными субъектами духовной, культурной, социальной жизни обращаются к содержа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истории России, российских народов, своей семьи, р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изненного опыта своих родителей, пред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радиционных российских религ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изведений литературы и искусства, лучших образцов отечественной и мировой культу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ериодической литературы, СМИ, отражающих современную жизн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ольклора народов России; общественно полезной и личностно значим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чебных дисципли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ругих источников информации и научного зн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В основное содержание примерных программ по ОБЖ в стандартах второго поколения включены следующие темы, направленные на духовно-нравственное развитие и воспита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ормативно-правовая база противодействия терроризму, экстремизму и наркотизму в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е основы системы противодействия терроризму и экстремизму в РФ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уховно-нравственные основы противодействия терроризму и экстремиз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ветственность несовершеннолетних за антиобщественное поведение и за участие в террористической и экстремистск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авовые аспекты взаимоотношений по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ы проведения уроков ОБЖ,  направленные на развитие духовно-нравственных качеств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се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ктори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ловые, правовые, ролевые, экологические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стные журна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ст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исп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нин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Благодарю за внимание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981000"/>
            <a:ext cx="61358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ль духовно-нравственного развития и воспитания шк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8920" y="400536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воспитание, социально-педагогическая поддержка становления и развития высоконравственного, ответственного, творческого, инициативного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мпетентного гражданина России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дачами духовно-нравственного развития и воспитания являются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 сфере личностного развития воспитание обучающихся должно обеспечи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отовность и способность к духовному развитию, нравственному самосовершенствованию, самооценке, пониманию смысла своей жизни, индивидуально-ответственному повед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отовность и способность к реализации творческого потенциала в духовной и предметно-продуктивной деятельности, социальной и профессиональной мобильности на основе моральных норм, непрерывного образования и универсальной духовно-нравственной установки «становиться лучше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крепление нравственности, основанной на свободе, воле и духовных отечественных традициях, внутренней установке личности поступать согласно своей сове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формирование морали как осознанной личностью необходимости определённого поведения, основанного на принятых в обществе представлениях о добре и зле, должном и недопустимо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развитие совести как нравственного самосознания личности, способности формулировать собственные нравственные обязательства, осуществлять нравственный самоконтроль, требовать от себя выполнения моральных норм, давать нравственную самооценку своим и чужим поступка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принятие личностью базовых национальных ценностей, национальных духовных тради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8000" y="-2968560"/>
            <a:ext cx="142920" cy="96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отовность и способность выражать и отстаивать свою общественную позицию, критически оценивать собственные намерения, мысли и поступк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пособность к самостоятельным поступкам и действиям, совершаемым на основе морального выбора, принятию ответственности за их результаты, целеустремленность и настойчивость в достижении результ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трудолюбие, бережливость, жизненный оптимизм, способность к преодолению труднос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осознание ценности других людей, ценности человеческой жизни, нетерпимость к действиям и влияниям, представляющим угрозу жизни, физическому и нравственному здоровью, духовной безопасности личности, умение им противодействова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свободолюбие как способность к сознательному личностному, профессиональному, гражданскому и иному самоопределению и развитию в сочетании с моральной ответственностью личности перед семьей, обществом, Россией, будущими поколения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укрепление веры в Россию, чувства личной ответственности за Отечество перед прошлыми, настоящими и будущими поколени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В сфере общественных отношений духовно-нравственное развитие и воспитание обучающихся должно обеспечи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сознание себя гражданином России на основе принятия общих национальных нравственных ценнос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отовность граждан солидарно противостоять внешним и внутренним вызова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звитость чувства патриотизма и гражданской солидар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аботу о благосостоянии многонационального народа Российской Федерации, поддержание межэтнического мира и соглас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сознание безусловной ценности семьи как первоосновы нашей принадлежности к многонациональному народу Российской Федерации, Отечеств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нимание и поддержание таких нравственных устоев семьи, как любовь, взаимопомощь, уважение к родителям, забота о младших и старших, ответственность за другого челове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ережное отношение к жизни человека, забота о продолжении род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аконопослушность и сознательно поддерживаемый гражданами правопоряд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уховную, культурную и социальную преемственность покол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В сфере государственных отношений духовно-нравственное развитие и воспитание обучающихся должно содействов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ормированию мотивации к активному и ответственному участию в общественной жизни, формировании власти и участию в государственных дела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реплению и совершенствованию демократического федеративного правового государства с республиканской формой 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вышению доверия к государственным институтам со стороны граждан и общественных организаций; повышению эффективности усилий государства, направленных на модернизацию стран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реплению национальной без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43280" y="134136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Национальный воспитательный идеал, определённый в Концепции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4076640"/>
            <a:ext cx="8856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временный национальный воспитательный идеал – 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ённый в духовных и культурных традициях многонационального народа Российской Федерации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Базовые национальные ценности, сформулированные в Концеп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атриотизм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юбовь к России, к своему народу, к своей малой родине, служение Отечеств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оциальная солидарность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вобода личная и национальная, доверие к людям, институтам государства и гражданского общества, справедливость, милосердие, честь, достоинство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твенность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лужение Отечеству, правовое государство, гражданское общество, закон и правопорядок, поликультурный мир, свобода совести и вероисповед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емья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любовь и верность, здоровье, достаток, уважение к родителям, забота о старших и младших, забота о продолжении род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руд и творчество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важение к труду, творчество и созидание, целеустремлённость и настойчивост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ука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енность знания, стремление к истине, научная картина мир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радиционные российские религии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дставления о вере, духовности, религиозной жизни человека, ценности религиозного мировоззрения, толерантности, формируемые на основе межконфессионального диалог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кусство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 литература — красота, гармония, духовный мир человека, нравственный выбор, смысл жизни, эстетическое развитие, этическое развит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рода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эволюция, родная земля, заповедная природа, планета Земля, экологическое созн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еловечество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ир во всём мире, многообразие культур и народов, прогресс человечества, международное сотрудничеств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457200"/>
            <a:ext cx="70675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Основное содержание и принципы организации духовно-нравственного развития личности школьн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6:28:08Z</dcterms:created>
  <dc:creator>дом</dc:creator>
  <dc:description/>
  <dc:language>en-US</dc:language>
  <cp:lastModifiedBy>дом</cp:lastModifiedBy>
  <dcterms:modified xsi:type="dcterms:W3CDTF">2012-01-17T21:26:43Z</dcterms:modified>
  <cp:revision>2</cp:revision>
  <dc:subject/>
  <dc:title>Слайд 1</dc:title>
</cp:coreProperties>
</file>