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031-39DC-4BDE-AEF7-CB96DE01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26E-DF38-4471-BD3E-7E5AE60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BD9-0FFE-4EC9-8C72-95D7EB2F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469-2316-4694-8A3D-323B7714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D57-7EAB-47D2-A592-01EFD23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299-6CC6-41AB-93A1-5BFD5EE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DB6-718D-4AD9-93D1-3B709B12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B79-A550-4B62-82E5-8759F74E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35A-69C9-4E54-9CF8-D979B1E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BB1-BBF1-4A0A-8605-627EDFE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16E-AF7C-4E0A-91D9-8949529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A2A-8279-4106-A3D6-16A97BF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FCC3-6349-4F61-8CD1-9A2E09D84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danilenko.info/gallery/Iceland/10830007_grass.jpg&amp;imgrefurl=http://www.danilenko.info/gal_iceland.htm&amp;h=338&amp;w=510&amp;sz=47&amp;hl=ru&amp;start=259&amp;tbnid=jZBMLdAQTC1cgM:&amp;tbnh=87&amp;tbnw=131&amp;prev=/images%3Fq%3D%25D1%2581%25D1%2580%25D0%25B5%25D0%25B4%25D1%258B%2B%25D0%25BE%25D0%25B1%25D0%25B8%25D1%2582%25D0%25B0%25D0%25BD%25D0%25B8%25D1%258F%2B%25D0%25BF%25D0%25BE%25D1%2587%25D0%25B2%25D0%25B0%26start%3D240%26gbv%3D2%26ndsp%3D20%26hl%3Dru%26newwindow%3D1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ru/imgres?imgurl=http://www.aqualogo.ru/fish_catalog/goods_images/big/f0049.jpg&amp;imgrefurl=http://www.aqualogo.ru/fish_catalog/details/%3Fid%3D7130&amp;h=500&amp;w=500&amp;sz=34&amp;hl=ru&amp;start=223&amp;tbnid=yywXXKo-90eACM:&amp;tbnh=130&amp;tbnw=130&amp;prev=/images%3Fq%3D%25D1%2581%25D1%2580%25D0%25B5%25D0%25B4%25D1%258B%2B%25D0%25BE%25D0%25B1%25D0%25B8%25D1%2582%25D0%25B0%25D0%25BD%25D0%25B8%25D1%258F%26start%3D220%26gbv%3D2%26ndsp%3D20%26hl%3Dru%26newwindow%3D1%26sa%3DN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images.google.ru/imgres?imgurl=http://img.travel.ru/images2/2006/02/object87119/200206-18.jpg&amp;imgrefurl=http://reports.travel.ru/reports/2006/200206_1.html&amp;h=450&amp;w=600&amp;sz=76&amp;hl=ru&amp;start=239&amp;tbnid=yENPIm2NqjBB3M:&amp;tbnh=101&amp;tbnw=135&amp;prev=/images%3Fq%3D%25D1%2581%25D1%2580%25D0%25B5%25D0%25B4%25D1%258B%2B%25D0%25BE%25D0%25B1%25D0%25B8%25D1%2582%25D0%25B0%25D0%25BD%25D0%25B8%25D1%258F%26start%3D220%26gbv%3D2%26ndsp%3D20%26hl%3Dru%26newwindow%3D1%26sa%3D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ru/imgres?imgurl=http://www.pravda.ru/img/idb/1-282.jpg&amp;imgrefurl=http://www.pravda.ru/science/eureka/hypotheses/18-01-2007/210029-parasite-0&amp;h=187&amp;w=200&amp;sz=12&amp;hl=ru&amp;start=406&amp;tbnid=b_ttLC31YK5OjM:&amp;tbnh=97&amp;tbnw=104&amp;prev=/images%3Fq%3D%25D0%25BF%25D0%25B0%25D1%2580%25D0%25B0%25D0%25B7%25D0%25B8%25D1%2582%26start%3D400%26gbv%3D2%26ndsp%3D20%26hl%3Dru%26newwindow%3D1%26sa%3DN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sunhome.ru/UsersGallery/wallpapers/81/21134428.jpg&amp;imgrefurl=http://www.sunhome.ru/wallpapers/11580&amp;h=768&amp;w=1024&amp;sz=174&amp;hl=ru&amp;start=1&amp;tbnid=8pQgxPLZOF4Z1M:&amp;tbnh=113&amp;tbnw=150&amp;prev=/images%3Fq%3D%25D0%25BF%25D1%2583%25D1%2581%25D1%2582%25D1%258B%25D0%25BD%25D1%258F%26gbv%3D2%26hl%3Dru%26newwindow%3D1%26sa%3D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ru/imgres?imgurl=http://unet.telesort.ru/elves/images/foto7409.jpg&amp;imgrefurl=http://aeterna.ru/test.php%3Flink%3Dtests:18730&amp;h=561&amp;w=850&amp;sz=236&amp;hl=ru&amp;start=1&amp;tbnid=kovrH5_9liBxSM:&amp;tbnh=96&amp;tbnw=145&amp;prev=/images%3Fq%3D%25D0%25BB%25D0%25B5%25D1%2581%26gbv%3D2%26hl%3Dru%26newwindow%3D1%26sa%3D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ru/imgres?imgurl=http://komionline.ru/images/about/tundra.jpg&amp;imgrefurl=http://komionline.ru/republic/about&amp;h=225&amp;w=300&amp;sz=12&amp;hl=ru&amp;start=2&amp;tbnid=tK6f_ae-zdlANM:&amp;tbnh=87&amp;tbnw=116&amp;prev=/images%3Fq%3D%25D1%2582%25D1%2583%25D0%25BD%25D0%25B4%25D1%2580%25D0%25B0%26gbv%3D2%26hl%3Dru%26newwindow%3D1%26sa%3DG" TargetMode="External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я</a:t>
            </a:r>
            <a:br>
              <a:rPr sz="4800"/>
            </a:br>
            <a:r>
              <a:rPr b="1" lang="ru-RU" sz="4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часть 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8" descr="toplog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min. </a:t>
            </a:r>
            <a:r>
              <a:rPr b="1" lang="ru-RU" sz="16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И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max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. значение фактора, при которых возможна жизнедеятельность, называют </a:t>
            </a:r>
            <a:r>
              <a:rPr b="1" i="1" lang="ru-RU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ом выносливости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69" name="Picture 4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187280" y="1557360"/>
            <a:ext cx="7058160" cy="4840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184718"/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она оптимума</a:t>
            </a: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- благоприятная интенсивность воздействия на организм экологического фактора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72" name="Picture 3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042920" y="1596960"/>
            <a:ext cx="7058160" cy="48402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4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184718"/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AutoShape 6"/>
          <p:cNvSpPr/>
          <p:nvPr/>
        </p:nvSpPr>
        <p:spPr>
          <a:xfrm rot="16200000">
            <a:off x="3131280" y="3140280"/>
            <a:ext cx="3384360" cy="1944720"/>
          </a:xfrm>
          <a:prstGeom prst="flowChartDelay">
            <a:avLst/>
          </a:prstGeom>
          <a:gradFill rotWithShape="0">
            <a:gsLst>
              <a:gs pos="0">
                <a:srgbClr val="5e0000"/>
              </a:gs>
              <a:gs pos="100000">
                <a:srgbClr val="cc0000">
                  <a:alpha val="0"/>
                </a:srgbClr>
              </a:gs>
            </a:gsLst>
            <a:lin ang="2700000"/>
          </a:gra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02cc"/>
                </a:solidFill>
                <a:latin typeface="Times New Roman"/>
                <a:ea typeface="Times New Roman"/>
              </a:rPr>
              <a:t>Ограничивающий фактор-</a:t>
            </a: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- фактор, интенсивность которого приближается к пределам выносливости или выходит за его границы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76" name="Picture 3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042920" y="1628640"/>
            <a:ext cx="7058160" cy="48405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"/>
          <p:cNvSpPr/>
          <p:nvPr/>
        </p:nvSpPr>
        <p:spPr>
          <a:xfrm>
            <a:off x="2700360" y="1700280"/>
            <a:ext cx="4248000" cy="576360"/>
          </a:xfrm>
          <a:prstGeom prst="leftRightArrow">
            <a:avLst>
              <a:gd name="adj1" fmla="val 50000"/>
              <a:gd name="adj2" fmla="val 146725"/>
            </a:avLst>
          </a:prstGeom>
          <a:gradFill rotWithShape="0">
            <a:gsLst>
              <a:gs pos="0">
                <a:srgbClr val="aaa578">
                  <a:alpha val="0"/>
                </a:srgbClr>
              </a:gs>
              <a:gs pos="100000">
                <a:srgbClr val="4f4c38">
                  <a:alpha val="45098"/>
                </a:srgbClr>
              </a:gs>
            </a:gsLst>
            <a:lin ang="5400000"/>
          </a:gra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AutoShape 5"/>
          <p:cNvSpPr/>
          <p:nvPr/>
        </p:nvSpPr>
        <p:spPr>
          <a:xfrm rot="16200000">
            <a:off x="3095640" y="3176640"/>
            <a:ext cx="3456000" cy="1944720"/>
          </a:xfrm>
          <a:prstGeom prst="flowChartDelay">
            <a:avLst/>
          </a:prstGeom>
          <a:blipFill rotWithShape="0">
            <a:blip r:embed="rId2">
              <a:alphaModFix amt="0"/>
            </a:blip>
            <a:srcRect/>
            <a:stretch/>
          </a:blip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79" name="Rectangle 6"/>
          <p:cNvGrpSpPr/>
          <p:nvPr/>
        </p:nvGrpSpPr>
        <p:grpSpPr>
          <a:xfrm>
            <a:off x="1731960" y="1884240"/>
            <a:ext cx="1004760" cy="4052880"/>
            <a:chOff x="1731960" y="1884240"/>
            <a:chExt cx="1004760" cy="4052880"/>
          </a:xfrm>
        </p:grpSpPr>
        <p:pic>
          <p:nvPicPr>
            <p:cNvPr id="80" name="Rectangle 6" descr=""/>
            <p:cNvPicPr/>
            <p:nvPr/>
          </p:nvPicPr>
          <p:blipFill>
            <a:blip r:embed="rId3"/>
            <a:stretch/>
          </p:blipFill>
          <p:spPr>
            <a:xfrm>
              <a:off x="1731960" y="1884240"/>
              <a:ext cx="1004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763640" y="1916280"/>
              <a:ext cx="93672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82" name="Rectangle 7"/>
          <p:cNvGrpSpPr/>
          <p:nvPr/>
        </p:nvGrpSpPr>
        <p:grpSpPr>
          <a:xfrm>
            <a:off x="6918480" y="1884240"/>
            <a:ext cx="1000080" cy="4052880"/>
            <a:chOff x="6918480" y="1884240"/>
            <a:chExt cx="1000080" cy="4052880"/>
          </a:xfrm>
        </p:grpSpPr>
        <p:pic>
          <p:nvPicPr>
            <p:cNvPr id="83" name="Rectangle 7" descr=""/>
            <p:cNvPicPr/>
            <p:nvPr/>
          </p:nvPicPr>
          <p:blipFill>
            <a:blip r:embed="rId4"/>
            <a:stretch/>
          </p:blipFill>
          <p:spPr>
            <a:xfrm>
              <a:off x="6918480" y="1884240"/>
              <a:ext cx="100008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948360" y="1916280"/>
              <a:ext cx="93672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кислорода, давление , проницаемость света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стын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 влаги, повышенные температуры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духе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заполните самостоятель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ве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 заполните самостоятельн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Среда обитания </a:t>
            </a:r>
            <a:r>
              <a:rPr b="1" lang="ru-RU" sz="2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е что окружает организм и прямо или косвенно влияет на его состояние, развитие, рост, выживаемость, размножение…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емно-воздушна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е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ые организ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3492360" y="2276640"/>
            <a:ext cx="2016360" cy="485640"/>
          </a:xfrm>
          <a:custGeom>
            <a:avLst/>
            <a:gdLst>
              <a:gd name="textAreaLeft" fmla="*/ 315000 w 2016360"/>
              <a:gd name="textAreaRight" fmla="*/ 1764360 w 20163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3276720" y="5229360"/>
            <a:ext cx="2016000" cy="48564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2627280" y="4221000"/>
            <a:ext cx="2016000" cy="48600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1619280" y="3284640"/>
            <a:ext cx="2016000" cy="485640"/>
          </a:xfrm>
          <a:custGeom>
            <a:avLst/>
            <a:gdLst>
              <a:gd name="textAreaLeft" fmla="*/ 315000 w 2016000"/>
              <a:gd name="textAreaRight" fmla="*/ 1764000 w 2016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3" name="Picture 13" descr="10830007_gra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076640"/>
            <a:ext cx="1872000" cy="124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f00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49228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200206-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0360" y="1700280"/>
            <a:ext cx="1656000" cy="1239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1-28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6000" y="5445000"/>
            <a:ext cx="9903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Местообитание</a:t>
            </a:r>
            <a:r>
              <a:rPr b="0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ый участок среды, населенный теми или иными организмами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Наземно-воздуш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Пустыня     Лес     Тундра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оре          Озеро     Боло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68360" y="1773360"/>
            <a:ext cx="388944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86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716360" y="1773360"/>
            <a:ext cx="3889440" cy="914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2" name="AutoShape 16"/>
          <p:cNvSpPr/>
          <p:nvPr/>
        </p:nvSpPr>
        <p:spPr>
          <a:xfrm rot="6991200">
            <a:off x="4593960" y="340632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3" name="AutoShape 17"/>
          <p:cNvSpPr/>
          <p:nvPr/>
        </p:nvSpPr>
        <p:spPr>
          <a:xfrm rot="5400000">
            <a:off x="5817960" y="347796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AutoShape 18"/>
          <p:cNvSpPr/>
          <p:nvPr/>
        </p:nvSpPr>
        <p:spPr>
          <a:xfrm rot="4111200">
            <a:off x="7041960" y="3406320"/>
            <a:ext cx="1755720" cy="21600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AutoShape 20"/>
          <p:cNvSpPr/>
          <p:nvPr/>
        </p:nvSpPr>
        <p:spPr>
          <a:xfrm rot="6991200">
            <a:off x="200880" y="340668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AutoShape 21"/>
          <p:cNvSpPr/>
          <p:nvPr/>
        </p:nvSpPr>
        <p:spPr>
          <a:xfrm rot="5400000">
            <a:off x="1424880" y="347832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AutoShape 22"/>
          <p:cNvSpPr/>
          <p:nvPr/>
        </p:nvSpPr>
        <p:spPr>
          <a:xfrm rot="4687800">
            <a:off x="2648880" y="3478320"/>
            <a:ext cx="1755720" cy="215640"/>
          </a:xfrm>
          <a:custGeom>
            <a:avLst/>
            <a:gdLst>
              <a:gd name="textAreaLeft" fmla="*/ 274320 w 1755720"/>
              <a:gd name="textAreaRight" fmla="*/ 1536480 w 17557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865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08" name="Picture 24" descr="21134428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501336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foto7409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1908000" y="5157720"/>
            <a:ext cx="138132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8" descr="tundra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348000" y="5229360"/>
            <a:ext cx="1104840" cy="82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1161293410_krmore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572000" y="5084640"/>
            <a:ext cx="1285920" cy="962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1163727617_krugloe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012000" y="5157720"/>
            <a:ext cx="1430280" cy="8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4" descr="34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7524720" y="5084640"/>
            <a:ext cx="1428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77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ческая ниша </a:t>
            </a:r>
            <a:r>
              <a:rPr b="1" lang="ru-RU" sz="2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пространство где может быть обнаружен данный вид</a:t>
            </a: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обит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1f02cc"/>
                </a:solidFill>
                <a:latin typeface="Times New Roman"/>
                <a:ea typeface="Times New Roman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обитание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широколиственный л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Экологическая ниш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686532"/>
                </a:solidFill>
                <a:latin typeface="Times New Roman"/>
                <a:ea typeface="Times New Roman"/>
              </a:rPr>
              <a:t>берё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6" descr="DSC00507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403280" y="3500280"/>
            <a:ext cx="6553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я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экология (от греческого "oicos" - дом, убежище, "logos" - наука, учение) был впервые введен в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866 г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мецким ученым  </a:t>
            </a:r>
            <a:r>
              <a:rPr b="1" i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рнстом Геккелем. </a:t>
            </a:r>
            <a:br>
              <a:rPr sz="1800"/>
            </a:br>
            <a:endParaRPr b="0" lang="en-US" sz="1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нст Гекк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м понимании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экология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аука о взаимоотношениях организмов между собой и с окружающей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ивой (косной)  природ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4" descr="Эрнст Геккель 1834-1919 -- !866г"/>
          <p:cNvPicPr/>
          <p:nvPr/>
        </p:nvPicPr>
        <p:blipFill>
          <a:blip r:embed="rId1"/>
          <a:stretch/>
        </p:blipFill>
        <p:spPr>
          <a:xfrm>
            <a:off x="971640" y="1484280"/>
            <a:ext cx="2843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ми задачами экологии можно считать следующие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закономерностей организации жизни, в том числе в связи с антропогенным воздействием на природные системы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аучной основы рациональной эксплуатации биологических ресурс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изменений в природе, возникающих под влиянием хозяйственной деятельности челове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допустимых пределов воздействия человека на окружающую среду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среды обитания живых организмов, в том числе и человек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рекомендаций путей развития человеческого об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Структура современной экологии</a:t>
            </a:r>
            <a:r>
              <a:rPr b="0" lang="ru-RU" sz="44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51" name="Picture 4" descr="\includegraphics{D:/html/work/link1/metod/met20/r1.eps}"/>
          <p:cNvPicPr/>
          <p:nvPr/>
        </p:nvPicPr>
        <p:blipFill>
          <a:blip r:embed="rId1"/>
          <a:stretch/>
        </p:blipFill>
        <p:spPr>
          <a:xfrm>
            <a:off x="1332000" y="1413000"/>
            <a:ext cx="6697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Классическая экология: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утэколог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еского «αυτος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ам, один) – наука о взаимоотношениях организма с окружающей сре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мэколог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греческого «δεμος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род) – наука о популяциях и межпопуляционных взаимоотношениях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нэкология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еского «συν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месте) – экология сообществ и экосист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Методы экологии: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, пр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й анали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Экологические факторы среды</a:t>
            </a:r>
            <a:br>
              <a:rPr sz="28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ые свойства или компоненты окружающей среды, оказывающие влияние на организмы, называют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кологическими факторами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биотические                    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Биотическ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нтропоген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живой природы)             (живой природы)          (воздействие            челове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                        растение-живот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                        хищник-жер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матические                    симбио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4"/>
          <p:cNvSpPr/>
          <p:nvPr/>
        </p:nvSpPr>
        <p:spPr>
          <a:xfrm flipH="1">
            <a:off x="1692000" y="1927080"/>
            <a:ext cx="2879640" cy="1008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5"/>
          <p:cNvSpPr/>
          <p:nvPr/>
        </p:nvSpPr>
        <p:spPr>
          <a:xfrm>
            <a:off x="4572000" y="1989000"/>
            <a:ext cx="144360" cy="9352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572000" y="1989000"/>
            <a:ext cx="2879640" cy="935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Виды воздействия экологических факторов на организмы:</a:t>
            </a:r>
            <a:r>
              <a:rPr b="0" lang="ru-RU" sz="40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816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ражителями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способствуют появлению приспособительных (адаптивных) физиологических и биохимических изменений (зимняя спячка, фотопериодизм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граничителями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яющими географическое распространение организмов из-за невозможности существования в данных услов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дификаторами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е вызывают морфологические и анатомические изменения организм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гнал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ующими об изменениях других факторов среды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-123336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-1017720" y="34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7f4c"/>
                </a:solidFill>
                <a:latin typeface="Times New Roman"/>
                <a:ea typeface="Times New Roman"/>
              </a:rPr>
              <a:t>Действие экологического фактора на организм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uhfabr 'rjkjubxtcrjuj afrnjhf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332000" y="1916280"/>
            <a:ext cx="6553080" cy="44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21:04:41Z</dcterms:created>
  <dc:creator>HOME</dc:creator>
  <dc:description/>
  <dc:language>en-US</dc:language>
  <cp:lastModifiedBy>Пользователь</cp:lastModifiedBy>
  <dcterms:modified xsi:type="dcterms:W3CDTF">2012-12-19T15:10:07Z</dcterms:modified>
  <cp:revision>20</cp:revision>
  <dc:subject/>
  <dc:title>Экология</dc:title>
</cp:coreProperties>
</file>