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510-14CE-4000-B648-68EE8508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2FC-7EC2-4188-9BED-96C5A44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D0D-4AB4-4AC1-BFC8-8D29A4FC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94C-DDB3-49E8-BE64-B0C63198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814-566F-4550-B556-DDAA1C89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EFD-8578-4A16-9069-BFA0AE6F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5DD-DD90-4AAA-959F-B22A5517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92B-1AC8-4F87-ACBA-E7DAD2BB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D53-365B-4965-9BF7-C132E1EF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F04-E481-4D39-B49D-ACFF593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D2E-1FDC-4E2F-8AD1-C421A2C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37E-1086-4C91-AEFD-E2F9776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C78C-A438-490D-80E1-6D4850DF5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7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25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Процессы в растворах:</a:t>
            </a:r>
            <a:br>
              <a:rPr sz="4800"/>
            </a:b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электролитическая диссоциация (ЭД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6300720" cy="51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00"/>
                </a:solidFill>
                <a:latin typeface="Arial"/>
              </a:rPr>
              <a:t>Схема диссоциации полярной молекулы хлороводород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Си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створ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воде практиче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адают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628640"/>
            <a:ext cx="44020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Слабые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адаютс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оны. Их раств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т  ион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спавш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ы, поэт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центрация ио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Сильные 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с ионными или сильно полярными связ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хорошо растворимые соли, сильные кислот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сильные основания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ильные электролиты.wav" descr=""/>
          <p:cNvPicPr/>
          <p:nvPr/>
        </p:nvPicPr>
        <p:blipFill>
          <a:blip r:embed="rId1"/>
          <a:stretch/>
        </p:blipFill>
        <p:spPr>
          <a:xfrm>
            <a:off x="802800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097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Слабые электрол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32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918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Степень диссоци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Степень диссоциации (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шение числа распавшихся на ионы молеку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к общему числу раствор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651640" y="4254480"/>
            <a:ext cx="3492360" cy="260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n331"/>
          <p:cNvPicPr/>
          <p:nvPr/>
        </p:nvPicPr>
        <p:blipFill>
          <a:blip r:embed="rId2"/>
          <a:stretch/>
        </p:blipFill>
        <p:spPr>
          <a:xfrm>
            <a:off x="324000" y="4202280"/>
            <a:ext cx="4968720" cy="1888920"/>
          </a:xfrm>
          <a:prstGeom prst="rect">
            <a:avLst/>
          </a:prstGeom>
          <a:ln w="0">
            <a:noFill/>
          </a:ln>
        </p:spPr>
      </p:pic>
      <p:pic>
        <p:nvPicPr>
          <p:cNvPr id="123" name="степень диссоциации.wav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752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Электролитическая диссоциация веществ, идущая с образованием свободных ионов объясняет электрическую проводимость растворов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  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KAl(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K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Al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3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S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NO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 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ступенчато. На каждой ступени отщепляется один ион водоро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 Cl =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+  Cl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- 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=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п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H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   H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S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  <a:ea typeface="Times New Roman"/>
              </a:rPr>
              <a:t>4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-</a:t>
            </a:r>
            <a:r>
              <a:rPr b="0" lang="ru-RU" sz="2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уп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ри диссоциации образу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тионы водорода и анионы кислот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осн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B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B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a(OH)</a:t>
            </a:r>
            <a:r>
              <a:rPr b="1" lang="en-US" sz="3600" spc="-1" strike="noStrike" baseline="-30000">
                <a:solidFill>
                  <a:srgbClr val="6600cc"/>
                </a:solidFill>
                <a:latin typeface="Arial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a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Times New Roman"/>
              </a:rPr>
              <a:t> + 2O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ри диссоциации образуют катионы металла и анионы - гидроксид-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с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Средние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ли, состоящие из атомов металла и кислотного остатка, диссоциируют в одну сту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aCl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2  </a:t>
            </a:r>
            <a:r>
              <a:rPr b="1" lang="ru-RU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C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36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+ 2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KBr =  K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+ Br</a:t>
            </a:r>
            <a:r>
              <a:rPr b="1" lang="ru-RU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NaCl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=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Na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+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Cl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Диссоциация со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Кислые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ли, в состав молекул которых кроме атомов металла входят атомы водорода, распадаются ступенчато. Сначала отрываются все атомы металла, а затем атомы водорода по-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K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= K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+ 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−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HCO</a:t>
            </a:r>
            <a:r>
              <a:rPr b="1" lang="ru-RU" sz="3600" spc="-1" strike="noStrike" baseline="-30000">
                <a:solidFill>
                  <a:srgbClr val="6600cc"/>
                </a:solidFill>
                <a:latin typeface="Arial"/>
              </a:rPr>
              <a:t>3</a:t>
            </a:r>
            <a:r>
              <a:rPr b="1" lang="ru-RU" sz="3600" spc="-1" strike="noStrike" baseline="30000">
                <a:solidFill>
                  <a:srgbClr val="6600cc"/>
                </a:solidFill>
                <a:latin typeface="Arial"/>
              </a:rPr>
              <a:t>−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H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 + CO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6600cc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Веществ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Электроли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89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Неэлектрол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щества, растворы и расплавы которых не проводят электрический 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Электролиты и неэлектролиты.wav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электропроводность растворов_xvid.avi" descr=""/>
          <p:cNvPicPr/>
          <p:nvPr/>
        </p:nvPicPr>
        <p:blipFill>
          <a:blip r:embed="rId2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25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1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00"/>
                </a:solidFill>
                <a:latin typeface="Arial"/>
              </a:rPr>
              <a:t>Шведский ученый Сванте Аррениус(1859-1927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  <p:pic>
        <p:nvPicPr>
          <p:cNvPr id="137" name="Аррениус.wav" descr=""/>
          <p:cNvPicPr/>
          <p:nvPr/>
        </p:nvPicPr>
        <p:blipFill>
          <a:blip r:embed="rId2"/>
          <a:stretch/>
        </p:blipFill>
        <p:spPr>
          <a:xfrm>
            <a:off x="8028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2974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3311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блуков 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441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4249440" cy="46310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4643280" y="5445000"/>
            <a:ext cx="41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стяковский В.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Электролиты в водной среде (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лавленном состоянии) распада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ложительно заряженные и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атионы) и отрицательно заряж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ны (анионы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Положения ТЭД.wav" descr=""/>
          <p:cNvPicPr/>
          <p:nvPr/>
        </p:nvPicPr>
        <p:blipFill>
          <a:blip r:embed="rId1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2509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NaCl       Na</a:t>
            </a:r>
            <a:r>
              <a:rPr b="1" lang="en-US" sz="3600" spc="-1" strike="noStrike" baseline="30000">
                <a:solidFill>
                  <a:srgbClr val="009999"/>
                </a:solidFill>
                <a:latin typeface="Arial"/>
              </a:rPr>
              <a:t>+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+ Cl</a:t>
            </a:r>
            <a:r>
              <a:rPr b="1" lang="en-US" sz="36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716360" y="5589720"/>
            <a:ext cx="5763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4716360" y="5734080"/>
            <a:ext cx="5032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4178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электролитической диссоциаци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зависит от природ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к общему числу молекул, введенных в раствор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8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Основные положения </a:t>
            </a:r>
            <a:br>
              <a:rPr sz="4400"/>
            </a:b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теории Э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692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Свойства ионов резко отличаются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 нейтральных ато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ющих их элементов. Ионы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ных растворах гидратиров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отличие ионов от молекул_xvid.avi" descr=""/>
          <p:cNvPicPr/>
          <p:nvPr/>
        </p:nvPicPr>
        <p:blipFill>
          <a:blip r:embed="rId1"/>
          <a:stretch/>
        </p:blipFill>
        <p:spPr>
          <a:xfrm>
            <a:off x="7764480" y="5823000"/>
            <a:ext cx="1379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546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3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Источники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1338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lovari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lyceum8.ru/himiya/4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900igr.net/fotografii/khimija/Dissotsiatsija/010-Mekhanizm-dissotsiatsii-veschestv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im.1september.ru/2003/34/7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900igr.net/kartinki/khimija/Povarennaja-sol/059-K-r-i-s-t-a-l-l-y-g-a-l-i-t-a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Неэлектроли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которые содержат ковалентные неполярные или малополярные связи. Эти связи не распадаются на ио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ы, твердые вещества (неметаллы), органические соединения (сахароза, бензин, спирт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00"/>
                </a:solidFill>
                <a:latin typeface="Arial"/>
              </a:rPr>
              <a:t>Благодарю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685691904"/>
          <p:cNvPicPr/>
          <p:nvPr/>
        </p:nvPicPr>
        <p:blipFill>
          <a:blip r:embed="rId1"/>
          <a:stretch/>
        </p:blipFill>
        <p:spPr>
          <a:xfrm>
            <a:off x="3132000" y="1413000"/>
            <a:ext cx="3672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щества, которые содержат ионные и ковалентные полярные связи. Эти связи легко распадаются на и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рганические кислоты, основания,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003640" y="3767040"/>
            <a:ext cx="414036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00424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Электролитическая диссоциа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процесс распада электролита на ионы при растворении его в воде или распл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щества с ионной связ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3673800" cy="3008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408120" cy="3539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539640" y="537372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ет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508720" y="587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диссоциация соли.wav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132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Механизм ЭД </a:t>
            </a:r>
            <a:br>
              <a:rPr sz="4400"/>
            </a:b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ионных вещест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ентация  диполей воды вокруг кристаллов с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между молекулами воды и ионами кристаллов слабых свя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ушение  кристаллической решетки и образование гидратированных ио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4"/>
          <p:cNvSpPr/>
          <p:nvPr/>
        </p:nvSpPr>
        <p:spPr>
          <a:xfrm>
            <a:off x="1116000" y="141300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1908000" y="1413000"/>
            <a:ext cx="7210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87280" y="155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979640" y="162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cz_wody_dipol"/>
          <p:cNvPicPr/>
          <p:nvPr/>
        </p:nvPicPr>
        <p:blipFill>
          <a:blip r:embed="rId1"/>
          <a:stretch/>
        </p:blipFill>
        <p:spPr>
          <a:xfrm>
            <a:off x="1908000" y="220500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z_wody_dipol"/>
          <p:cNvPicPr/>
          <p:nvPr/>
        </p:nvPicPr>
        <p:blipFill>
          <a:blip r:embed="rId2"/>
          <a:stretch/>
        </p:blipFill>
        <p:spPr>
          <a:xfrm rot="19456200">
            <a:off x="2627280" y="197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z_wody_dipol"/>
          <p:cNvPicPr/>
          <p:nvPr/>
        </p:nvPicPr>
        <p:blipFill>
          <a:blip r:embed="rId3"/>
          <a:stretch/>
        </p:blipFill>
        <p:spPr>
          <a:xfrm rot="13458600">
            <a:off x="2700000" y="40428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z_wody_dipol"/>
          <p:cNvPicPr/>
          <p:nvPr/>
        </p:nvPicPr>
        <p:blipFill>
          <a:blip r:embed="rId4"/>
          <a:stretch/>
        </p:blipFill>
        <p:spPr>
          <a:xfrm rot="16478400">
            <a:off x="2950200" y="116064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cz_wody_dipol"/>
          <p:cNvPicPr/>
          <p:nvPr/>
        </p:nvPicPr>
        <p:blipFill>
          <a:blip r:embed="rId5"/>
          <a:stretch/>
        </p:blipFill>
        <p:spPr>
          <a:xfrm rot="10401600">
            <a:off x="1834920" y="260280"/>
            <a:ext cx="506160" cy="11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z_wody_dipol"/>
          <p:cNvPicPr/>
          <p:nvPr/>
        </p:nvPicPr>
        <p:blipFill>
          <a:blip r:embed="rId6"/>
          <a:stretch/>
        </p:blipFill>
        <p:spPr>
          <a:xfrm rot="13795200">
            <a:off x="573480" y="1881360"/>
            <a:ext cx="50652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z_wody_dipol"/>
          <p:cNvPicPr/>
          <p:nvPr/>
        </p:nvPicPr>
        <p:blipFill>
          <a:blip r:embed="rId7"/>
          <a:stretch/>
        </p:blipFill>
        <p:spPr>
          <a:xfrm rot="20142600">
            <a:off x="900000" y="259920"/>
            <a:ext cx="506520" cy="115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cz_wody_dipol"/>
          <p:cNvPicPr/>
          <p:nvPr/>
        </p:nvPicPr>
        <p:blipFill>
          <a:blip r:embed="rId8"/>
          <a:stretch/>
        </p:blipFill>
        <p:spPr>
          <a:xfrm rot="10492800">
            <a:off x="1328400" y="2275920"/>
            <a:ext cx="474480" cy="10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cz_wody_dipol"/>
          <p:cNvPicPr/>
          <p:nvPr/>
        </p:nvPicPr>
        <p:blipFill>
          <a:blip r:embed="rId9"/>
          <a:stretch/>
        </p:blipFill>
        <p:spPr>
          <a:xfrm rot="17552400">
            <a:off x="322920" y="802080"/>
            <a:ext cx="506520" cy="1152360"/>
          </a:xfrm>
          <a:prstGeom prst="rect">
            <a:avLst/>
          </a:prstGeom>
          <a:ln w="0">
            <a:noFill/>
          </a:ln>
        </p:spPr>
      </p:pic>
      <p:sp>
        <p:nvSpPr>
          <p:cNvPr id="74" name="Line 17"/>
          <p:cNvSpPr/>
          <p:nvPr/>
        </p:nvSpPr>
        <p:spPr>
          <a:xfrm>
            <a:off x="3635280" y="1989000"/>
            <a:ext cx="936720" cy="144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5651640" y="177336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724360" y="19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cz_wody_dipol"/>
          <p:cNvPicPr/>
          <p:nvPr/>
        </p:nvPicPr>
        <p:blipFill>
          <a:blip r:embed="rId10"/>
          <a:stretch/>
        </p:blipFill>
        <p:spPr>
          <a:xfrm>
            <a:off x="5867280" y="692280"/>
            <a:ext cx="443160" cy="100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cz_wody_dipol"/>
          <p:cNvPicPr/>
          <p:nvPr/>
        </p:nvPicPr>
        <p:blipFill>
          <a:blip r:embed="rId11"/>
          <a:stretch/>
        </p:blipFill>
        <p:spPr>
          <a:xfrm rot="13921200">
            <a:off x="4893840" y="202680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cz_wody_dipol"/>
          <p:cNvPicPr/>
          <p:nvPr/>
        </p:nvPicPr>
        <p:blipFill>
          <a:blip r:embed="rId12"/>
          <a:stretch/>
        </p:blipFill>
        <p:spPr>
          <a:xfrm rot="18654000">
            <a:off x="5038560" y="94572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cz_wody_dipol"/>
          <p:cNvPicPr/>
          <p:nvPr/>
        </p:nvPicPr>
        <p:blipFill>
          <a:blip r:embed="rId13"/>
          <a:stretch/>
        </p:blipFill>
        <p:spPr>
          <a:xfrm rot="10610400">
            <a:off x="5866560" y="249192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Oval 25"/>
          <p:cNvSpPr/>
          <p:nvPr/>
        </p:nvSpPr>
        <p:spPr>
          <a:xfrm>
            <a:off x="6804000" y="1773360"/>
            <a:ext cx="720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687708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cz_wody_dipol"/>
          <p:cNvPicPr/>
          <p:nvPr/>
        </p:nvPicPr>
        <p:blipFill>
          <a:blip r:embed="rId14"/>
          <a:stretch/>
        </p:blipFill>
        <p:spPr>
          <a:xfrm rot="18454200">
            <a:off x="7740720" y="1989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cz_wody_dipol"/>
          <p:cNvPicPr/>
          <p:nvPr/>
        </p:nvPicPr>
        <p:blipFill>
          <a:blip r:embed="rId15"/>
          <a:stretch/>
        </p:blipFill>
        <p:spPr>
          <a:xfrm rot="21172800">
            <a:off x="7092720" y="256500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9" descr="cz_wody_dipol"/>
          <p:cNvPicPr/>
          <p:nvPr/>
        </p:nvPicPr>
        <p:blipFill>
          <a:blip r:embed="rId16"/>
          <a:stretch/>
        </p:blipFill>
        <p:spPr>
          <a:xfrm rot="12843000">
            <a:off x="7524360" y="836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0" descr="cz_wody_dipol"/>
          <p:cNvPicPr/>
          <p:nvPr/>
        </p:nvPicPr>
        <p:blipFill>
          <a:blip r:embed="rId17"/>
          <a:stretch/>
        </p:blipFill>
        <p:spPr>
          <a:xfrm rot="10610400">
            <a:off x="6803280" y="62028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Line 31"/>
          <p:cNvSpPr/>
          <p:nvPr/>
        </p:nvSpPr>
        <p:spPr>
          <a:xfrm flipH="1">
            <a:off x="4284360" y="3068640"/>
            <a:ext cx="934920" cy="93672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2"/>
          <p:cNvSpPr/>
          <p:nvPr/>
        </p:nvSpPr>
        <p:spPr>
          <a:xfrm>
            <a:off x="6877080" y="3357720"/>
            <a:ext cx="0" cy="647640"/>
          </a:xfrm>
          <a:prstGeom prst="line">
            <a:avLst/>
          </a:prstGeom>
          <a:ln w="82440">
            <a:solidFill>
              <a:srgbClr val="3333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3"/>
          <p:cNvSpPr/>
          <p:nvPr/>
        </p:nvSpPr>
        <p:spPr>
          <a:xfrm>
            <a:off x="2700360" y="4797360"/>
            <a:ext cx="720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4"/>
          <p:cNvSpPr/>
          <p:nvPr/>
        </p:nvSpPr>
        <p:spPr>
          <a:xfrm>
            <a:off x="2771640" y="50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5" descr="cz_wody_dipol"/>
          <p:cNvPicPr/>
          <p:nvPr/>
        </p:nvPicPr>
        <p:blipFill>
          <a:blip r:embed="rId18"/>
          <a:stretch/>
        </p:blipFill>
        <p:spPr>
          <a:xfrm rot="12173400">
            <a:off x="2410920" y="54446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6" descr="cz_wody_dipol"/>
          <p:cNvPicPr/>
          <p:nvPr/>
        </p:nvPicPr>
        <p:blipFill>
          <a:blip r:embed="rId19"/>
          <a:stretch/>
        </p:blipFill>
        <p:spPr>
          <a:xfrm rot="20915400">
            <a:off x="2627280" y="3573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7" descr="cz_wody_dipol"/>
          <p:cNvPicPr/>
          <p:nvPr/>
        </p:nvPicPr>
        <p:blipFill>
          <a:blip r:embed="rId20"/>
          <a:stretch/>
        </p:blipFill>
        <p:spPr>
          <a:xfrm rot="7428000">
            <a:off x="3669480" y="5122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8" descr="cz_wody_dipol"/>
          <p:cNvPicPr/>
          <p:nvPr/>
        </p:nvPicPr>
        <p:blipFill>
          <a:blip r:embed="rId21"/>
          <a:stretch/>
        </p:blipFill>
        <p:spPr>
          <a:xfrm rot="2473800">
            <a:off x="3492360" y="378936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9" descr="cz_wody_dipol"/>
          <p:cNvPicPr/>
          <p:nvPr/>
        </p:nvPicPr>
        <p:blipFill>
          <a:blip r:embed="rId22"/>
          <a:stretch/>
        </p:blipFill>
        <p:spPr>
          <a:xfrm rot="17331600">
            <a:off x="1798560" y="4258800"/>
            <a:ext cx="506520" cy="1150920"/>
          </a:xfrm>
          <a:prstGeom prst="rect">
            <a:avLst/>
          </a:prstGeom>
          <a:ln w="0">
            <a:noFill/>
          </a:ln>
        </p:spPr>
      </p:pic>
      <p:sp>
        <p:nvSpPr>
          <p:cNvPr id="96" name="Oval 40"/>
          <p:cNvSpPr/>
          <p:nvPr/>
        </p:nvSpPr>
        <p:spPr>
          <a:xfrm>
            <a:off x="6588000" y="5013360"/>
            <a:ext cx="72072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6659640" y="5229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2" descr="cz_wody_dipol"/>
          <p:cNvPicPr/>
          <p:nvPr/>
        </p:nvPicPr>
        <p:blipFill>
          <a:blip r:embed="rId23"/>
          <a:stretch/>
        </p:blipFill>
        <p:spPr>
          <a:xfrm rot="11200200">
            <a:off x="6803640" y="386028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3" descr="cz_wody_dipol"/>
          <p:cNvPicPr/>
          <p:nvPr/>
        </p:nvPicPr>
        <p:blipFill>
          <a:blip r:embed="rId24"/>
          <a:stretch/>
        </p:blipFill>
        <p:spPr>
          <a:xfrm rot="4032000">
            <a:off x="5686560" y="5193720"/>
            <a:ext cx="506160" cy="115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4" descr="cz_wody_dipol"/>
          <p:cNvPicPr/>
          <p:nvPr/>
        </p:nvPicPr>
        <p:blipFill>
          <a:blip r:embed="rId25"/>
          <a:stretch/>
        </p:blipFill>
        <p:spPr>
          <a:xfrm rot="7872600">
            <a:off x="5901480" y="4114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5" descr="cz_wody_dipol"/>
          <p:cNvPicPr/>
          <p:nvPr/>
        </p:nvPicPr>
        <p:blipFill>
          <a:blip r:embed="rId26"/>
          <a:stretch/>
        </p:blipFill>
        <p:spPr>
          <a:xfrm rot="14474400">
            <a:off x="7630920" y="4186080"/>
            <a:ext cx="506160" cy="115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6" descr="cz_wody_dipol"/>
          <p:cNvPicPr/>
          <p:nvPr/>
        </p:nvPicPr>
        <p:blipFill>
          <a:blip r:embed="rId27"/>
          <a:stretch/>
        </p:blipFill>
        <p:spPr>
          <a:xfrm rot="18454200">
            <a:off x="7558200" y="5338440"/>
            <a:ext cx="506520" cy="115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7" descr="cz_wody_dipol"/>
          <p:cNvPicPr/>
          <p:nvPr/>
        </p:nvPicPr>
        <p:blipFill>
          <a:blip r:embed="rId28"/>
          <a:stretch/>
        </p:blipFill>
        <p:spPr>
          <a:xfrm rot="520200">
            <a:off x="6587640" y="5706720"/>
            <a:ext cx="5065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Механизм ЭД</a:t>
            </a:r>
            <a:br>
              <a:rPr sz="4400"/>
            </a:br>
            <a:r>
              <a:rPr b="1" lang="en-US" sz="4400" spc="-1" strike="noStrike">
                <a:solidFill>
                  <a:srgbClr val="669900"/>
                </a:solidFill>
                <a:latin typeface="Arial"/>
              </a:rPr>
              <a:t> полярны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иентация диполей воды вокруг полярной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большая поляризация полярной молекулы и превращение полярной связи ее в ион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свободных гидратирован-ных и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диссоциация кислот.wav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157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7:41:11Z</dcterms:created>
  <dc:creator>Зорина И.Г</dc:creator>
  <dc:description/>
  <dc:language>en-US</dc:language>
  <cp:lastModifiedBy>Home</cp:lastModifiedBy>
  <dcterms:modified xsi:type="dcterms:W3CDTF">2012-12-19T17:18:05Z</dcterms:modified>
  <cp:revision>26</cp:revision>
  <dc:subject/>
  <dc:title>ЭДС</dc:title>
</cp:coreProperties>
</file>