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gif" ContentType="image/gif"/>
  <Override PartName="/ppt/media/image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105-41C0-4CF4-823D-157D5315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B0C-37A4-4845-9A23-F2D7122F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57C-C41E-4451-AA25-A8A36736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FB4-4A3D-4E78-AD3F-FB5CC91A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DB0D-A50C-44A3-BDBA-8351AD70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B3A2-5642-4234-B77F-2A4ED688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0AD-3C92-4762-9314-3DE54D38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DD1-C05F-4DB6-AE37-FDAD5A93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3B1-4AA3-4DC3-BAE7-70EB9379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8A1-93D3-4CAA-848F-8C78CC0D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573-25CA-4518-9C5C-6EA5E0AF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EBE-EF97-40A4-BCD0-E1F67C93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4109-ADB4-4FEF-8AF9-7AA36589BB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7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7.jpeg"/><Relationship Id="rId27" Type="http://schemas.openxmlformats.org/officeDocument/2006/relationships/image" Target="../media/image7.jpeg"/><Relationship Id="rId28" Type="http://schemas.openxmlformats.org/officeDocument/2006/relationships/image" Target="../media/image7.jpeg"/><Relationship Id="rId2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3840" cy="25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Процессы в растворах:</a:t>
            </a:r>
            <a:br>
              <a:rPr sz="4800"/>
            </a:b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электролитическая диссоциация (ЭД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6300720" cy="5157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Схема диссоциации полярной молекулы хлороводород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Электроли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Си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створ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воде практичес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адаютс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о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7640" y="1628640"/>
            <a:ext cx="4402080" cy="45259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Слабые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ич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адаютс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оны. Их раств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т  ионы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спавшие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екулы, поэт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центрация ио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3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Сильные электроли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а с ионными или сильно полярными связ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хорошо растворимые соли, сильные кислоты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 сильные основания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b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ильные электролиты.wav" descr=""/>
          <p:cNvPicPr/>
          <p:nvPr/>
        </p:nvPicPr>
        <p:blipFill>
          <a:blip r:embed="rId1"/>
          <a:stretch/>
        </p:blipFill>
        <p:spPr>
          <a:xfrm>
            <a:off x="8028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097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Слабые электрол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 с неполярными и малополярными связя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почти все органические кислоты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H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H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некоторые неорганические кислоты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почти все малорастворимые в воде соли, основания и гидроксид аммония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H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918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Степень диссоци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Степень диссоциации (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ношение числа распавшихся на ионы молекул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к общему числу растворенных молекул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: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651640" y="4254480"/>
            <a:ext cx="3492360" cy="2603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n331"/>
          <p:cNvPicPr/>
          <p:nvPr/>
        </p:nvPicPr>
        <p:blipFill>
          <a:blip r:embed="rId2"/>
          <a:stretch/>
        </p:blipFill>
        <p:spPr>
          <a:xfrm>
            <a:off x="324000" y="4202280"/>
            <a:ext cx="4968720" cy="1888920"/>
          </a:xfrm>
          <a:prstGeom prst="rect">
            <a:avLst/>
          </a:prstGeom>
          <a:ln w="0">
            <a:noFill/>
          </a:ln>
        </p:spPr>
      </p:pic>
      <p:pic>
        <p:nvPicPr>
          <p:cNvPr id="123" name="степень диссоциации.wav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17528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Электролитическая диссоциация веществ, идущая с образованием свободных ионов объясняет электрическую проводимость растворов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CaCl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2  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Ca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2+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+ 2Cl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KAl(SO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)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K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+ Al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3+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+ 2SO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4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HNO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+ NO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3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Ba(OH)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2 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Ba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2+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+ 2O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Диссоциация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ступенчато. На каждой ступени отщепляется один ион водоро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H Cl =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H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+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 +  Cl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- 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H</a:t>
            </a:r>
            <a:r>
              <a:rPr b="1" lang="ru-RU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S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Arial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 =  H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HS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Arial"/>
                <a:ea typeface="Times New Roman"/>
              </a:rPr>
              <a:t>4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упе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HS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Arial"/>
                <a:ea typeface="Times New Roman"/>
              </a:rPr>
              <a:t>4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-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  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=   H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S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Arial"/>
                <a:ea typeface="Times New Roman"/>
              </a:rPr>
              <a:t>4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2-</a:t>
            </a:r>
            <a:r>
              <a:rPr b="0" lang="ru-RU" sz="2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упе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Кисл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при диссоциации образу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тионы водорода и анионы кислот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ат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Диссоциация осно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Ba(OH)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Ba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2+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+ 2O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С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a(OH)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С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a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2+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+ 2O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Осно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при диссоциации образуют катионы металла и анионы - гидроксид-ио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Диссоциация со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39895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Средние со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ли, состоящие из атомов металла и кислотного остатка, диссоциируют в одну ступ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CaCl</a:t>
            </a:r>
            <a:r>
              <a:rPr b="1" lang="en-US" sz="36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2  </a:t>
            </a:r>
            <a:r>
              <a:rPr b="1" lang="ru-RU" sz="36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Ca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36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+ 2Cl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KBr =  K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+ Br</a:t>
            </a:r>
            <a:r>
              <a:rPr b="1" lang="ru-RU" sz="36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NaCl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=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Na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Cl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Диссоциация со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Кислые со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ли, в состав молекул которых кроме атомов металла входят атомы водорода, распадаются ступенчато. Сначала отрываются все атомы металла, а затем атомы водорода по-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KHCO</a:t>
            </a:r>
            <a:r>
              <a:rPr b="1" lang="ru-RU" sz="3600" spc="-1" strike="noStrike" baseline="-30000">
                <a:solidFill>
                  <a:srgbClr val="6600cc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 = K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</a:rPr>
              <a:t>+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 + HCO</a:t>
            </a:r>
            <a:r>
              <a:rPr b="1" lang="ru-RU" sz="3600" spc="-1" strike="noStrike" baseline="-30000">
                <a:solidFill>
                  <a:srgbClr val="6600cc"/>
                </a:solidFill>
                <a:latin typeface="Arial"/>
              </a:rPr>
              <a:t>3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</a:rPr>
              <a:t>−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HCO</a:t>
            </a:r>
            <a:r>
              <a:rPr b="1" lang="ru-RU" sz="3600" spc="-1" strike="noStrike" baseline="-30000">
                <a:solidFill>
                  <a:srgbClr val="6600cc"/>
                </a:solidFill>
                <a:latin typeface="Arial"/>
              </a:rPr>
              <a:t>3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</a:rPr>
              <a:t>−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 + C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Веществ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9895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Электрол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щества, растворы и расплавы которых не проводят электрический 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9895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Неэлектрол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щества, растворы и расплавы которых не проводят электрический 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Электролиты и неэлектролиты.wav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электропроводность растворов_xvid.avi" descr=""/>
          <p:cNvPicPr/>
          <p:nvPr/>
        </p:nvPicPr>
        <p:blipFill>
          <a:blip r:embed="rId2"/>
          <a:stretch/>
        </p:blipFill>
        <p:spPr>
          <a:xfrm>
            <a:off x="7764480" y="5823000"/>
            <a:ext cx="1379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252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19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00"/>
                </a:solidFill>
                <a:latin typeface="Arial"/>
              </a:rPr>
              <a:t>Шведский ученый Сванте Аррениус(1859-1927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751280" cy="45259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887 году создал теорию Э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03году был удостоен Нобелевской прем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За чрезвычайные заслуги в развитии химии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5624640" y="1700280"/>
            <a:ext cx="3124080" cy="4392720"/>
          </a:xfrm>
          <a:prstGeom prst="rect">
            <a:avLst/>
          </a:prstGeom>
          <a:ln w="0">
            <a:noFill/>
          </a:ln>
        </p:spPr>
      </p:pic>
      <p:pic>
        <p:nvPicPr>
          <p:cNvPr id="137" name="Аррениус.wav" descr=""/>
          <p:cNvPicPr/>
          <p:nvPr/>
        </p:nvPicPr>
        <p:blipFill>
          <a:blip r:embed="rId2"/>
          <a:stretch/>
        </p:blipFill>
        <p:spPr>
          <a:xfrm>
            <a:off x="802800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2974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33112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блуков 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Каблуков"/>
          <p:cNvPicPr/>
          <p:nvPr/>
        </p:nvPicPr>
        <p:blipFill>
          <a:blip r:embed="rId1"/>
          <a:stretch/>
        </p:blipFill>
        <p:spPr>
          <a:xfrm>
            <a:off x="250920" y="260280"/>
            <a:ext cx="3397320" cy="4411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Кистяковский"/>
          <p:cNvPicPr/>
          <p:nvPr/>
        </p:nvPicPr>
        <p:blipFill>
          <a:blip r:embed="rId2"/>
          <a:stretch/>
        </p:blipFill>
        <p:spPr>
          <a:xfrm>
            <a:off x="4500720" y="404640"/>
            <a:ext cx="4249440" cy="46310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4643280" y="5445000"/>
            <a:ext cx="41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истяковский В.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е химики И.А.Каблуков и В.А.Кистяковский применили к объяснению электролитической диссоциации химическую теорию растворов Д.И.Менделеева и доказали, что при растворении электролита происходит химическое взаимодействие растворенного вещества с водой, которое приводит к образованию гидратов, а затем они диссоциируют на ио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Основные положения </a:t>
            </a:r>
            <a:br>
              <a:rPr sz="4400"/>
            </a:b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теории Э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240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Электролиты в водной среде (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лавленном состоянии) распад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оложительно заряженные ио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атионы) и отрицательно заряж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оны (анионы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Положения ТЭД.wav" descr=""/>
          <p:cNvPicPr/>
          <p:nvPr/>
        </p:nvPicPr>
        <p:blipFill>
          <a:blip r:embed="rId1"/>
          <a:stretch/>
        </p:blipFill>
        <p:spPr>
          <a:xfrm>
            <a:off x="824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2509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Основные положения </a:t>
            </a:r>
            <a:br>
              <a:rPr sz="4400"/>
            </a:b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теории Э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2420640"/>
            <a:ext cx="8373960" cy="3816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Беспорядочное движение ионов в растворе под действием электрического поля становится направленным: положительно заряженные ионы (катионы) движутся к электроду с отрицательным зарядом (катоду), а анионы – к ано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Основные положения </a:t>
            </a:r>
            <a:br>
              <a:rPr sz="4400"/>
            </a:b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теории Э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Диссоциация – обратимый процесс: параллельно с распадом молекул на ионы (диссоциацией) протекает процесс соединения ионов (ассоциация). Поэтому в уравнениях электролитической диссоциации вместо знака равенства ставят знак обратимости.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NaCl       Na</a:t>
            </a:r>
            <a:r>
              <a:rPr b="1" lang="en-US" sz="3600" spc="-1" strike="noStrike" baseline="30000">
                <a:solidFill>
                  <a:srgbClr val="009999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+ Cl</a:t>
            </a:r>
            <a:r>
              <a:rPr b="1" lang="en-US" sz="3600" spc="-1" strike="noStrike" baseline="30000">
                <a:solidFill>
                  <a:srgbClr val="009999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4716360" y="5589720"/>
            <a:ext cx="5763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 flipH="1">
            <a:off x="4716360" y="5734080"/>
            <a:ext cx="5032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4178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ь электролитической диссоциации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зависит от природ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лита и растворителя, температуры и концентрации. Она показывает отношение числа молекул, распавшихся на ионы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к общему числу молекул, введенных в раствор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18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Основные положения </a:t>
            </a:r>
            <a:br>
              <a:rPr sz="4400"/>
            </a:b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теории Э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Основные положения </a:t>
            </a:r>
            <a:br>
              <a:rPr sz="4400"/>
            </a:b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теории Э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2692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Свойства ионов резко отличаются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 нейтральных атом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яющих их элементов. Ионы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ных растворах гидратиров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отличие ионов от молекул_xvid.avi" descr=""/>
          <p:cNvPicPr/>
          <p:nvPr/>
        </p:nvPicPr>
        <p:blipFill>
          <a:blip r:embed="rId1"/>
          <a:stretch/>
        </p:blipFill>
        <p:spPr>
          <a:xfrm>
            <a:off x="7764480" y="5823000"/>
            <a:ext cx="1379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546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3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Источники информ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1338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slovari.yandex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lyceum8.ru/himiya/4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900igr.net/fotografii/khimija/Dissotsiatsija/010-Mekhanizm-dissotsiatsii-veschestv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im.1september.ru/2003/34/7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900igr.net/kartinki/khimija/Povarennaja-sol/059-K-r-i-s-t-a-l-l-y-g-a-l-i-t-a.htm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Неэлектроли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щества, которые содержат ковалентные неполярные или малополярные связи. Эти связи не распадаются на ио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зы, твердые вещества (неметаллы), органические соединения (сахароза, бензин, спирт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Благодарю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685691904"/>
          <p:cNvPicPr/>
          <p:nvPr/>
        </p:nvPicPr>
        <p:blipFill>
          <a:blip r:embed="rId1"/>
          <a:stretch/>
        </p:blipFill>
        <p:spPr>
          <a:xfrm>
            <a:off x="3132000" y="1413000"/>
            <a:ext cx="367200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Электроли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щества, которые содержат ионные и ковалентные полярные связи. Эти связи легко распадаются на и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органические кислоты, основания, с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5003640" y="3767040"/>
            <a:ext cx="414036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0424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Электролитическая диссоциац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процесс распада электролита на ионы при растворении его в воде или расплавл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щества с ионной связ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3673800" cy="3008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408120" cy="3539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539640" y="5373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сталлическая решет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508720" y="5877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сталл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диссоциация соли.wav" descr=""/>
          <p:cNvPicPr/>
          <p:nvPr/>
        </p:nvPicPr>
        <p:blipFill>
          <a:blip r:embed="rId3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132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Механизм ЭД </a:t>
            </a:r>
            <a:br>
              <a:rPr sz="4400"/>
            </a:b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ионных вещест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иентация  диполей воды вокруг кристаллов с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между молекулами воды и ионами кристаллов слабых свя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ушение  кристаллической решетки и образование гидратированных ио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4"/>
          <p:cNvSpPr/>
          <p:nvPr/>
        </p:nvSpPr>
        <p:spPr>
          <a:xfrm>
            <a:off x="1116000" y="1413000"/>
            <a:ext cx="720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1908000" y="1413000"/>
            <a:ext cx="7210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187280" y="1557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979640" y="162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cz_wody_dipol"/>
          <p:cNvPicPr/>
          <p:nvPr/>
        </p:nvPicPr>
        <p:blipFill>
          <a:blip r:embed="rId1"/>
          <a:stretch/>
        </p:blipFill>
        <p:spPr>
          <a:xfrm>
            <a:off x="1908000" y="2205000"/>
            <a:ext cx="443160" cy="100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z_wody_dipol"/>
          <p:cNvPicPr/>
          <p:nvPr/>
        </p:nvPicPr>
        <p:blipFill>
          <a:blip r:embed="rId2"/>
          <a:stretch/>
        </p:blipFill>
        <p:spPr>
          <a:xfrm rot="19456200">
            <a:off x="2627280" y="1971360"/>
            <a:ext cx="506520" cy="115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z_wody_dipol"/>
          <p:cNvPicPr/>
          <p:nvPr/>
        </p:nvPicPr>
        <p:blipFill>
          <a:blip r:embed="rId3"/>
          <a:stretch/>
        </p:blipFill>
        <p:spPr>
          <a:xfrm rot="13458600">
            <a:off x="2700000" y="404280"/>
            <a:ext cx="506520" cy="115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cz_wody_dipol"/>
          <p:cNvPicPr/>
          <p:nvPr/>
        </p:nvPicPr>
        <p:blipFill>
          <a:blip r:embed="rId4"/>
          <a:stretch/>
        </p:blipFill>
        <p:spPr>
          <a:xfrm rot="16478400">
            <a:off x="2950200" y="1160640"/>
            <a:ext cx="506520" cy="115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cz_wody_dipol"/>
          <p:cNvPicPr/>
          <p:nvPr/>
        </p:nvPicPr>
        <p:blipFill>
          <a:blip r:embed="rId5"/>
          <a:stretch/>
        </p:blipFill>
        <p:spPr>
          <a:xfrm rot="10401600">
            <a:off x="1834920" y="260280"/>
            <a:ext cx="506160" cy="115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cz_wody_dipol"/>
          <p:cNvPicPr/>
          <p:nvPr/>
        </p:nvPicPr>
        <p:blipFill>
          <a:blip r:embed="rId6"/>
          <a:stretch/>
        </p:blipFill>
        <p:spPr>
          <a:xfrm rot="13795200">
            <a:off x="573480" y="1881360"/>
            <a:ext cx="506520" cy="115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cz_wody_dipol"/>
          <p:cNvPicPr/>
          <p:nvPr/>
        </p:nvPicPr>
        <p:blipFill>
          <a:blip r:embed="rId7"/>
          <a:stretch/>
        </p:blipFill>
        <p:spPr>
          <a:xfrm rot="20142600">
            <a:off x="900000" y="259920"/>
            <a:ext cx="506520" cy="115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cz_wody_dipol"/>
          <p:cNvPicPr/>
          <p:nvPr/>
        </p:nvPicPr>
        <p:blipFill>
          <a:blip r:embed="rId8"/>
          <a:stretch/>
        </p:blipFill>
        <p:spPr>
          <a:xfrm rot="10492800">
            <a:off x="1328400" y="2275920"/>
            <a:ext cx="474480" cy="1081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cz_wody_dipol"/>
          <p:cNvPicPr/>
          <p:nvPr/>
        </p:nvPicPr>
        <p:blipFill>
          <a:blip r:embed="rId9"/>
          <a:stretch/>
        </p:blipFill>
        <p:spPr>
          <a:xfrm rot="17552400">
            <a:off x="322920" y="802080"/>
            <a:ext cx="506520" cy="1152360"/>
          </a:xfrm>
          <a:prstGeom prst="rect">
            <a:avLst/>
          </a:prstGeom>
          <a:ln w="0">
            <a:noFill/>
          </a:ln>
        </p:spPr>
      </p:pic>
      <p:sp>
        <p:nvSpPr>
          <p:cNvPr id="74" name="Line 17"/>
          <p:cNvSpPr/>
          <p:nvPr/>
        </p:nvSpPr>
        <p:spPr>
          <a:xfrm>
            <a:off x="3635280" y="1989000"/>
            <a:ext cx="936720" cy="144720"/>
          </a:xfrm>
          <a:prstGeom prst="line">
            <a:avLst/>
          </a:prstGeom>
          <a:ln w="8244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8"/>
          <p:cNvSpPr/>
          <p:nvPr/>
        </p:nvSpPr>
        <p:spPr>
          <a:xfrm>
            <a:off x="5651640" y="1773360"/>
            <a:ext cx="720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724360" y="19162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2" descr="cz_wody_dipol"/>
          <p:cNvPicPr/>
          <p:nvPr/>
        </p:nvPicPr>
        <p:blipFill>
          <a:blip r:embed="rId10"/>
          <a:stretch/>
        </p:blipFill>
        <p:spPr>
          <a:xfrm>
            <a:off x="5867280" y="692280"/>
            <a:ext cx="443160" cy="100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3" descr="cz_wody_dipol"/>
          <p:cNvPicPr/>
          <p:nvPr/>
        </p:nvPicPr>
        <p:blipFill>
          <a:blip r:embed="rId11"/>
          <a:stretch/>
        </p:blipFill>
        <p:spPr>
          <a:xfrm rot="13921200">
            <a:off x="4893840" y="202680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cz_wody_dipol"/>
          <p:cNvPicPr/>
          <p:nvPr/>
        </p:nvPicPr>
        <p:blipFill>
          <a:blip r:embed="rId12"/>
          <a:stretch/>
        </p:blipFill>
        <p:spPr>
          <a:xfrm rot="18654000">
            <a:off x="5038560" y="94572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cz_wody_dipol"/>
          <p:cNvPicPr/>
          <p:nvPr/>
        </p:nvPicPr>
        <p:blipFill>
          <a:blip r:embed="rId13"/>
          <a:stretch/>
        </p:blipFill>
        <p:spPr>
          <a:xfrm rot="10610400">
            <a:off x="5866560" y="2491920"/>
            <a:ext cx="506520" cy="1150920"/>
          </a:xfrm>
          <a:prstGeom prst="rect">
            <a:avLst/>
          </a:prstGeom>
          <a:ln w="0">
            <a:noFill/>
          </a:ln>
        </p:spPr>
      </p:pic>
      <p:sp>
        <p:nvSpPr>
          <p:cNvPr id="81" name="Oval 25"/>
          <p:cNvSpPr/>
          <p:nvPr/>
        </p:nvSpPr>
        <p:spPr>
          <a:xfrm>
            <a:off x="6804000" y="1773360"/>
            <a:ext cx="720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6877080" y="19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7" descr="cz_wody_dipol"/>
          <p:cNvPicPr/>
          <p:nvPr/>
        </p:nvPicPr>
        <p:blipFill>
          <a:blip r:embed="rId14"/>
          <a:stretch/>
        </p:blipFill>
        <p:spPr>
          <a:xfrm rot="18454200">
            <a:off x="7740720" y="1989000"/>
            <a:ext cx="506160" cy="115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8" descr="cz_wody_dipol"/>
          <p:cNvPicPr/>
          <p:nvPr/>
        </p:nvPicPr>
        <p:blipFill>
          <a:blip r:embed="rId15"/>
          <a:stretch/>
        </p:blipFill>
        <p:spPr>
          <a:xfrm rot="21172800">
            <a:off x="7092720" y="2565000"/>
            <a:ext cx="506160" cy="115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9" descr="cz_wody_dipol"/>
          <p:cNvPicPr/>
          <p:nvPr/>
        </p:nvPicPr>
        <p:blipFill>
          <a:blip r:embed="rId16"/>
          <a:stretch/>
        </p:blipFill>
        <p:spPr>
          <a:xfrm rot="12843000">
            <a:off x="7524360" y="83628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0" descr="cz_wody_dipol"/>
          <p:cNvPicPr/>
          <p:nvPr/>
        </p:nvPicPr>
        <p:blipFill>
          <a:blip r:embed="rId17"/>
          <a:stretch/>
        </p:blipFill>
        <p:spPr>
          <a:xfrm rot="10610400">
            <a:off x="6803280" y="620280"/>
            <a:ext cx="506520" cy="1150920"/>
          </a:xfrm>
          <a:prstGeom prst="rect">
            <a:avLst/>
          </a:prstGeom>
          <a:ln w="0">
            <a:noFill/>
          </a:ln>
        </p:spPr>
      </p:pic>
      <p:sp>
        <p:nvSpPr>
          <p:cNvPr id="87" name="Line 31"/>
          <p:cNvSpPr/>
          <p:nvPr/>
        </p:nvSpPr>
        <p:spPr>
          <a:xfrm flipH="1">
            <a:off x="4284360" y="3068640"/>
            <a:ext cx="934920" cy="936720"/>
          </a:xfrm>
          <a:prstGeom prst="line">
            <a:avLst/>
          </a:prstGeom>
          <a:ln w="8244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>
            <a:off x="6877080" y="3357720"/>
            <a:ext cx="0" cy="647640"/>
          </a:xfrm>
          <a:prstGeom prst="line">
            <a:avLst/>
          </a:prstGeom>
          <a:ln w="8244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3"/>
          <p:cNvSpPr/>
          <p:nvPr/>
        </p:nvSpPr>
        <p:spPr>
          <a:xfrm>
            <a:off x="2700360" y="4797360"/>
            <a:ext cx="720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4"/>
          <p:cNvSpPr/>
          <p:nvPr/>
        </p:nvSpPr>
        <p:spPr>
          <a:xfrm>
            <a:off x="2771640" y="5013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5" descr="cz_wody_dipol"/>
          <p:cNvPicPr/>
          <p:nvPr/>
        </p:nvPicPr>
        <p:blipFill>
          <a:blip r:embed="rId18"/>
          <a:stretch/>
        </p:blipFill>
        <p:spPr>
          <a:xfrm rot="12173400">
            <a:off x="2410920" y="544464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6" descr="cz_wody_dipol"/>
          <p:cNvPicPr/>
          <p:nvPr/>
        </p:nvPicPr>
        <p:blipFill>
          <a:blip r:embed="rId19"/>
          <a:stretch/>
        </p:blipFill>
        <p:spPr>
          <a:xfrm rot="20915400">
            <a:off x="2627280" y="357336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7" descr="cz_wody_dipol"/>
          <p:cNvPicPr/>
          <p:nvPr/>
        </p:nvPicPr>
        <p:blipFill>
          <a:blip r:embed="rId20"/>
          <a:stretch/>
        </p:blipFill>
        <p:spPr>
          <a:xfrm rot="7428000">
            <a:off x="3669480" y="512244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8" descr="cz_wody_dipol"/>
          <p:cNvPicPr/>
          <p:nvPr/>
        </p:nvPicPr>
        <p:blipFill>
          <a:blip r:embed="rId21"/>
          <a:stretch/>
        </p:blipFill>
        <p:spPr>
          <a:xfrm rot="2473800">
            <a:off x="3492360" y="378936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9" descr="cz_wody_dipol"/>
          <p:cNvPicPr/>
          <p:nvPr/>
        </p:nvPicPr>
        <p:blipFill>
          <a:blip r:embed="rId22"/>
          <a:stretch/>
        </p:blipFill>
        <p:spPr>
          <a:xfrm rot="17331600">
            <a:off x="1798560" y="4258800"/>
            <a:ext cx="506520" cy="1150920"/>
          </a:xfrm>
          <a:prstGeom prst="rect">
            <a:avLst/>
          </a:prstGeom>
          <a:ln w="0">
            <a:noFill/>
          </a:ln>
        </p:spPr>
      </p:pic>
      <p:sp>
        <p:nvSpPr>
          <p:cNvPr id="96" name="Oval 40"/>
          <p:cNvSpPr/>
          <p:nvPr/>
        </p:nvSpPr>
        <p:spPr>
          <a:xfrm>
            <a:off x="6588000" y="5013360"/>
            <a:ext cx="720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1"/>
          <p:cNvSpPr/>
          <p:nvPr/>
        </p:nvSpPr>
        <p:spPr>
          <a:xfrm>
            <a:off x="6659640" y="5229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2" descr="cz_wody_dipol"/>
          <p:cNvPicPr/>
          <p:nvPr/>
        </p:nvPicPr>
        <p:blipFill>
          <a:blip r:embed="rId23"/>
          <a:stretch/>
        </p:blipFill>
        <p:spPr>
          <a:xfrm rot="11200200">
            <a:off x="6803640" y="386028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3" descr="cz_wody_dipol"/>
          <p:cNvPicPr/>
          <p:nvPr/>
        </p:nvPicPr>
        <p:blipFill>
          <a:blip r:embed="rId24"/>
          <a:stretch/>
        </p:blipFill>
        <p:spPr>
          <a:xfrm rot="4032000">
            <a:off x="5686560" y="5193720"/>
            <a:ext cx="506160" cy="115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4" descr="cz_wody_dipol"/>
          <p:cNvPicPr/>
          <p:nvPr/>
        </p:nvPicPr>
        <p:blipFill>
          <a:blip r:embed="rId25"/>
          <a:stretch/>
        </p:blipFill>
        <p:spPr>
          <a:xfrm rot="7872600">
            <a:off x="5901480" y="411444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5" descr="cz_wody_dipol"/>
          <p:cNvPicPr/>
          <p:nvPr/>
        </p:nvPicPr>
        <p:blipFill>
          <a:blip r:embed="rId26"/>
          <a:stretch/>
        </p:blipFill>
        <p:spPr>
          <a:xfrm rot="14474400">
            <a:off x="7630920" y="4186080"/>
            <a:ext cx="506160" cy="115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6" descr="cz_wody_dipol"/>
          <p:cNvPicPr/>
          <p:nvPr/>
        </p:nvPicPr>
        <p:blipFill>
          <a:blip r:embed="rId27"/>
          <a:stretch/>
        </p:blipFill>
        <p:spPr>
          <a:xfrm rot="18454200">
            <a:off x="7558200" y="533844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7" descr="cz_wody_dipol"/>
          <p:cNvPicPr/>
          <p:nvPr/>
        </p:nvPicPr>
        <p:blipFill>
          <a:blip r:embed="rId28"/>
          <a:stretch/>
        </p:blipFill>
        <p:spPr>
          <a:xfrm rot="520200">
            <a:off x="6587640" y="5706720"/>
            <a:ext cx="5065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Механизм ЭД</a:t>
            </a:r>
            <a:br>
              <a:rPr sz="4400"/>
            </a:b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 полярных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иентация диполей воды вокруг полярной молеку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е большая поляризация полярной молекулы и превращение полярной связи ее в ионну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свободных гидратирован-ных ион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диссоциация кислот.wav" descr=""/>
          <p:cNvPicPr/>
          <p:nvPr/>
        </p:nvPicPr>
        <p:blipFill>
          <a:blip r:embed="rId1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157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7:41:11Z</dcterms:created>
  <dc:creator>Зорина И.Г</dc:creator>
  <dc:description/>
  <dc:language>en-US</dc:language>
  <cp:lastModifiedBy>Home</cp:lastModifiedBy>
  <dcterms:modified xsi:type="dcterms:W3CDTF">2012-12-19T17:18:05Z</dcterms:modified>
  <cp:revision>26</cp:revision>
  <dc:subject/>
  <dc:title>ЭДС</dc:title>
</cp:coreProperties>
</file>