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jpeg" ContentType="image/jpeg"/>
  <Override PartName="/ppt/media/wind.wav" ContentType="audio/x-wav"/>
  <Override PartName="/ppt/media/image7.png" ContentType="image/png"/>
  <Override PartName="/ppt/media/image1.jpeg" ContentType="image/jpeg"/>
  <Override PartName="/ppt/media/push.wav" ContentType="audio/x-wav"/>
  <Override PartName="/ppt/media/image18.jpeg" ContentType="image/jpe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63C-61EB-4363-832E-8428671D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2F6-E78D-4C8B-B91E-1180C500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E7A-CB90-4023-9ED6-A0F9B018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81F8-E0B8-4C42-AEC1-09222E52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B3BC-90D5-4E08-811D-DA4B0064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23C-DE2B-4745-8A5A-1646ACB9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6A78-6125-4CF6-A664-10727EC6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C5CC-6BE7-4FC3-A1A8-370A470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CD54-F35A-4FEF-817B-A1286A9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BAC6-4C94-4A0C-82A0-D9245F5A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901-21B6-4B47-89BE-D45065F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6CB-89E1-4538-B6FA-22C9ADD1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BABE-30FA-48EA-B198-7FE7BBB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80A8-90D1-4342-8FF3-74080A1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B71-5176-48E6-98CD-7B0D102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A88E-061A-465D-882E-5CB01D8E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D17B-99F7-40C3-AB82-5114CD46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7708-E110-407A-A3B6-49F53CD6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5085-9552-46AD-A71C-4195300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D933-DDDB-4E4D-B849-8E6AFBD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967E-91B5-4B25-9F2D-6A9AD37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A265-DBAF-436E-964E-39808DF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C50-39D0-491A-8875-26699005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F7BA-A3DC-438F-B996-4BFBA54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9A8C-BCCD-4FD4-814F-357A9994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2DB1-FA6B-48CB-86A0-981606D1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7C7C-86E4-4E4A-BE52-8B37A9D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C464-C210-41E2-8308-96EEDF9D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8E99-9673-4C03-A2F5-2DF4C037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DF6D-9C2B-48C8-AE3D-CEAD4588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58EE-A1D9-480E-A5F7-F143A66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24E1D-D5E5-49F4-A5BC-27C2CDE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70DB-B528-4A8C-9637-1718F43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36A-62C9-4CA5-BD69-9BFEC937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0937-45E3-46CA-A788-4373AB6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76F8B-6A13-4865-9408-9A235B6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0013-92A2-438F-AB96-CF3A656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CAE7-93A0-4350-A868-19FFE76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DC86-E7EC-475A-AD9E-F064A49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5AF5-DA8F-4854-9CC9-B2158C58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09EE0-1050-4312-9565-308EF4C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3DF9-58BA-4383-B65A-A7E67C34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DC0F-939E-492F-9435-B24C1AB7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D9EC-20EA-49E5-B9E8-B1FAA80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ADB-BCF4-4400-BBE3-184CFA21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6CDA-0803-4910-86A6-522F8EA3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00A20-4C0C-4D91-B3D4-654AA5B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A3C6-39AA-4ECD-B325-AFECA5D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72CB-3A61-4EE0-9E7A-70FE66DE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90D1-0D1D-49EB-A77B-DC03101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A110-DDB0-4F8F-ACC2-88D4970E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4C01-B3BC-471D-978F-00DA5E6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5109-78B0-448A-AFE7-A8F68471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4EC5-D9D9-4463-A1A5-B894B5DF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633FC-6219-4037-B3C7-21277813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DAD-0A12-459F-A8C6-DF2DD2D2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1A1C0-4E21-4454-8347-7E16C13A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C6EB-DAA2-4039-B8FF-944F088A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FC0A-2AFE-453F-9735-9A50AB3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4E09-9820-4345-98F4-0A3115C8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81E25-700B-4BCA-84A3-5D9B2F7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FEDA2-59CF-466E-B936-83F7D90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8699B-0A77-4DEF-9139-AF592AF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A492-A502-43CA-A0FD-6AAA3F0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2A2FA-2195-4C0C-96A3-F3E83E81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6489-F9CA-4FEA-9B64-F7FB7870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CFB-F2BC-4F87-9CB6-3CFF62C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FA107-7710-46D5-8168-6F6A867F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5ADB-9BA9-4D0F-887C-979C2DF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C43E2-F566-49A3-88B6-BEDF1E35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143-ECE3-45CE-B123-B3BA76E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E8D-611B-4656-BC18-C4BC0D97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4DD6-AE11-4F8B-B13A-1B1F8F0471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220A-0B3B-4F1B-9F7B-C875125AB7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A454-2E35-4BD1-ABC1-52BEE957E4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731-6CF8-43C3-87A6-DFF73CB805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D6B1-9ED5-484A-A462-554D039EA4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A57-DCCE-4FA9-9D39-46B9A7DC5A0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353880" y="1243080"/>
            <a:ext cx="8240760" cy="3265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Овал 4"/>
          <p:cNvSpPr/>
          <p:nvPr/>
        </p:nvSpPr>
        <p:spPr>
          <a:xfrm>
            <a:off x="714240" y="4357800"/>
            <a:ext cx="914400" cy="1071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3"/>
          <p:cNvSpPr/>
          <p:nvPr/>
        </p:nvSpPr>
        <p:spPr>
          <a:xfrm>
            <a:off x="4786200" y="4429080"/>
            <a:ext cx="914400" cy="9288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5712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При электролизе водного раствора соли </a:t>
            </a:r>
            <a:r>
              <a:rPr b="1" lang="ru-RU" sz="3000" spc="-1" strike="noStrike">
                <a:solidFill>
                  <a:srgbClr val="6c4c2c"/>
                </a:solidFill>
                <a:latin typeface="Franklin Gothic Book"/>
              </a:rPr>
              <a:t>из активного металла и кислородосодержащей кислоты 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на катоде выделяется Н</a:t>
            </a:r>
            <a:r>
              <a:rPr b="0" lang="ru-RU" sz="1900" spc="-1" strike="noStrike">
                <a:solidFill>
                  <a:srgbClr val="6c4c2c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,  а на аноде – О</a:t>
            </a:r>
            <a:r>
              <a:rPr b="0" lang="ru-RU" sz="1900" spc="-1" strike="noStrike">
                <a:solidFill>
                  <a:srgbClr val="6c4c2c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6c4c2c"/>
                </a:solidFill>
                <a:latin typeface="Franklin Gothic Book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К-         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Na</a:t>
            </a:r>
            <a:r>
              <a:rPr b="0" lang="en-US" sz="19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19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         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А +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           </a:t>
            </a:r>
            <a:r>
              <a:rPr b="0" lang="tt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←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Na</a:t>
            </a:r>
            <a:r>
              <a:rPr b="1" lang="en-US" sz="3000" spc="-1" strike="noStrike" baseline="30000">
                <a:solidFill>
                  <a:srgbClr val="993300"/>
                </a:solidFill>
                <a:latin typeface="Franklin Gothic Book"/>
              </a:rPr>
              <a:t>+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      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11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²ˉ</a:t>
            </a:r>
            <a:r>
              <a:rPr b="0" lang="en-US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1" lang="tt-RU" sz="3000" spc="-1" strike="noStrike" baseline="30000">
                <a:solidFill>
                  <a:srgbClr val="993300"/>
                </a:solidFill>
                <a:latin typeface="Franklin Gothic Book"/>
              </a:rPr>
              <a:t>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 + 2e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 2OH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–   |  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- 4e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ˉ 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O</a:t>
            </a:r>
            <a:r>
              <a:rPr b="0" lang="ru-RU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4H</a:t>
            </a:r>
            <a:r>
              <a:rPr b="0" lang="ru-RU" sz="3000" spc="-1" strike="noStrike" baseline="30000">
                <a:solidFill>
                  <a:srgbClr val="993300"/>
                </a:solidFill>
                <a:latin typeface="Franklin Gothic Book"/>
              </a:rPr>
              <a:t>+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000" spc="-1" strike="noStrike">
                <a:solidFill>
                  <a:srgbClr val="993300"/>
                </a:solidFill>
                <a:latin typeface="Franklin Gothic Book"/>
              </a:rPr>
              <a:t>Электролиз воды</a:t>
            </a:r>
            <a:r>
              <a:rPr b="1" lang="en-US" sz="30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en-US" sz="30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000" spc="-1" strike="noStrike">
                <a:solidFill>
                  <a:srgbClr val="993300"/>
                </a:solidFill>
                <a:latin typeface="Franklin Gothic Book"/>
              </a:rPr>
              <a:t>O</a:t>
            </a:r>
            <a:r>
              <a:rPr b="0" lang="en-US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Н</a:t>
            </a:r>
            <a:r>
              <a:rPr b="0" lang="ru-RU" sz="19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↑</a:t>
            </a:r>
            <a:r>
              <a:rPr b="0" lang="ru-RU" sz="3000" spc="-1" strike="noStrike">
                <a:solidFill>
                  <a:srgbClr val="993300"/>
                </a:solidFill>
                <a:latin typeface="Franklin Gothic Book"/>
              </a:rPr>
              <a:t> +О</a:t>
            </a:r>
            <a:r>
              <a:rPr b="0" lang="ru-RU" sz="22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↑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2"/>
          <a:stretch/>
        </p:blipFill>
        <p:spPr>
          <a:xfrm>
            <a:off x="42840" y="133200"/>
            <a:ext cx="9350280" cy="2610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14200" y="2214360"/>
            <a:ext cx="877752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2NaCl = 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Cl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 2NaOH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Если </a:t>
            </a:r>
            <a:r>
              <a:rPr b="1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металл средней активности связан с кислородосодержащим анионом</a:t>
            </a: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то на катоде образуется металл и Н2, на аноде – О</a:t>
            </a:r>
            <a:r>
              <a:rPr b="0" lang="en-US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tt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nSO</a:t>
            </a:r>
            <a:r>
              <a:rPr b="0" lang="en-US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+2H2O→Zn+H2+O2+H2SO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 электролизе раствора соли из </a:t>
            </a:r>
            <a:r>
              <a:rPr b="1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еталла средней активности и бескислородной кислоты </a:t>
            </a:r>
            <a:r>
              <a:rPr b="0" lang="tt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катоде образуется металл и Н2, на аноде – неметалл.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ZnCl2+2H2O→Zn+H2+Zn(OH)2+2Cl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2"/>
          <a:stretch/>
        </p:blipFill>
        <p:spPr>
          <a:xfrm>
            <a:off x="133200" y="208080"/>
            <a:ext cx="8864640" cy="1296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водного раствора соли </a:t>
            </a:r>
            <a:r>
              <a:rPr b="1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из </a:t>
            </a:r>
            <a:r>
              <a:rPr b="1" lang="tt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мало</a:t>
            </a:r>
            <a:r>
              <a:rPr b="1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активного металла и кислородосодержащей кислоты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на катоде выделяется  металл,  а на аноде – О</a:t>
            </a:r>
            <a:r>
              <a:rPr b="0" lang="ru-RU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и кислота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K-             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                      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+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32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i="1" lang="ru-RU" sz="3200" spc="-1" strike="noStrike" baseline="30000">
                <a:solidFill>
                  <a:srgbClr val="993300"/>
                </a:solidFill>
                <a:latin typeface="Franklin Gothic Book"/>
              </a:rPr>
              <a:t>2+</a:t>
            </a:r>
            <a:r>
              <a:rPr b="0" i="1" lang="en-US" sz="3200" spc="-1" strike="noStrike" baseline="30000">
                <a:solidFill>
                  <a:srgbClr val="993300"/>
                </a:solidFill>
                <a:latin typeface="Franklin Gothic Book"/>
              </a:rPr>
              <a:t> </a:t>
            </a:r>
            <a:r>
              <a:rPr b="0" i="1" lang="en-US" sz="3200" spc="-1" strike="noStrike">
                <a:solidFill>
                  <a:srgbClr val="993300"/>
                </a:solidFill>
                <a:latin typeface="Franklin Gothic Book"/>
              </a:rPr>
              <a:t>                   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SO</a:t>
            </a:r>
            <a:r>
              <a:rPr b="0" lang="en-US" sz="2000" spc="-1" strike="noStrike">
                <a:solidFill>
                  <a:srgbClr val="993300"/>
                </a:solidFill>
                <a:latin typeface="Franklin Gothic Book"/>
              </a:rPr>
              <a:t>4</a:t>
            </a:r>
            <a:r>
              <a:rPr b="0" lang="en-US" sz="2800" spc="-1" strike="noStrike">
                <a:solidFill>
                  <a:srgbClr val="993300"/>
                </a:solidFill>
                <a:latin typeface="Franklin Gothic Book"/>
              </a:rPr>
              <a:t>²ˉ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Franklin Gothic Book"/>
              </a:rPr>
              <a:t>                   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←                            →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2+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+ 2e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Franklin Gothic Book"/>
              </a:rPr>
              <a:t>= 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Cu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0</a:t>
            </a:r>
            <a:r>
              <a:rPr b="0" lang="en-US" sz="3200" spc="-1" strike="noStrike" baseline="30000">
                <a:solidFill>
                  <a:srgbClr val="993300"/>
                </a:solidFill>
                <a:latin typeface="Franklin Gothic Book"/>
              </a:rPr>
              <a:t>       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2H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O – 4e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–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= O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+ 4H</a:t>
            </a:r>
            <a:r>
              <a:rPr b="0" lang="ru-RU" sz="3200" spc="-1" strike="noStrike" baseline="30000">
                <a:solidFill>
                  <a:srgbClr val="993300"/>
                </a:solidFill>
                <a:latin typeface="Franklin Gothic Book"/>
              </a:rPr>
              <a:t>+</a:t>
            </a:r>
            <a:r>
              <a:rPr b="0" lang="en-US" sz="3200" spc="-1" strike="noStrike" baseline="30000">
                <a:solidFill>
                  <a:srgbClr val="993300"/>
                </a:solidFill>
                <a:latin typeface="Franklin Gothic Book"/>
              </a:rPr>
              <a:t>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 +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2H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O=2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u+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O</a:t>
            </a:r>
            <a:r>
              <a:rPr b="0" lang="ru-RU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+2H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SO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катиона аммония 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восстанавливается во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При электролизе солей органических кислот на катоде</a:t>
            </a: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восстанавливается вода, на аноде анион кислоты с образованием алкана и углекислого г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C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COONa +2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O=C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2CO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H</a:t>
            </a:r>
            <a:r>
              <a:rPr b="0" lang="en-US" sz="20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↑+2NaO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раствора щелочи – это электролиз в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раствора кислородосодержащей кислоты – это тоже электролиз вод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Franklin Gothic Book"/>
              </a:rPr>
              <a:t>Электролиз бескислородной кислоты: на катоде образуется водород, на аноде –неметал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786200" y="2011320"/>
            <a:ext cx="39499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5" name="Содержимое 3" descr="7-08.JPG"/>
          <p:cNvPicPr/>
          <p:nvPr/>
        </p:nvPicPr>
        <p:blipFill>
          <a:blip r:embed="rId2"/>
          <a:stretch/>
        </p:blipFill>
        <p:spPr>
          <a:xfrm>
            <a:off x="0" y="714240"/>
            <a:ext cx="4714920" cy="52866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0012-012-Elektroliz-rastvora-NaCl.jpg"/>
          <p:cNvPicPr/>
          <p:nvPr/>
        </p:nvPicPr>
        <p:blipFill>
          <a:blip r:embed="rId3"/>
          <a:stretch/>
        </p:blipFill>
        <p:spPr>
          <a:xfrm>
            <a:off x="4857840" y="500040"/>
            <a:ext cx="4286160" cy="6357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art3.jpg"/>
          <p:cNvPicPr/>
          <p:nvPr/>
        </p:nvPicPr>
        <p:blipFill>
          <a:blip r:embed="rId2"/>
          <a:stretch/>
        </p:blipFill>
        <p:spPr>
          <a:xfrm>
            <a:off x="1000080" y="1143000"/>
            <a:ext cx="6357960" cy="40006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"/>
          <p:cNvSpPr/>
          <p:nvPr/>
        </p:nvSpPr>
        <p:spPr>
          <a:xfrm>
            <a:off x="1428840" y="3571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b0f0"/>
                </a:solidFill>
                <a:latin typeface="Arial"/>
              </a:rPr>
              <a:t>Электролиз раствора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uCl</a:t>
            </a: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 flipV="1" rot="10800000">
            <a:off x="1071720" y="52761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lˉ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2e</a:t>
            </a:r>
            <a:r>
              <a:rPr b="0" lang="ru-RU" sz="2800" spc="-1" strike="noStrike" baseline="30000">
                <a:solidFill>
                  <a:srgbClr val="0d0d0d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= C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d0d0d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5000760" y="5214960"/>
            <a:ext cx="32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= Cu</a:t>
            </a:r>
            <a:r>
              <a:rPr b="0" lang="en-US" sz="2800" spc="-1" strike="noStrike" baseline="30000">
                <a:solidFill>
                  <a:srgbClr val="0d0d0d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571760" y="600084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 Cu  + 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3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2"/>
          <a:stretch/>
        </p:blipFill>
        <p:spPr>
          <a:xfrm>
            <a:off x="195120" y="-6480"/>
            <a:ext cx="8967960" cy="2000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цессы окисления  и восстановления разделены в пространстве, они совершаются не при контакте частиц друг с другом, а при соприкосновении с электродами электрической цеп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тод – отрицательно - заряженный электр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од – положительно-заряженный электрод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тион- «+»ион, анион- «-» ио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тодные процессы в водных растворах электролитов :катионы или молекулы воды принимают электронов и восстанавливаю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Li,K,Ca,    |</a:t>
            </a: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Mn,Zn,Fe,Ni,| H</a:t>
            </a:r>
            <a:r>
              <a:rPr b="0" lang="en-US" sz="1400" spc="-1" strike="noStrike">
                <a:solidFill>
                  <a:srgbClr val="993300"/>
                </a:solidFill>
                <a:latin typeface="Franklin Gothic Book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|Cu,Hg,Ag,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  </a:t>
            </a:r>
            <a:r>
              <a:rPr b="0" lang="en-US" sz="3200" spc="-1" strike="noStrike">
                <a:solidFill>
                  <a:srgbClr val="993300"/>
                </a:solidFill>
                <a:latin typeface="Franklin Gothic Book"/>
              </a:rPr>
              <a:t>Na,Mg,Al              Sn,Pb                          Au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Катионы металлов не   |  Катионы металлов  и молекулы воды|  Катионы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восстанавливаются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           восстанавливаются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металлов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4e3b30"/>
                </a:solidFill>
                <a:latin typeface="Franklin Gothic Book"/>
              </a:rPr>
              <a:t>Восстанавливается вода                                                                      восстанавливаются      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r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2768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914400" y="3571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   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2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 = 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Franklin Gothic Book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Franklin Gothic Book"/>
              </a:rPr>
              <a:t>=0,337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1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O + 2e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= H</a:t>
            </a:r>
            <a:r>
              <a:rPr b="1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 + 2OH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, E</a:t>
            </a:r>
            <a:r>
              <a:rPr b="1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0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=–0,83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Прямоугольник 4"/>
          <p:cNvSpPr/>
          <p:nvPr/>
        </p:nvSpPr>
        <p:spPr>
          <a:xfrm>
            <a:off x="214200" y="357120"/>
            <a:ext cx="8286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Катионы металлов со стандартным электродным потенциалом, большим, чем у </a:t>
            </a:r>
            <a:r>
              <a:rPr b="0" lang="tt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ВОДОРОДА,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расположены в ряду напряжений после него: Cu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H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A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Pt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..., до Pt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4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. При электролизе они почти полностью восстанавливаются на катоде и выделяются в виде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214200" y="100440"/>
            <a:ext cx="8715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2. Катионы металлов с малой величиной стандартного электродного потенциала (катионы металлов начала ряда напряжений Li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Na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K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Rb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, ..., до Al</a:t>
            </a:r>
            <a:r>
              <a:rPr b="0" lang="ru-RU" sz="3200" spc="-1" strike="noStrike" baseline="30000">
                <a:solidFill>
                  <a:srgbClr val="6c4c2c"/>
                </a:solidFill>
                <a:latin typeface="Times New Roman"/>
                <a:ea typeface="Times New Roman"/>
              </a:rPr>
              <a:t>3+</a:t>
            </a:r>
            <a:r>
              <a:rPr b="0" lang="ru-RU" sz="3200" spc="-1" strike="noStrike">
                <a:solidFill>
                  <a:srgbClr val="6c4c2c"/>
                </a:solidFill>
                <a:latin typeface="Times New Roman"/>
                <a:ea typeface="Times New Roman"/>
              </a:rPr>
              <a:t> включительно). При электролизе на катоде они не восстанавливаются, вместо них восстанавливаются молекулы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857160" y="4000680"/>
            <a:ext cx="7358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O + 2e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= H</a:t>
            </a:r>
            <a:r>
              <a:rPr b="0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+ 2OH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, E</a:t>
            </a:r>
            <a:r>
              <a:rPr b="0" lang="en-US" sz="3200" spc="-1" strike="noStrike" baseline="30000">
                <a:solidFill>
                  <a:srgbClr val="9933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=–0,83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50920" y="1163880"/>
            <a:ext cx="8643960" cy="84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3. Катионы металлов со стандартным электродным потенциалом меньшим, чем у ВОДОРОДА, но большим, чем у алюминия (M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Z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Cr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3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Fe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..., до H). При электролизе эти катионы, характеризующиеся средними величинами электроноакцепторной способности, на катоде восстанавливаются одновременно с молекулам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buClr>
                <a:srgbClr val="6241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24139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Zn </a:t>
            </a:r>
            <a:r>
              <a:rPr b="0" lang="ru-RU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+  </a:t>
            </a:r>
            <a:r>
              <a:rPr b="0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2e =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Zn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2H</a:t>
            </a:r>
            <a:r>
              <a:rPr b="0" i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O + 2e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–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= H</a:t>
            </a:r>
            <a:r>
              <a:rPr b="0" i="1" lang="ru-RU" sz="32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+ 2OH</a:t>
            </a:r>
            <a:r>
              <a:rPr b="0" i="1" lang="ru-RU" sz="3200" spc="-1" strike="noStrike" baseline="30000">
                <a:solidFill>
                  <a:srgbClr val="cc33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52280" algn="just">
              <a:lnSpc>
                <a:spcPct val="100000"/>
              </a:lnSpc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285840" y="285840"/>
            <a:ext cx="8858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4. 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а катоде легче всего разряжаются катионы того металла, которому отвечает наиболее положительный потенциал. Так, например, из смеси катионов Cu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, Ag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и Zn</a:t>
            </a:r>
            <a:r>
              <a:rPr b="0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2+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при достаточном напряжении на клеммах электролизера вначале восстанавливаются ионы серебра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+0,79 В), затем меди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+0,337 В) и, наконец, цинка (</a:t>
            </a:r>
            <a:r>
              <a:rPr b="0" i="1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 baseline="30000">
                <a:solidFill>
                  <a:srgbClr val="523227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523227"/>
                </a:solidFill>
                <a:latin typeface="Arial"/>
                <a:ea typeface="Times New Roman"/>
              </a:rPr>
              <a:t>–</a:t>
            </a:r>
            <a:r>
              <a:rPr b="0" lang="ru-RU" sz="32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0,76 В).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Ag 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=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Ag</a:t>
            </a:r>
            <a:r>
              <a:rPr b="0" lang="ru-RU" sz="3200" spc="-1" strike="noStrike" u="sng">
                <a:solidFill>
                  <a:srgbClr val="52322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79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4"/>
          <p:cNvSpPr/>
          <p:nvPr/>
        </p:nvSpPr>
        <p:spPr>
          <a:xfrm flipV="1" rot="10800000">
            <a:off x="285480" y="4142160"/>
            <a:ext cx="588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2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+ 2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–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= Cu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, 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337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5"/>
          <p:cNvSpPr/>
          <p:nvPr/>
        </p:nvSpPr>
        <p:spPr>
          <a:xfrm>
            <a:off x="357120" y="5176800"/>
            <a:ext cx="51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Zn </a:t>
            </a:r>
            <a:r>
              <a:rPr b="0" lang="ru-RU" sz="3200" spc="-1" strike="noStrike" u="sng" baseline="30000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2+  </a:t>
            </a:r>
            <a:r>
              <a:rPr b="0" lang="ru-RU" sz="32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 +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2e =</a:t>
            </a:r>
            <a:r>
              <a:rPr b="1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Zn</a:t>
            </a:r>
            <a:r>
              <a:rPr b="0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lang="en-US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6"/>
          <p:cNvSpPr/>
          <p:nvPr/>
        </p:nvSpPr>
        <p:spPr>
          <a:xfrm>
            <a:off x="3786120" y="51436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E</a:t>
            </a:r>
            <a:r>
              <a:rPr b="0" i="1" lang="ru-RU" sz="3200" spc="-1" strike="noStrike" u="sng" baseline="30000">
                <a:solidFill>
                  <a:srgbClr val="993300"/>
                </a:solidFill>
                <a:uFillTx/>
                <a:latin typeface="Arial"/>
              </a:rPr>
              <a:t>0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=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-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0,</a:t>
            </a:r>
            <a:r>
              <a:rPr b="0" i="1" lang="en-US" sz="3200" spc="-1" strike="noStrike" u="sng">
                <a:solidFill>
                  <a:srgbClr val="993300"/>
                </a:solidFill>
                <a:uFillTx/>
                <a:latin typeface="Arial"/>
              </a:rPr>
              <a:t>76</a:t>
            </a:r>
            <a:r>
              <a:rPr b="0" i="1" lang="ru-RU" sz="3200" spc="-1" strike="noStrike" u="sng">
                <a:solidFill>
                  <a:srgbClr val="993300"/>
                </a:solidFill>
                <a:uFillTx/>
                <a:latin typeface="Arial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аноде происходит окисление анионов или молекул воды ( частицы  отдают электронов -  окисляютс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ионы по их способности окисляться располагаются в следующем порядк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ˉ,Brˉ,S²ˉ,Clˉ,OHˉ, SO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²ˉ,NO</a:t>
            </a:r>
            <a:r>
              <a:rPr b="0" lang="en-US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ˉ,Fˉ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------------------------------------------------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---------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→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сстановительная активность уменьша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798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Cl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– 2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Cl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 – 4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+ 4H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+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4OH</a:t>
            </a:r>
            <a:r>
              <a:rPr b="0" i="1" lang="en-US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– 4e</a:t>
            </a:r>
            <a:r>
              <a:rPr b="0" i="1" lang="en-US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 = 2H</a:t>
            </a:r>
            <a:r>
              <a:rPr b="0" i="1" lang="en-US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O + O</a:t>
            </a:r>
            <a:r>
              <a:rPr b="0" i="1" lang="en-US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нионы кислородосодержащих кислот не окисляются, так как их стандартный потенциал намного превышает потенциал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оды        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S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4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2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– 2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S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8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2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i="1" lang="ru-RU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0" i="1" lang="ru-RU" sz="3200" spc="-1" strike="noStrike" baseline="30000">
                <a:solidFill>
                  <a:srgbClr val="ff0000"/>
                </a:solidFill>
                <a:latin typeface="Franklin Gothic Book"/>
              </a:rPr>
              <a:t>0</a:t>
            </a:r>
            <a:r>
              <a:rPr b="0" i="1" lang="ru-RU" sz="3200" spc="-1" strike="noStrike">
                <a:solidFill>
                  <a:srgbClr val="ff0000"/>
                </a:solidFill>
                <a:latin typeface="Franklin Gothic Book"/>
              </a:rPr>
              <a:t>=+2,01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этому вместо них  окисляется вода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2H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O – 4e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= O</a:t>
            </a:r>
            <a:r>
              <a:rPr b="0" i="1" lang="ru-RU" sz="3200" spc="-1" strike="noStrike" baseline="-25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 + 4H</a:t>
            </a:r>
            <a:r>
              <a:rPr b="0" i="1" lang="ru-RU" sz="3200" spc="-1" strike="noStrike" baseline="30000">
                <a:solidFill>
                  <a:srgbClr val="4e3b30"/>
                </a:solidFill>
                <a:latin typeface="Franklin Gothic Book"/>
              </a:rPr>
              <a:t>+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i="1" lang="ru-RU" sz="3200" spc="-1" strike="noStrike">
                <a:solidFill>
                  <a:srgbClr val="c00000"/>
                </a:solidFill>
                <a:latin typeface="Franklin Gothic Book"/>
              </a:rPr>
              <a:t>E</a:t>
            </a:r>
            <a:r>
              <a:rPr b="0" i="1" lang="ru-RU" sz="3200" spc="-1" strike="noStrike" baseline="30000">
                <a:solidFill>
                  <a:srgbClr val="c00000"/>
                </a:solidFill>
                <a:latin typeface="Franklin Gothic Book"/>
              </a:rPr>
              <a:t>0</a:t>
            </a:r>
            <a:r>
              <a:rPr b="0" i="1" lang="ru-RU" sz="3200" spc="-1" strike="noStrike">
                <a:solidFill>
                  <a:srgbClr val="c00000"/>
                </a:solidFill>
                <a:latin typeface="Franklin Gothic Book"/>
              </a:rPr>
              <a:t>=1,228 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8:22:58Z</dcterms:created>
  <dc:creator>я</dc:creator>
  <dc:description/>
  <dc:language>en-US</dc:language>
  <cp:lastModifiedBy>Home</cp:lastModifiedBy>
  <dcterms:modified xsi:type="dcterms:W3CDTF">2012-12-19T16:55:59Z</dcterms:modified>
  <cp:revision>470</cp:revision>
  <dc:subject/>
  <dc:title>Слайд 1</dc:title>
</cp:coreProperties>
</file>