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chimes.wav" ContentType="audio/x-wav"/>
  <Override PartName="/ppt/media/image16.jpeg" ContentType="image/jpeg"/>
  <Override PartName="/ppt/media/wind.wav" ContentType="audio/x-wav"/>
  <Override PartName="/ppt/media/image7.png" ContentType="image/png"/>
  <Override PartName="/ppt/media/image1.jpeg" ContentType="image/jpeg"/>
  <Override PartName="/ppt/media/push.wav" ContentType="audio/x-wav"/>
  <Override PartName="/ppt/media/image18.jpeg" ContentType="image/jpe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3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E5F-1703-420B-987C-00154E9F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154-BF40-4835-B154-4D7E7A2C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BAE-122B-4AEA-B87E-BE574808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59A-1C81-465D-8BBC-91B6017E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A04F-C3DA-4820-8150-9A4901AE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68E8-3420-4DBC-88F6-7A086875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8498-5A6A-4530-A4A0-3B4D956F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DC46-9F18-43F1-B38E-C21F4924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8207-723F-4710-ACA9-F9C37FC0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17C0-6951-4A2D-ACD7-9B1B80C8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EC2F-ADED-498F-B209-A87EFB06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9E3-A79D-464B-8D77-D956E8DA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0B45-8F72-4467-B01E-3DBE6FAF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9F9A-1ED0-4D1F-A149-6DD6206E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F378-D46E-44D2-948A-CE7EA74D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8AF1-7983-459B-8ADB-00EABB0B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1FCC-8CB0-461F-BA29-12A5A5B7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17166-97A4-4FC7-B81A-A326BF13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13EA-31A7-45D9-AADA-CB37DCC6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D6B0-96C6-464A-BB65-FE915260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3FFA-AB6B-4DBE-AE6A-810FE02F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B102-E080-4AAD-B37F-01873D82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8EE-08AE-4E63-8D57-B454536E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4C1DA-C3F4-4043-8146-7FDEF4F0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8BC9-538F-4A16-A820-09758B08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47B4-24F2-4860-B509-A692B45A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3EFDC-D8A4-42F9-8255-2D4A35A0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D0E4-1D0E-4CF5-99A7-87630199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B50ED-930C-4875-B2F4-B6F52103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55F65-A7AC-4F23-909F-8950F47D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98FF6-4455-449A-A98D-77EB5EBC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49E9F-EDB2-44D1-B33C-8DB7B15B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CA7B7-B94D-44EF-BBC2-6329038A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B33-6FCA-4059-9053-9FF58727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2EDE9-7795-4B1E-B070-52F97053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A25CB-DCB9-4ECC-A151-E0CF637F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EA3E-8838-44E1-B008-321F1F15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CA7C6-75C5-4475-A0FE-BA774FFD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A160-6AA7-419F-9490-D7C26F75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C751-517B-47E7-94F7-0F031E13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8220-BD89-428D-AED3-31486442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B03C6-1EB2-4765-B75D-D31B3BBD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57763-FE48-4551-9B1D-7ECC018F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5A521-3BA9-4B48-845A-E6481E05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7B7-07C9-4BBF-AEB2-79EC8A20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28F43-0721-4009-B359-DA3543B9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40BF0-FE48-45FD-AE16-54F57B3E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A6822-78C4-4889-8F6F-53E4F10F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960B6-39CE-42EB-B002-7C51679F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EC83B-ADE1-409D-80D6-8E953A39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AFAD9-290C-46B4-BB2F-E010E168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C9E7D-D0A0-4F1A-89CE-BC27EAE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9ACB6-3E86-4D5A-B644-C2E6627A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0FF37-84B3-4AC0-AF3D-0D681E50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4A388-3C90-4290-BDDC-9E6A09B8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3B8-9565-42C5-8ACC-83ECBD3E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FB8FC-717E-4148-8441-2A2E2DCD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D10A2-E800-4C56-B356-5E88328F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20C52-569E-4581-8821-912E16F9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7D248-6C0E-4344-8F2A-D9C9E4B3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4A261-01E9-4D34-8FE4-D0321C4A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8887C-35BB-4675-8DDF-2F4D655C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0C913-81A9-4215-AA13-37DB5752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C9AA2-F37A-4E9B-BBAC-E6FA586A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DF63B-51DD-4CE4-9CEE-F8C0FB3F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CDDBB-EB9E-4F48-8ACF-CB215EB9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51A-C6A0-48B0-B6AB-4098A9F5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4D812-58D5-4CE0-B5B3-1C00C328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53825-08B6-4840-BFE7-05A9A84D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71411-8728-4101-9881-9DC06827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FF7-EC3B-42F4-BAD5-0BEE0AA0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34A-3313-44DD-8189-5EF45DB9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DECC-A308-417F-AEA7-B458042E792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B8D8-E1BB-4A88-A545-E184C5B6BE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8745-81B8-4508-84E5-4474DF588F7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5779-8E7A-4D52-A50F-D8FC11612B4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76BE-8C75-4B0C-A959-2A2471AC370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4F12-07FC-4A61-B563-61CC171A9B4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2"/>
          <a:stretch/>
        </p:blipFill>
        <p:spPr>
          <a:xfrm>
            <a:off x="353880" y="1243080"/>
            <a:ext cx="8240760" cy="32655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u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Овал 4"/>
          <p:cNvSpPr/>
          <p:nvPr/>
        </p:nvSpPr>
        <p:spPr>
          <a:xfrm>
            <a:off x="714240" y="4357800"/>
            <a:ext cx="914400" cy="1071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3"/>
          <p:cNvSpPr/>
          <p:nvPr/>
        </p:nvSpPr>
        <p:spPr>
          <a:xfrm>
            <a:off x="4786200" y="4429080"/>
            <a:ext cx="914400" cy="9288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57120" y="171432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c4c2c"/>
                </a:solidFill>
                <a:latin typeface="Franklin Gothic Book"/>
              </a:rPr>
              <a:t>При электролизе водного раствора соли </a:t>
            </a:r>
            <a:r>
              <a:rPr b="1" lang="ru-RU" sz="3000" spc="-1" strike="noStrike">
                <a:solidFill>
                  <a:srgbClr val="6c4c2c"/>
                </a:solidFill>
                <a:latin typeface="Franklin Gothic Book"/>
              </a:rPr>
              <a:t>из активного металла и кислородосодержащей кислоты </a:t>
            </a:r>
            <a:r>
              <a:rPr b="0" lang="ru-RU" sz="3000" spc="-1" strike="noStrike">
                <a:solidFill>
                  <a:srgbClr val="6c4c2c"/>
                </a:solidFill>
                <a:latin typeface="Franklin Gothic Book"/>
              </a:rPr>
              <a:t>на катоде выделяется Н</a:t>
            </a:r>
            <a:r>
              <a:rPr b="0" lang="ru-RU" sz="1900" spc="-1" strike="noStrike">
                <a:solidFill>
                  <a:srgbClr val="6c4c2c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6c4c2c"/>
                </a:solidFill>
                <a:latin typeface="Franklin Gothic Book"/>
              </a:rPr>
              <a:t>,  а на аноде – О</a:t>
            </a:r>
            <a:r>
              <a:rPr b="0" lang="ru-RU" sz="1900" spc="-1" strike="noStrike">
                <a:solidFill>
                  <a:srgbClr val="6c4c2c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6c4c2c"/>
                </a:solidFill>
                <a:latin typeface="Franklin Gothic Book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К-            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Na</a:t>
            </a:r>
            <a:r>
              <a:rPr b="0" lang="en-US" sz="1900" spc="-1" strike="noStrike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SO</a:t>
            </a:r>
            <a:r>
              <a:rPr b="0" lang="en-US" sz="1900" spc="-1" strike="noStrike">
                <a:solidFill>
                  <a:srgbClr val="993300"/>
                </a:solidFill>
                <a:latin typeface="Franklin Gothic Book"/>
              </a:rPr>
              <a:t>4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           </a:t>
            </a:r>
            <a:r>
              <a:rPr b="0" lang="tt-RU" sz="3000" spc="-1" strike="noStrike">
                <a:solidFill>
                  <a:srgbClr val="993300"/>
                </a:solidFill>
                <a:latin typeface="Franklin Gothic Book"/>
              </a:rPr>
              <a:t>   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  </a:t>
            </a:r>
            <a:r>
              <a:rPr b="0" lang="tt-RU" sz="3000" spc="-1" strike="noStrike">
                <a:solidFill>
                  <a:srgbClr val="993300"/>
                </a:solidFill>
                <a:latin typeface="Franklin Gothic Book"/>
              </a:rPr>
              <a:t>А +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993300"/>
                </a:solidFill>
                <a:latin typeface="Franklin Gothic Book"/>
              </a:rPr>
              <a:t>              </a:t>
            </a:r>
            <a:r>
              <a:rPr b="0" lang="tt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←</a:t>
            </a:r>
            <a:r>
              <a:rPr b="0" lang="tt-RU" sz="30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Na</a:t>
            </a:r>
            <a:r>
              <a:rPr b="1" lang="en-US" sz="3000" spc="-1" strike="noStrike" baseline="30000">
                <a:solidFill>
                  <a:srgbClr val="993300"/>
                </a:solidFill>
                <a:latin typeface="Franklin Gothic Book"/>
              </a:rPr>
              <a:t>+ 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lang="tt-RU" sz="3000" spc="-1" strike="noStrike">
                <a:solidFill>
                  <a:srgbClr val="993300"/>
                </a:solidFill>
                <a:latin typeface="Franklin Gothic Book"/>
              </a:rPr>
              <a:t>       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SO</a:t>
            </a:r>
            <a:r>
              <a:rPr b="0" lang="en-US" sz="1100" spc="-1" strike="noStrike">
                <a:solidFill>
                  <a:srgbClr val="993300"/>
                </a:solidFill>
                <a:latin typeface="Franklin Gothic Book"/>
              </a:rPr>
              <a:t>4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²ˉ</a:t>
            </a:r>
            <a:r>
              <a:rPr b="0" lang="en-US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→</a:t>
            </a:r>
            <a:r>
              <a:rPr b="1" lang="tt-RU" sz="3000" spc="-1" strike="noStrike" baseline="30000">
                <a:solidFill>
                  <a:srgbClr val="993300"/>
                </a:solidFill>
                <a:latin typeface="Franklin Gothic Book"/>
              </a:rPr>
              <a:t>   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2H</a:t>
            </a:r>
            <a:r>
              <a:rPr b="0" lang="ru-RU" sz="30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O + 2e</a:t>
            </a:r>
            <a:r>
              <a:rPr b="0" lang="ru-RU" sz="3000" spc="-1" strike="noStrike" baseline="30000">
                <a:solidFill>
                  <a:srgbClr val="993300"/>
                </a:solidFill>
                <a:latin typeface="Franklin Gothic Book"/>
              </a:rPr>
              <a:t>–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→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H</a:t>
            </a:r>
            <a:r>
              <a:rPr b="0" lang="ru-RU" sz="30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 + 2OH</a:t>
            </a:r>
            <a:r>
              <a:rPr b="0" lang="ru-RU" sz="3000" spc="-1" strike="noStrike" baseline="30000">
                <a:solidFill>
                  <a:srgbClr val="993300"/>
                </a:solidFill>
                <a:latin typeface="Franklin Gothic Book"/>
              </a:rPr>
              <a:t>–   |   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2H</a:t>
            </a:r>
            <a:r>
              <a:rPr b="0" lang="ru-RU" sz="30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O- 4e</a:t>
            </a:r>
            <a:r>
              <a:rPr b="0" lang="ru-RU" sz="3000" spc="-1" strike="noStrike" baseline="30000">
                <a:solidFill>
                  <a:srgbClr val="993300"/>
                </a:solidFill>
                <a:latin typeface="Franklin Gothic Book"/>
              </a:rPr>
              <a:t>ˉ 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→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O</a:t>
            </a:r>
            <a:r>
              <a:rPr b="0" lang="ru-RU" sz="30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 +4H</a:t>
            </a:r>
            <a:r>
              <a:rPr b="0" lang="ru-RU" sz="3000" spc="-1" strike="noStrike" baseline="30000">
                <a:solidFill>
                  <a:srgbClr val="993300"/>
                </a:solidFill>
                <a:latin typeface="Franklin Gothic Book"/>
              </a:rPr>
              <a:t>+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993300"/>
                </a:solidFill>
                <a:latin typeface="Franklin Gothic Book"/>
              </a:rPr>
              <a:t>Электролиз воды</a:t>
            </a:r>
            <a:r>
              <a:rPr b="1" lang="en-US" sz="30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2H</a:t>
            </a:r>
            <a:r>
              <a:rPr b="0" lang="en-US" sz="30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O</a:t>
            </a:r>
            <a:r>
              <a:rPr b="0" lang="en-US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→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 Н</a:t>
            </a:r>
            <a:r>
              <a:rPr b="0" lang="ru-RU" sz="1900" spc="-1" strike="noStrike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↑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 +О</a:t>
            </a:r>
            <a:r>
              <a:rPr b="0" lang="ru-RU" sz="2200" spc="-1" strike="noStrike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2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↑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2"/>
          <a:stretch/>
        </p:blipFill>
        <p:spPr>
          <a:xfrm>
            <a:off x="42840" y="133200"/>
            <a:ext cx="9350280" cy="2610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214200" y="2214360"/>
            <a:ext cx="877752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+ 2NaCl = H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+ Cl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+ 2NaOH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Если </a:t>
            </a:r>
            <a:r>
              <a:rPr b="1" lang="tt-RU" sz="28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металл средней активности связан с кислородосодержащим анионом</a:t>
            </a:r>
            <a:r>
              <a:rPr b="0" lang="tt-RU" sz="28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, то на катоде образуется металл и Н2, на аноде – О</a:t>
            </a:r>
            <a:r>
              <a:rPr b="0" lang="en-US" sz="28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</a:t>
            </a:r>
            <a:r>
              <a:rPr b="0" lang="tt-RU" sz="28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ZnSO</a:t>
            </a:r>
            <a:r>
              <a:rPr b="0" lang="en-US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+2H2O→Zn+H2+O2+H2SO4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 электролизе раствора соли из </a:t>
            </a:r>
            <a:r>
              <a:rPr b="1" lang="tt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алла средней активности и бескислородной кислоты </a:t>
            </a:r>
            <a:r>
              <a:rPr b="0" lang="tt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катоде образуется металл и Н2, на аноде – неметалл.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ZnCl2+2H2O→Zn+H2+Zn(OH)2+2Cl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2"/>
          <a:stretch/>
        </p:blipFill>
        <p:spPr>
          <a:xfrm>
            <a:off x="133200" y="208080"/>
            <a:ext cx="8864640" cy="1296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При электролизе водного раствора соли </a:t>
            </a:r>
            <a:r>
              <a:rPr b="1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из </a:t>
            </a:r>
            <a:r>
              <a:rPr b="1" lang="tt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мало</a:t>
            </a:r>
            <a:r>
              <a:rPr b="1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активного металла и кислородосодержащей кислоты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 на катоде выделяется  металл,  а на аноде – О</a:t>
            </a:r>
            <a:r>
              <a:rPr b="0" lang="ru-RU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 и кислота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K-                    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uSO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4                          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+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32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i="1" lang="ru-RU" sz="3200" spc="-1" strike="noStrike">
                <a:solidFill>
                  <a:srgbClr val="993300"/>
                </a:solidFill>
                <a:latin typeface="Franklin Gothic Book"/>
              </a:rPr>
              <a:t>Cu</a:t>
            </a:r>
            <a:r>
              <a:rPr b="0" i="1" lang="ru-RU" sz="3200" spc="-1" strike="noStrike" baseline="30000">
                <a:solidFill>
                  <a:srgbClr val="993300"/>
                </a:solidFill>
                <a:latin typeface="Franklin Gothic Book"/>
              </a:rPr>
              <a:t>2+</a:t>
            </a:r>
            <a:r>
              <a:rPr b="0" i="1" lang="en-US" sz="3200" spc="-1" strike="noStrike" baseline="30000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993300"/>
                </a:solidFill>
                <a:latin typeface="Franklin Gothic Book"/>
              </a:rPr>
              <a:t>                     </a:t>
            </a:r>
            <a:r>
              <a:rPr b="0" lang="en-US" sz="3200" spc="-1" strike="noStrike">
                <a:solidFill>
                  <a:srgbClr val="993300"/>
                </a:solidFill>
                <a:latin typeface="Franklin Gothic Book"/>
              </a:rPr>
              <a:t>SO</a:t>
            </a:r>
            <a:r>
              <a:rPr b="0" lang="en-US" sz="2000" spc="-1" strike="noStrike">
                <a:solidFill>
                  <a:srgbClr val="993300"/>
                </a:solidFill>
                <a:latin typeface="Franklin Gothic Book"/>
              </a:rPr>
              <a:t>4</a:t>
            </a:r>
            <a:r>
              <a:rPr b="0" lang="en-US" sz="2800" spc="-1" strike="noStrike">
                <a:solidFill>
                  <a:srgbClr val="993300"/>
                </a:solidFill>
                <a:latin typeface="Franklin Gothic Book"/>
              </a:rPr>
              <a:t>²ˉ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Franklin Gothic Book"/>
              </a:rPr>
              <a:t>                    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←                            → 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Cu</a:t>
            </a:r>
            <a:r>
              <a:rPr b="0" lang="ru-RU" sz="3200" spc="-1" strike="noStrike" baseline="30000">
                <a:solidFill>
                  <a:srgbClr val="993300"/>
                </a:solidFill>
                <a:latin typeface="Franklin Gothic Book"/>
              </a:rPr>
              <a:t>2+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 + 2e</a:t>
            </a:r>
            <a:r>
              <a:rPr b="0" lang="ru-RU" sz="3200" spc="-1" strike="noStrike" baseline="30000">
                <a:solidFill>
                  <a:srgbClr val="993300"/>
                </a:solidFill>
                <a:latin typeface="Franklin Gothic Book"/>
              </a:rPr>
              <a:t>–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993300"/>
                </a:solidFill>
                <a:latin typeface="Franklin Gothic Book"/>
              </a:rPr>
              <a:t>= 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Cu</a:t>
            </a:r>
            <a:r>
              <a:rPr b="0" lang="ru-RU" sz="3200" spc="-1" strike="noStrike" baseline="30000">
                <a:solidFill>
                  <a:srgbClr val="993300"/>
                </a:solidFill>
                <a:latin typeface="Franklin Gothic Book"/>
              </a:rPr>
              <a:t>0</a:t>
            </a:r>
            <a:r>
              <a:rPr b="0" lang="en-US" sz="3200" spc="-1" strike="noStrike" baseline="30000">
                <a:solidFill>
                  <a:srgbClr val="993300"/>
                </a:solidFill>
                <a:latin typeface="Franklin Gothic Book"/>
              </a:rPr>
              <a:t>       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2H</a:t>
            </a:r>
            <a:r>
              <a:rPr b="0" lang="ru-RU" sz="32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O – 4e</a:t>
            </a:r>
            <a:r>
              <a:rPr b="0" lang="ru-RU" sz="3200" spc="-1" strike="noStrike" baseline="30000">
                <a:solidFill>
                  <a:srgbClr val="993300"/>
                </a:solidFill>
                <a:latin typeface="Franklin Gothic Book"/>
              </a:rPr>
              <a:t>–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 = O</a:t>
            </a:r>
            <a:r>
              <a:rPr b="0" lang="ru-RU" sz="32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 + 4H</a:t>
            </a:r>
            <a:r>
              <a:rPr b="0" lang="ru-RU" sz="3200" spc="-1" strike="noStrike" baseline="30000">
                <a:solidFill>
                  <a:srgbClr val="993300"/>
                </a:solidFill>
                <a:latin typeface="Franklin Gothic Book"/>
              </a:rPr>
              <a:t>+</a:t>
            </a:r>
            <a:r>
              <a:rPr b="0" lang="en-US" sz="3200" spc="-1" strike="noStrike" baseline="30000">
                <a:solidFill>
                  <a:srgbClr val="993300"/>
                </a:solidFill>
                <a:latin typeface="Franklin Gothic Book"/>
              </a:rPr>
              <a:t>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uSO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4 +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2H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O=2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u+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O</a:t>
            </a:r>
            <a:r>
              <a:rPr b="0" lang="ru-RU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+2H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SO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214200" y="1554120"/>
            <a:ext cx="877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При электролизе катиона аммония 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+</a:t>
            </a:r>
            <a:r>
              <a:rPr b="0" lang="en-US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восстанавливается вод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При электролизе солей органических кислот на катоде</a:t>
            </a:r>
            <a:r>
              <a:rPr b="0" lang="en-US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 восстанавливается вода, на аноде анион кислоты с образованием алкана и углекислого га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CH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COONa +2H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O=C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↑+2CO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↑+H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↑+2NaO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Franklin Gothic Book"/>
              </a:rPr>
              <a:t>Электролиз раствора щелочи – это электролиз вод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Franklin Gothic Book"/>
              </a:rPr>
              <a:t>Электролиз раствора кислородосодержащей кислоты – это тоже электролиз вод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Franklin Gothic Book"/>
              </a:rPr>
              <a:t>Электролиз бескислородной кислоты: на катоде образуется водород, на аноде –неметал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786200" y="2011320"/>
            <a:ext cx="39499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5" name="Содержимое 3" descr="7-08.JPG"/>
          <p:cNvPicPr/>
          <p:nvPr/>
        </p:nvPicPr>
        <p:blipFill>
          <a:blip r:embed="rId2"/>
          <a:stretch/>
        </p:blipFill>
        <p:spPr>
          <a:xfrm>
            <a:off x="0" y="714240"/>
            <a:ext cx="4714920" cy="528660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6" descr="0012-012-Elektroliz-rastvora-NaCl.jpg"/>
          <p:cNvPicPr/>
          <p:nvPr/>
        </p:nvPicPr>
        <p:blipFill>
          <a:blip r:embed="rId3"/>
          <a:stretch/>
        </p:blipFill>
        <p:spPr>
          <a:xfrm>
            <a:off x="4857840" y="500040"/>
            <a:ext cx="4286160" cy="63579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1" descr="art3.jpg"/>
          <p:cNvPicPr/>
          <p:nvPr/>
        </p:nvPicPr>
        <p:blipFill>
          <a:blip r:embed="rId2"/>
          <a:stretch/>
        </p:blipFill>
        <p:spPr>
          <a:xfrm>
            <a:off x="1000080" y="1143000"/>
            <a:ext cx="6357960" cy="40006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1428840" y="35712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b0f0"/>
                </a:solidFill>
                <a:latin typeface="Arial"/>
              </a:rPr>
              <a:t>Электролиз раствора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CuCl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 flipV="1" rot="10800000">
            <a:off x="1071720" y="52761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lˉ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2e</a:t>
            </a:r>
            <a:r>
              <a:rPr b="0" lang="ru-RU" sz="2800" spc="-1" strike="noStrike" baseline="30000">
                <a:solidFill>
                  <a:srgbClr val="0d0d0d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= C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d0d0d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5000760" y="521496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0d0d0d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+ 2e</a:t>
            </a:r>
            <a:r>
              <a:rPr b="0" lang="en-US" sz="2800" spc="-1" strike="noStrike" baseline="30000">
                <a:solidFill>
                  <a:srgbClr val="0d0d0d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= Cu</a:t>
            </a:r>
            <a:r>
              <a:rPr b="0" lang="en-US" sz="2800" spc="-1" strike="noStrike" baseline="30000">
                <a:solidFill>
                  <a:srgbClr val="0d0d0d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1571760" y="600084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Cu  + C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2"/>
          <a:stretch/>
        </p:blipFill>
        <p:spPr>
          <a:xfrm>
            <a:off x="195120" y="-6480"/>
            <a:ext cx="8967960" cy="20005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цессы окисления  и восстановления разделены в пространстве, они совершаются не при контакте частиц друг с другом, а при соприкосновении с электродами электрической цеп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тод – отрицательно - заряженный электрод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нод – положительно-заряженный электрод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тион- «+»ион, анион- «-» ио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ipe dir="r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1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тодные процессы в водных растворах электролитов :катионы или молекулы воды принимают электронов и восстанавливают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Franklin Gothic Book"/>
              </a:rPr>
              <a:t>Li,K,Ca,    |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993300"/>
                </a:solidFill>
                <a:latin typeface="Franklin Gothic Book"/>
              </a:rPr>
              <a:t>Mn,Zn,Fe,Ni,| H</a:t>
            </a:r>
            <a:r>
              <a:rPr b="0" lang="en-US" sz="1400" spc="-1" strike="noStrike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en-US" sz="3200" spc="-1" strike="noStrike">
                <a:solidFill>
                  <a:srgbClr val="993300"/>
                </a:solidFill>
                <a:latin typeface="Franklin Gothic Book"/>
              </a:rPr>
              <a:t>|Cu,Hg,Ag,P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993300"/>
                </a:solidFill>
                <a:latin typeface="Franklin Gothic Book"/>
              </a:rPr>
              <a:t>Na,Mg,Al              Sn,Pb                          Au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Катионы металлов не   |  Катионы металлов  и молекулы воды|  Катионы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восстанавливаются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            восстанавливаются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                            </a:t>
            </a: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металлов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Восстанавливается вода                                                                      восстанавливаются       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ipe dir="r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2768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914400" y="3571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 u="sng">
                <a:solidFill>
                  <a:srgbClr val="993300"/>
                </a:solidFill>
                <a:uFillTx/>
                <a:latin typeface="Franklin Gothic Book"/>
              </a:rPr>
              <a:t>    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Franklin Gothic Book"/>
              </a:rPr>
              <a:t>Cu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Franklin Gothic Book"/>
              </a:rPr>
              <a:t>2+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Franklin Gothic Book"/>
              </a:rPr>
              <a:t> + 2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Franklin Gothic Book"/>
              </a:rPr>
              <a:t>–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Franklin Gothic Book"/>
              </a:rPr>
              <a:t> = Cu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Franklin Gothic Book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Franklin Gothic Book"/>
              </a:rPr>
              <a:t>, 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Franklin Gothic Book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Franklin Gothic Book"/>
              </a:rPr>
              <a:t>=0,337 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2H</a:t>
            </a:r>
            <a:r>
              <a:rPr b="1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O + 2e</a:t>
            </a:r>
            <a:r>
              <a:rPr b="1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 = H</a:t>
            </a:r>
            <a:r>
              <a:rPr b="1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 + 2OH</a:t>
            </a:r>
            <a:r>
              <a:rPr b="1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, E</a:t>
            </a:r>
            <a:r>
              <a:rPr b="1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=–0,83 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Прямоугольник 4"/>
          <p:cNvSpPr/>
          <p:nvPr/>
        </p:nvSpPr>
        <p:spPr>
          <a:xfrm>
            <a:off x="214200" y="357120"/>
            <a:ext cx="8286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Катионы металлов со стандартным электродным потенциалом, большим, чем у </a:t>
            </a:r>
            <a:r>
              <a:rPr b="0" lang="tt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ВОДОРОДА, 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расположены в ряду напряжений после него: Cu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Hg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Ag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Pt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..., до Pt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4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. При электролизе они почти полностью восстанавливаются на катоде и выделяются в виде мет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214200" y="100440"/>
            <a:ext cx="8715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. Катионы металлов с малой величиной стандартного электродного потенциала (катионы металлов начала ряда напряжений Li</a:t>
            </a:r>
            <a:r>
              <a:rPr b="0" lang="ru-RU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, Na</a:t>
            </a:r>
            <a:r>
              <a:rPr b="0" lang="ru-RU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, K</a:t>
            </a:r>
            <a:r>
              <a:rPr b="0" lang="ru-RU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, Rb</a:t>
            </a:r>
            <a:r>
              <a:rPr b="0" lang="ru-RU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, ..., до Al</a:t>
            </a:r>
            <a:r>
              <a:rPr b="0" lang="ru-RU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3+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 включительно). При электролизе на катоде они не восстанавливаются, вместо них восстанавливаются молекулы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857160" y="4000680"/>
            <a:ext cx="7358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O + 2e</a:t>
            </a:r>
            <a:r>
              <a:rPr b="0" lang="en-US" sz="3200" spc="-1" strike="noStrike" baseline="30000">
                <a:solidFill>
                  <a:srgbClr val="9933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= H</a:t>
            </a:r>
            <a:r>
              <a:rPr b="0" lang="en-US" sz="32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+ 2OH</a:t>
            </a:r>
            <a:r>
              <a:rPr b="0" lang="en-US" sz="3200" spc="-1" strike="noStrike" baseline="30000">
                <a:solidFill>
                  <a:srgbClr val="9933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, E</a:t>
            </a:r>
            <a:r>
              <a:rPr b="0" lang="en-US" sz="3200" spc="-1" strike="noStrike" baseline="30000">
                <a:solidFill>
                  <a:srgbClr val="9933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=–0,83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50920" y="1163880"/>
            <a:ext cx="8643960" cy="84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3. Катионы металлов со стандартным электродным потенциалом меньшим, чем у ВОДОРОДА, но большим, чем у алюминия (Mn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Zn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Cr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3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Fe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..., до H). При электролизе эти катионы, характеризующиеся средними величинами электроноакцепторной способности, на катоде восстанавливаются одновременно с молекулами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buClr>
                <a:srgbClr val="6241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2413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Zn </a:t>
            </a:r>
            <a:r>
              <a:rPr b="0" lang="ru-RU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+  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2e =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Zn</a:t>
            </a:r>
            <a:r>
              <a:rPr b="0" i="1" lang="ru-RU" sz="3200" spc="-1" strike="noStrike" baseline="30000">
                <a:solidFill>
                  <a:srgbClr val="cc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2H</a:t>
            </a:r>
            <a:r>
              <a:rPr b="0" i="1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O + 2e</a:t>
            </a:r>
            <a:r>
              <a:rPr b="0" i="1" lang="ru-RU" sz="3200" spc="-1" strike="noStrike" baseline="30000">
                <a:solidFill>
                  <a:srgbClr val="cc3300"/>
                </a:solidFill>
                <a:latin typeface="Arial"/>
              </a:rPr>
              <a:t>–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= H</a:t>
            </a:r>
            <a:r>
              <a:rPr b="0" i="1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+ 2OH</a:t>
            </a:r>
            <a:r>
              <a:rPr b="0" i="1" lang="ru-RU" sz="3200" spc="-1" strike="noStrike" baseline="30000">
                <a:solidFill>
                  <a:srgbClr val="cc33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285840" y="285840"/>
            <a:ext cx="8858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4. 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На катоде легче всего разряжаются катионы того металла, которому отвечает наиболее положительный потенциал. Так, например, из смеси катионов Cu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Ag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и Zn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при достаточном напряжении на клеммах электролизера вначале восстанавливаются ионы серебра (</a:t>
            </a:r>
            <a:r>
              <a:rPr b="0" i="1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E</a:t>
            </a:r>
            <a:r>
              <a:rPr b="0" i="1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=+0,79 В), затем меди (</a:t>
            </a:r>
            <a:r>
              <a:rPr b="0" i="1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E</a:t>
            </a:r>
            <a:r>
              <a:rPr b="0" i="1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=+0,337 В) и, наконец, цинка (</a:t>
            </a:r>
            <a:r>
              <a:rPr b="0" i="1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E</a:t>
            </a:r>
            <a:r>
              <a:rPr b="0" i="1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0,76 В).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Ag 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+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+ 2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–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= </a:t>
            </a:r>
            <a:r>
              <a:rPr b="0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Ag</a:t>
            </a:r>
            <a:r>
              <a:rPr b="0" lang="ru-RU" sz="3200" spc="-1" strike="noStrike" u="sng">
                <a:solidFill>
                  <a:srgbClr val="523227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, 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=</a:t>
            </a:r>
            <a:r>
              <a:rPr b="0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+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0,</a:t>
            </a:r>
            <a:r>
              <a:rPr b="0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79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4"/>
          <p:cNvSpPr/>
          <p:nvPr/>
        </p:nvSpPr>
        <p:spPr>
          <a:xfrm flipV="1" rot="10800000">
            <a:off x="285480" y="4142160"/>
            <a:ext cx="5884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Cu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2+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+ 2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–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= Cu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, 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=</a:t>
            </a:r>
            <a:r>
              <a:rPr b="0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+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0,337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5"/>
          <p:cNvSpPr/>
          <p:nvPr/>
        </p:nvSpPr>
        <p:spPr>
          <a:xfrm>
            <a:off x="357120" y="5176800"/>
            <a:ext cx="51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Zn </a:t>
            </a:r>
            <a:r>
              <a:rPr b="0" lang="ru-RU" sz="3200" spc="-1" strike="noStrike" u="sng" baseline="30000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2+  </a:t>
            </a:r>
            <a:r>
              <a:rPr b="0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 +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2e =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Zn</a:t>
            </a:r>
            <a:r>
              <a:rPr b="0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0</a:t>
            </a:r>
            <a:r>
              <a:rPr b="0" lang="en-US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6"/>
          <p:cNvSpPr/>
          <p:nvPr/>
        </p:nvSpPr>
        <p:spPr>
          <a:xfrm>
            <a:off x="3786120" y="51436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=</a:t>
            </a:r>
            <a:r>
              <a:rPr b="0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-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0,</a:t>
            </a:r>
            <a:r>
              <a:rPr b="0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76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аноде происходит окисление анионов или молекул воды ( частицы  отдают электронов -  окисляются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нионы по их способности окисляться располагаются в следующем порядке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Iˉ,Brˉ,S²ˉ,Clˉ,OHˉ, SO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²ˉ,NO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ˉ,Fˉ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------------------------------------------------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---------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→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сстановительная активность уменьшает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798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2Cl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– 2e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= Cl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        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2H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O – 4e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= O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+ 4H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+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4OH</a:t>
            </a:r>
            <a:r>
              <a:rPr b="0" i="1" lang="en-US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– 4e</a:t>
            </a:r>
            <a:r>
              <a:rPr b="0" i="1" lang="en-US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= 2H</a:t>
            </a:r>
            <a:r>
              <a:rPr b="0" i="1" lang="en-US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O + O</a:t>
            </a:r>
            <a:r>
              <a:rPr b="0" i="1" lang="en-US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нионы кислородосодержащих кислот не окисляются, так как их стандартный потенциал намного превышает потенциал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ды        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2SO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4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2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– 2e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= S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O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8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2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0" i="1" lang="ru-RU" sz="3200" spc="-1" strike="noStrike">
                <a:solidFill>
                  <a:srgbClr val="ff0000"/>
                </a:solidFill>
                <a:latin typeface="Franklin Gothic Book"/>
              </a:rPr>
              <a:t>E</a:t>
            </a:r>
            <a:r>
              <a:rPr b="0" i="1" lang="ru-RU" sz="3200" spc="-1" strike="noStrike" baseline="30000">
                <a:solidFill>
                  <a:srgbClr val="ff0000"/>
                </a:solidFill>
                <a:latin typeface="Franklin Gothic Book"/>
              </a:rPr>
              <a:t>0</a:t>
            </a:r>
            <a:r>
              <a:rPr b="0" i="1" lang="ru-RU" sz="3200" spc="-1" strike="noStrike">
                <a:solidFill>
                  <a:srgbClr val="ff0000"/>
                </a:solidFill>
                <a:latin typeface="Franklin Gothic Book"/>
              </a:rPr>
              <a:t>=+2,01 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этому вместо них  окисляется вода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2H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O – 4e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= O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+ 4H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+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0" i="1" lang="ru-RU" sz="3200" spc="-1" strike="noStrike">
                <a:solidFill>
                  <a:srgbClr val="c00000"/>
                </a:solidFill>
                <a:latin typeface="Franklin Gothic Book"/>
              </a:rPr>
              <a:t>E</a:t>
            </a:r>
            <a:r>
              <a:rPr b="0" i="1" lang="ru-RU" sz="3200" spc="-1" strike="noStrike" baseline="30000">
                <a:solidFill>
                  <a:srgbClr val="c00000"/>
                </a:solidFill>
                <a:latin typeface="Franklin Gothic Book"/>
              </a:rPr>
              <a:t>0</a:t>
            </a:r>
            <a:r>
              <a:rPr b="0" i="1" lang="ru-RU" sz="3200" spc="-1" strike="noStrike">
                <a:solidFill>
                  <a:srgbClr val="c00000"/>
                </a:solidFill>
                <a:latin typeface="Franklin Gothic Book"/>
              </a:rPr>
              <a:t>=1,228 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8:22:58Z</dcterms:created>
  <dc:creator>я</dc:creator>
  <dc:description/>
  <dc:language>en-US</dc:language>
  <cp:lastModifiedBy>Home</cp:lastModifiedBy>
  <dcterms:modified xsi:type="dcterms:W3CDTF">2012-12-19T16:55:59Z</dcterms:modified>
  <cp:revision>470</cp:revision>
  <dc:subject/>
  <dc:title>Слайд 1</dc:title>
</cp:coreProperties>
</file>