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D9B0-EB78-4C14-B723-E74CCF3E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84FB-8BEB-498D-B375-7C2A2AB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34AD-1FA2-43AA-87C0-937F21C6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19D1-95DD-471C-988A-CA7D6485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C356-1715-48C9-8E68-36D53F1D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005-FA47-4157-9EB8-35940CA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6886-6490-43EB-9587-D07FD60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5FA-6F71-4902-B394-F8FB2B8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461-130E-4BD0-BF19-CD060E90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BAC4-1795-467D-ABBB-A7315489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5004-6B1B-4C43-9F32-B9DB9D7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09BB-ED17-4A43-97A0-C6744F3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BF30-55E1-43AF-9F63-65AED7B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7C1D-7CDA-46D5-ADAC-75D90506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4C31-0172-4413-9248-CBE183E1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2E9-8086-4DA0-AD6C-0DAA02FB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4CD9-13A5-43F4-AA6A-E2B7B3EF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5157-9263-47D4-825F-C6C602B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C112-4D9E-4776-A4B4-9F46C7F3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5D4B-4AEB-456B-8E37-04013ABA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17F6D-7582-4D83-A150-9D9636D5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B098-F128-451D-9101-E0BB4604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47BB-2DB9-47A0-8196-5B08C51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76D8-B0CB-4675-8619-717B327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D43-6A6D-492F-B09D-3F88744A5D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DE1-DD34-4248-A884-42690CECDC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5002811"/>
          <p:cNvPicPr/>
          <p:nvPr/>
        </p:nvPicPr>
        <p:blipFill>
          <a:blip r:embed="rId1"/>
          <a:stretch/>
        </p:blipFill>
        <p:spPr>
          <a:xfrm>
            <a:off x="-152280" y="41904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sf6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38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5800" y="4114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МОУ Селенгушская средняя 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зывает цвета в любой последовательности, ученики ставят на круги пальцы, начиная с больш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1295280" y="1768320"/>
            <a:ext cx="62182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ассажа ладоней используем мячи. Развитие мышц руки тесно связано с развитием мышления и реч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1295280" y="1676520"/>
            <a:ext cx="63151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расслаб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ерхность мяча покры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енькими ши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3989520"/>
            <a:ext cx="4037040" cy="18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ый путь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го здоровья – это формирование балан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бразовательной средой в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изиологическими процес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sf7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1b2a7_393756ea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 rot="21470400">
            <a:off x="1041480" y="759960"/>
            <a:ext cx="73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спользование простейших тренажёр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проведении физкультмину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орнеева Н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xt518"/>
          <p:cNvPicPr/>
          <p:nvPr/>
        </p:nvPicPr>
        <p:blipFill>
          <a:blip r:embed="rId1"/>
          <a:stretch/>
        </p:blipFill>
        <p:spPr>
          <a:xfrm rot="21379200">
            <a:off x="457200" y="1379520"/>
            <a:ext cx="3581280" cy="232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S5002763"/>
          <p:cNvPicPr/>
          <p:nvPr/>
        </p:nvPicPr>
        <p:blipFill>
          <a:blip r:embed="rId2"/>
          <a:stretch/>
        </p:blipFill>
        <p:spPr>
          <a:xfrm rot="473400">
            <a:off x="4495320" y="1599840"/>
            <a:ext cx="4038840" cy="28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txt520"/>
          <p:cNvPicPr/>
          <p:nvPr/>
        </p:nvPicPr>
        <p:blipFill>
          <a:blip r:embed="rId3"/>
          <a:stretch/>
        </p:blipFill>
        <p:spPr>
          <a:xfrm rot="452400">
            <a:off x="380880" y="3962520"/>
            <a:ext cx="4114800" cy="248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xt521"/>
          <p:cNvPicPr/>
          <p:nvPr/>
        </p:nvPicPr>
        <p:blipFill>
          <a:blip r:embed="rId4"/>
          <a:stretch/>
        </p:blipFill>
        <p:spPr>
          <a:xfrm rot="21298800">
            <a:off x="4723920" y="3962160"/>
            <a:ext cx="3962520" cy="2359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80880" y="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ые физкультминутки, игры, походы - это часть системы использования здоровьесберегающих технологий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304920" y="685800"/>
            <a:ext cx="71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лопрогулка по родным места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3" descr="3333"/>
          <p:cNvPicPr/>
          <p:nvPr/>
        </p:nvPicPr>
        <p:blipFill>
          <a:blip r:embed="rId1"/>
          <a:stretch/>
        </p:blipFill>
        <p:spPr>
          <a:xfrm>
            <a:off x="4952880" y="1495440"/>
            <a:ext cx="3953160" cy="269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444"/>
          <p:cNvPicPr/>
          <p:nvPr/>
        </p:nvPicPr>
        <p:blipFill>
          <a:blip r:embed="rId2"/>
          <a:stretch/>
        </p:blipFill>
        <p:spPr>
          <a:xfrm>
            <a:off x="228600" y="1523880"/>
            <a:ext cx="4114800" cy="279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txt522"/>
          <p:cNvPicPr/>
          <p:nvPr/>
        </p:nvPicPr>
        <p:blipFill>
          <a:blip r:embed="rId3"/>
          <a:stretch/>
        </p:blipFill>
        <p:spPr>
          <a:xfrm>
            <a:off x="2133720" y="3581280"/>
            <a:ext cx="502920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День здоровь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666"/>
          <p:cNvPicPr/>
          <p:nvPr/>
        </p:nvPicPr>
        <p:blipFill>
          <a:blip r:embed="rId1"/>
          <a:stretch/>
        </p:blipFill>
        <p:spPr>
          <a:xfrm rot="21146400">
            <a:off x="4648320" y="3809880"/>
            <a:ext cx="4222800" cy="265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555"/>
          <p:cNvPicPr/>
          <p:nvPr/>
        </p:nvPicPr>
        <p:blipFill>
          <a:blip r:embed="rId2"/>
          <a:stretch/>
        </p:blipFill>
        <p:spPr>
          <a:xfrm rot="681000">
            <a:off x="304560" y="3733920"/>
            <a:ext cx="4167000" cy="25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5002655"/>
          <p:cNvPicPr/>
          <p:nvPr/>
        </p:nvPicPr>
        <p:blipFill>
          <a:blip r:embed="rId3"/>
          <a:stretch/>
        </p:blipFill>
        <p:spPr>
          <a:xfrm>
            <a:off x="2819520" y="1600200"/>
            <a:ext cx="38098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оши катанья с гор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SC00687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оей работе я использую тренажёры, которые помогают мне разнообразить физкультминутку и динамические переме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ём ученики делают эти тренажёры на уроках технолог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Изображение"/>
          <p:cNvPicPr/>
          <p:nvPr/>
        </p:nvPicPr>
        <p:blipFill>
          <a:blip r:embed="rId1"/>
          <a:stretch/>
        </p:blipFill>
        <p:spPr>
          <a:xfrm>
            <a:off x="990720" y="1676520"/>
            <a:ext cx="65228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енную помощь в улучшении самочувствия оказывают массаж и самомассаж, особенно полезно воздействие на активные точки стопы, так как здесь находится проекция всех частей тела. С этой целью мы изготавливаем тренажёр для массажа стоп. На плотную ткань каждый ученик пришивает пуговицы разных размеров. Теперь можно снять обувь и потоптаться на ков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простое пособие – палочка-выруч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371600" y="1494000"/>
            <a:ext cx="6437160" cy="53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11-22T09:58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