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AEEB7-3C27-48F4-95AD-76907C0F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ACC6D-2D5A-4B8C-9546-A404C3FD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381E5-C834-473A-AEA6-96E23B15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E549-5AED-4783-AEBA-FA03E6F0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ABD0-174D-42D8-8452-36B8174A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41C0-C734-4B26-9F51-82C323FD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F18C-58D3-4AD0-918F-0CDFBF61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5D3F-D82E-4BA7-A25E-AAF8D5DB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AF0A-3EBA-49DB-80CA-F4FE9F3D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F0C3-7855-4A64-8FA6-0B8E8555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57AE-6AFD-4367-8016-D62B062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70D3-A0B9-4242-BB20-BB410BCA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9376-8378-452E-8680-760EDF97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D441-32A9-41E9-A2CB-4EB7B15C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F508-1B64-456C-9BB0-89529DBD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B506-74A4-42C6-B234-93F2E10A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DB7C-E0E0-45E9-A4E9-91E4A1B5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E7A1-349C-4474-A346-2073324B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AD9D-F1ED-4871-A576-27E79FCC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C084-4A12-4334-89B8-6FE7086D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CD83-0589-4B41-A0AD-53983EEC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2ED9-4DDD-42AD-B223-9646C9D1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5C07-AA84-44A1-BB29-0909AA7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54E2-A8DB-4C7F-8796-1803E1C8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F0B1-4AE4-491E-B157-FA769EAD42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E808-E667-4911-A617-2BCA303969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5002811"/>
          <p:cNvPicPr/>
          <p:nvPr/>
        </p:nvPicPr>
        <p:blipFill>
          <a:blip r:embed="rId1"/>
          <a:stretch/>
        </p:blipFill>
        <p:spPr>
          <a:xfrm>
            <a:off x="-152280" y="419040"/>
            <a:ext cx="7924680" cy="594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sf6"/>
          <p:cNvPicPr/>
          <p:nvPr/>
        </p:nvPicPr>
        <p:blipFill>
          <a:blip r:embed="rId2"/>
          <a:stretch/>
        </p:blipFill>
        <p:spPr>
          <a:xfrm>
            <a:off x="-533520" y="0"/>
            <a:ext cx="9677520" cy="6838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685800" y="41148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МОУ Селенгушская средняя шк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зывает цвета в любой последовательности, ученики ставят на круги пальцы, начиная с больш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1295280" y="1768320"/>
            <a:ext cx="6218280" cy="50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массажа ладоней используем мячи. Развитие мышц руки тесно связано с развитием мышления и реч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Изображение 004"/>
          <p:cNvPicPr/>
          <p:nvPr/>
        </p:nvPicPr>
        <p:blipFill>
          <a:blip r:embed="rId1"/>
          <a:stretch/>
        </p:blipFill>
        <p:spPr>
          <a:xfrm>
            <a:off x="1295280" y="1676520"/>
            <a:ext cx="63151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расслаб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609480" y="1752480"/>
            <a:ext cx="78487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ерхность мяча покры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ленькими шип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762120" y="1752480"/>
            <a:ext cx="784836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3989520"/>
            <a:ext cx="4037040" cy="18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9760" y="1980720"/>
            <a:ext cx="403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ьный путь с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ого здоровья – это формирование балан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образовательной средой в шк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физиологическими процесс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о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sf7"/>
          <p:cNvPicPr/>
          <p:nvPr/>
        </p:nvPicPr>
        <p:blipFill>
          <a:blip r:embed="rId1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_1b2a7_393756ea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 rot="21470400">
            <a:off x="1041480" y="759960"/>
            <a:ext cx="7300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спользование простейших тренажёро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 проведении физкультминут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орнеева Н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txt518"/>
          <p:cNvPicPr/>
          <p:nvPr/>
        </p:nvPicPr>
        <p:blipFill>
          <a:blip r:embed="rId1"/>
          <a:stretch/>
        </p:blipFill>
        <p:spPr>
          <a:xfrm rot="21379200">
            <a:off x="457200" y="1379520"/>
            <a:ext cx="3581280" cy="232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S5002763"/>
          <p:cNvPicPr/>
          <p:nvPr/>
        </p:nvPicPr>
        <p:blipFill>
          <a:blip r:embed="rId2"/>
          <a:stretch/>
        </p:blipFill>
        <p:spPr>
          <a:xfrm rot="473400">
            <a:off x="4495320" y="1599840"/>
            <a:ext cx="4038840" cy="281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txt520"/>
          <p:cNvPicPr/>
          <p:nvPr/>
        </p:nvPicPr>
        <p:blipFill>
          <a:blip r:embed="rId3"/>
          <a:stretch/>
        </p:blipFill>
        <p:spPr>
          <a:xfrm rot="452400">
            <a:off x="380880" y="3962520"/>
            <a:ext cx="4114800" cy="248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txt521"/>
          <p:cNvPicPr/>
          <p:nvPr/>
        </p:nvPicPr>
        <p:blipFill>
          <a:blip r:embed="rId4"/>
          <a:stretch/>
        </p:blipFill>
        <p:spPr>
          <a:xfrm rot="21298800">
            <a:off x="4723920" y="3962160"/>
            <a:ext cx="3962520" cy="2359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80880" y="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доровительные физкультминутки, игры, походы - это часть системы использования здоровьесберегающих технологий 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304920" y="685800"/>
            <a:ext cx="710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лопрогулка по родным места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3" descr="3333"/>
          <p:cNvPicPr/>
          <p:nvPr/>
        </p:nvPicPr>
        <p:blipFill>
          <a:blip r:embed="rId1"/>
          <a:stretch/>
        </p:blipFill>
        <p:spPr>
          <a:xfrm>
            <a:off x="4952880" y="1495440"/>
            <a:ext cx="3953160" cy="2698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444"/>
          <p:cNvPicPr/>
          <p:nvPr/>
        </p:nvPicPr>
        <p:blipFill>
          <a:blip r:embed="rId2"/>
          <a:stretch/>
        </p:blipFill>
        <p:spPr>
          <a:xfrm>
            <a:off x="228600" y="1523880"/>
            <a:ext cx="4114800" cy="279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txt522"/>
          <p:cNvPicPr/>
          <p:nvPr/>
        </p:nvPicPr>
        <p:blipFill>
          <a:blip r:embed="rId3"/>
          <a:stretch/>
        </p:blipFill>
        <p:spPr>
          <a:xfrm>
            <a:off x="2133720" y="3581280"/>
            <a:ext cx="502920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это День здоровья в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666"/>
          <p:cNvPicPr/>
          <p:nvPr/>
        </p:nvPicPr>
        <p:blipFill>
          <a:blip r:embed="rId1"/>
          <a:stretch/>
        </p:blipFill>
        <p:spPr>
          <a:xfrm rot="21146400">
            <a:off x="4648320" y="3809880"/>
            <a:ext cx="4222800" cy="265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555"/>
          <p:cNvPicPr/>
          <p:nvPr/>
        </p:nvPicPr>
        <p:blipFill>
          <a:blip r:embed="rId2"/>
          <a:stretch/>
        </p:blipFill>
        <p:spPr>
          <a:xfrm rot="681000">
            <a:off x="304560" y="3733920"/>
            <a:ext cx="4167000" cy="257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5002655"/>
          <p:cNvPicPr/>
          <p:nvPr/>
        </p:nvPicPr>
        <p:blipFill>
          <a:blip r:embed="rId3"/>
          <a:stretch/>
        </p:blipFill>
        <p:spPr>
          <a:xfrm>
            <a:off x="2819520" y="1600200"/>
            <a:ext cx="38098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роши катанья с горк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DSC00687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воей работе я использую тренажёры, которые помогают мне разнообразить физкультминутку и динамические перемен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ём ученики делают эти тренажёры на уроках технолог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Изображение"/>
          <p:cNvPicPr/>
          <p:nvPr/>
        </p:nvPicPr>
        <p:blipFill>
          <a:blip r:embed="rId1"/>
          <a:stretch/>
        </p:blipFill>
        <p:spPr>
          <a:xfrm>
            <a:off x="990720" y="1676520"/>
            <a:ext cx="65228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ественную помощь в улучшении самочувствия оказывают массаж и самомассаж, особенно полезно воздействие на активные точки стопы, так как здесь находится проекция всех частей тела. С этой целью мы изготавливаем тренажёр для массажа стоп. На плотную ткань каждый ученик пришивает пуговицы разных размеров. Теперь можно снять обувь и потоптаться на ковр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1447920" y="1905120"/>
            <a:ext cx="6095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простое пособие – палочка-выруча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1371600" y="1494000"/>
            <a:ext cx="6437160" cy="53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дежда</cp:lastModifiedBy>
  <dcterms:modified xsi:type="dcterms:W3CDTF">2012-11-22T09:58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