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89E57-C892-4A60-A43F-ED78D302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B852B-5055-41D6-A818-56D96BE6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C7194-AFA0-4F10-989F-6060CDFC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DD8CA-61C0-465D-A98E-3C808E0D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3AB8-EEAA-4FD0-B9CE-3B615797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4EE1-6D2A-45CD-8C4F-327AEB1A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6D8F-0BCF-4E76-A4E8-63BDF324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FF7D-4D71-446F-BC49-6F4C9DAE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749D-1373-4A87-A7AE-E6F22F27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2671-9C59-4B5D-BB93-56F6ED35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6D20-5DAE-4D85-BD2F-2AF894BE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F82C-26D9-478D-A14E-9865B91D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D4AA-6831-4039-8BD9-56AFA868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597D-2BA9-4EE5-96CD-72980E54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4170-5D42-4372-9925-405EBC95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6951-2D0D-4B83-80B5-E2EABB20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7D37-FE94-4D31-9C7B-BA374CAC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8BA0-1651-44C6-B9F7-74CC0CB0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8A916-4467-4413-B978-40CEB9B1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2FF79-CD2E-4E29-8756-8186F54F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7C13-B377-4576-88AA-E52A552C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F22DE-F418-4996-A656-07213EBE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C0D50-2699-4CE0-98A6-82DB8622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EDF0-CF48-4FDC-B169-81B7CAEB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5A04-0F0B-43BE-8222-FC6F6486FF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6369-EAB4-4161-931A-16F1F766DF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11280" y="4868640"/>
            <a:ext cx="8532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ru-RU" sz="4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03640" y="1989000"/>
            <a:ext cx="5256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осфор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6666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Bookman Old Style"/>
              </a:rPr>
              <a:t> </a:t>
            </a:r>
            <a:r>
              <a:rPr b="1" lang="ru-RU" sz="4400" spc="-1" strike="noStrike">
                <a:solidFill>
                  <a:srgbClr val="00007d"/>
                </a:solidFill>
                <a:latin typeface="Bookman Old Style"/>
              </a:rPr>
              <a:t>С металла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Bookman Old Style"/>
              </a:rPr>
              <a:t>              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a + P =</a:t>
            </a:r>
            <a:r>
              <a:rPr b="1" lang="en-US" sz="4400" spc="-1" strike="noStrike">
                <a:solidFill>
                  <a:srgbClr val="666699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6666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Bookman Old Style"/>
              </a:rPr>
              <a:t>C </a:t>
            </a:r>
            <a:r>
              <a:rPr b="1" lang="ru-RU" sz="4400" spc="-1" strike="noStrike">
                <a:solidFill>
                  <a:srgbClr val="00007d"/>
                </a:solidFill>
                <a:latin typeface="Bookman Old Style"/>
              </a:rPr>
              <a:t>неметалла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             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P + 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666699"/>
                </a:solidFill>
                <a:latin typeface="Bookman Old Style"/>
              </a:rPr>
              <a:t>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P + S =</a:t>
            </a:r>
            <a:r>
              <a:rPr b="1" lang="en-US" sz="4400" spc="-1" strike="noStrike">
                <a:solidFill>
                  <a:srgbClr val="666699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Bookman Old Style"/>
              </a:rPr>
              <a:t>ХИМИЧЕСКИЕ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66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7d"/>
                </a:solidFill>
                <a:latin typeface="Bookman Old Style"/>
              </a:rPr>
              <a:t>с бертолетовой солью при ударе взрывается, воспламеняется</a:t>
            </a:r>
            <a:r>
              <a:rPr b="1" lang="ru-RU" sz="4400" spc="-1" strike="noStrike">
                <a:solidFill>
                  <a:srgbClr val="00007d"/>
                </a:solidFill>
                <a:latin typeface="Bookman Old Style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Cl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+ P = 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+ K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21457200">
            <a:off x="6588000" y="4005360"/>
            <a:ext cx="2266920" cy="16840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140360" y="4772160"/>
            <a:ext cx="2857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11280" y="476280"/>
            <a:ext cx="8229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1280" y="1268280"/>
            <a:ext cx="1224000" cy="10796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99ff"/>
                </a:solidFill>
                <a:latin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060640"/>
            <a:ext cx="3097080" cy="718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ОРГАНИЗ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80000" y="2060640"/>
            <a:ext cx="3097440" cy="718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МИНЕР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2852640"/>
            <a:ext cx="144360" cy="289080"/>
          </a:xfrm>
          <a:prstGeom prst="downArrow">
            <a:avLst>
              <a:gd name="adj1" fmla="val 50000"/>
              <a:gd name="adj2" fmla="val 50062"/>
            </a:avLst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203640" y="1700280"/>
            <a:ext cx="503280" cy="2160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1628640"/>
            <a:ext cx="503280" cy="36036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3213000"/>
            <a:ext cx="3527280" cy="2449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ФОСФОЛИПИ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ФЕРМЕНТ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ФОСФАТ КАЛЬЦИЯ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 ЭФИ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ОРТОФОСФОР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5950080"/>
            <a:ext cx="3097080" cy="718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Bookman Old Style"/>
              </a:rPr>
              <a:t>В ЗУБАХ И КОСТ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8000" y="5589720"/>
            <a:ext cx="144720" cy="288720"/>
          </a:xfrm>
          <a:prstGeom prst="downArrow">
            <a:avLst>
              <a:gd name="adj1" fmla="val 50000"/>
              <a:gd name="adj2" fmla="val 49876"/>
            </a:avLst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20000" y="2852640"/>
            <a:ext cx="144360" cy="289080"/>
          </a:xfrm>
          <a:prstGeom prst="downArrow">
            <a:avLst>
              <a:gd name="adj1" fmla="val 50000"/>
              <a:gd name="adj2" fmla="val 50062"/>
            </a:avLst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3284640"/>
            <a:ext cx="3527640" cy="1439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ФОСФОР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БИРЮ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АПАТ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Bookman Old Style"/>
              </a:rPr>
              <a:t>НАХОЖДЕНИЕ В ПРИРО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580000" y="4913280"/>
            <a:ext cx="3024360" cy="1944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727960" y="6369120"/>
            <a:ext cx="17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АПАТ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Физиологическое действие </a:t>
            </a:r>
            <a:br>
              <a:rPr sz="4000"/>
            </a:b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белого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063960" cy="3168720"/>
          </a:xfrm>
          <a:prstGeom prst="rect">
            <a:avLst/>
          </a:prstGeom>
          <a:ln w="0">
            <a:noFill/>
          </a:ln>
        </p:spPr>
      </p:pic>
      <p:pic>
        <p:nvPicPr>
          <p:cNvPr id="176" name="i-main-pic" descr="Картинка 51 из 132"/>
          <p:cNvPicPr/>
          <p:nvPr/>
        </p:nvPicPr>
        <p:blipFill>
          <a:blip r:embed="rId2"/>
          <a:stretch/>
        </p:blipFill>
        <p:spPr>
          <a:xfrm>
            <a:off x="6191280" y="206064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335640" y="50835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н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резмерного количеств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сфо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088600"/>
            <a:ext cx="32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ление лягушек с уродствами -результа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н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сфор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добрений, которые смываются в реки и пру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2808360" cy="3673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492360" y="5734080"/>
            <a:ext cx="242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сфорн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кр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оражение челюс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Times New Roman"/>
              </a:rPr>
              <a:t>Получение фос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06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греванием смеси фосфорита, угля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ска в электропе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en-US" sz="3000" spc="-1" strike="noStrike" baseline="-14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PO</a:t>
            </a:r>
            <a:r>
              <a:rPr b="1" lang="en-US" sz="3000" spc="-1" strike="noStrike" baseline="-14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000" spc="-1" strike="noStrike" baseline="-14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 C + SiO</a:t>
            </a:r>
            <a:r>
              <a:rPr b="1" lang="en-US" sz="3000" spc="-1" strike="noStrike" baseline="-14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1" lang="en-US" sz="3000" spc="-1" strike="noStrike" baseline="-14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 CaSiO</a:t>
            </a:r>
            <a:r>
              <a:rPr b="1" lang="en-US" sz="3000" spc="-1" strike="noStrike" baseline="-14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 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2296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Bookman Old Style"/>
              </a:rPr>
              <a:t>ПРИМЕНЕНИЕ ФОСФ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95640" y="2852640"/>
            <a:ext cx="1152720" cy="936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341360"/>
            <a:ext cx="2952720" cy="5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б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2276640"/>
            <a:ext cx="29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дохимик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3213000"/>
            <a:ext cx="295272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ств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ич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4365720"/>
            <a:ext cx="2952720" cy="93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ымовых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</a:rPr>
              <a:t>заве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5950080"/>
            <a:ext cx="29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провод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4365720"/>
            <a:ext cx="2952720" cy="93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ас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3213000"/>
            <a:ext cx="295272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щита о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рроз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2276640"/>
            <a:ext cx="29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ягчение в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1413000"/>
            <a:ext cx="29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ющие сред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88000" y="1699920"/>
            <a:ext cx="100800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348000" y="1628640"/>
            <a:ext cx="100800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276360" y="2492280"/>
            <a:ext cx="718920" cy="6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076720" y="2420640"/>
            <a:ext cx="79056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348000" y="3500280"/>
            <a:ext cx="71928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48360" y="3429000"/>
            <a:ext cx="718920" cy="7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716280"/>
            <a:ext cx="79200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348000" y="3716280"/>
            <a:ext cx="93672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3789360"/>
            <a:ext cx="0" cy="20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0920" y="3860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7d"/>
                </a:solidFill>
                <a:latin typeface="Times New Roman"/>
              </a:rPr>
              <a:t>. Задач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Какова масса фосфора в вашем теле, если известно, что фосфор составляет ≈1% от массы тел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55640" y="476280"/>
            <a:ext cx="41050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Times New Roman"/>
              </a:rPr>
              <a:t>ПОВТО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1197000"/>
            <a:ext cx="8424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ЗАКОНЧИТЕ УРАВН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 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  + P =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кажите окислитель и восстанови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72360" y="6524640"/>
            <a:ext cx="647640" cy="333360"/>
          </a:xfrm>
          <a:prstGeom prst="rightArrow">
            <a:avLst>
              <a:gd name="adj1" fmla="val 50000"/>
              <a:gd name="adj2" fmla="val 4856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4450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Осуществите превращ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602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6093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6021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Bookman Old Style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00000" y="1413000"/>
            <a:ext cx="7417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дготовить сообщения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)об истории спичек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) о биологической роли фосфора и его соединени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6093000"/>
            <a:ext cx="3240000" cy="475920"/>
          </a:xfrm>
          <a:custGeom>
            <a:avLst/>
            <a:gdLst>
              <a:gd name="textAreaLeft" fmla="*/ 810000 w 3240000"/>
              <a:gd name="textAreaRight" fmla="*/ 2430000 w 3240000"/>
              <a:gd name="textAreaTop" fmla="*/ 59400 h 475920"/>
              <a:gd name="textAreaBottom" fmla="*/ 476280 h 47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</a:rPr>
              <a:t>ПОВТОРИ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1116000" y="2133720"/>
            <a:ext cx="7416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9999cc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ookman Old Style"/>
              </a:rPr>
              <a:t>СПАСИБО ЗА УРОК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9999cc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16" name="">
            <a:hlinkClick r:id="" action="ppaction://hlinkshowjump?jump=endshow"/>
          </p:cNvPr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8668" y="10800"/>
                </a:moveTo>
                <a:lnTo>
                  <a:pt x="8162" y="17806"/>
                </a:lnTo>
                <a:lnTo>
                  <a:pt x="8162" y="3794"/>
                </a:lnTo>
                <a:close/>
              </a:path>
              <a:path fill="darken" w="30338" h="21600">
                <a:moveTo>
                  <a:pt x="20513" y="3794"/>
                </a:moveTo>
                <a:lnTo>
                  <a:pt x="20513" y="17806"/>
                </a:lnTo>
                <a:lnTo>
                  <a:pt x="22175" y="17806"/>
                </a:lnTo>
                <a:lnTo>
                  <a:pt x="22175" y="3794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33940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Цели урока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ить усвоение учащимися знаний о фосфоре как о химическом элементе и простом веществ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лотропных видоизменениях фосфо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торить зависимость свойств вещества от его состава и стро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умение сравнива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ствовать формированию материалистического мировоззрения, нравственному воспитанию школьник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402920" y="6021000"/>
            <a:ext cx="6542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Прав ли был Артур Конан-Дойл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6921360" cy="55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Открытие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4392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Гамбургский алхим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еннинг Бра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«Фосфор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греческого «светоносн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38750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30720" y="914400"/>
            <a:ext cx="4013280" cy="4495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1557360"/>
            <a:ext cx="13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и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6560" y="260280"/>
            <a:ext cx="78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Фосфор как химический элемен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40360" y="1628640"/>
            <a:ext cx="790560" cy="35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520" y="256536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2492280"/>
            <a:ext cx="790560" cy="35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" y="342900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ентных электро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3573360"/>
            <a:ext cx="790560" cy="35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3240" y="450864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епени ок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3640" y="4581360"/>
            <a:ext cx="1800000" cy="43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520" y="54450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ший окс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51280" y="5445000"/>
            <a:ext cx="1152360" cy="43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160" y="61657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дородное соеди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6237360"/>
            <a:ext cx="790560" cy="358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59640" y="6381720"/>
            <a:ext cx="503280" cy="476280"/>
          </a:xfrm>
          <a:prstGeom prst="rightArrow">
            <a:avLst>
              <a:gd name="adj1" fmla="val 50000"/>
              <a:gd name="adj2" fmla="val 2641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 rot="10800000">
            <a:off x="3203280" y="1773000"/>
            <a:ext cx="2808360" cy="180000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Times New Roman"/>
              </a:rPr>
              <a:t>АЛЛОТРОПНЫЕ МОДИФИКА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1844640"/>
            <a:ext cx="1224000" cy="10796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ff"/>
                </a:solidFill>
                <a:latin typeface="Verdan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1844640"/>
            <a:ext cx="2160720" cy="790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6699"/>
                </a:solidFill>
                <a:uFillTx/>
                <a:latin typeface="Bookman Old Style"/>
              </a:rPr>
              <a:t>БЕЛ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00720" y="1844640"/>
            <a:ext cx="2160720" cy="790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6699"/>
                </a:solidFill>
                <a:uFillTx/>
                <a:latin typeface="Bookman Old Style"/>
              </a:rPr>
              <a:t>КРАС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64000" y="3716280"/>
            <a:ext cx="2160360" cy="790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6699"/>
                </a:solidFill>
                <a:uFillTx/>
                <a:latin typeface="Bookman Old Style"/>
              </a:rPr>
              <a:t>ЧЕР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72360" y="4653000"/>
            <a:ext cx="2268360" cy="1944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2298600" cy="1633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372360" y="2781360"/>
            <a:ext cx="2292120" cy="1627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203640" y="4797360"/>
            <a:ext cx="2798640" cy="1663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826920" y="4581360"/>
            <a:ext cx="2144880" cy="2090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3920" y="549360"/>
            <a:ext cx="824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Сравните физические свой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АЛЛОТРОПНЫХ МОДИФИКАЦИЙ ФОСФ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8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385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38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38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7493"/>
                </a:moveTo>
                <a:lnTo>
                  <a:pt x="10919" y="7493"/>
                </a:lnTo>
                <a:lnTo>
                  <a:pt x="10919" y="12828"/>
                </a:lnTo>
                <a:cubicBezTo>
                  <a:pt x="10919" y="13751"/>
                  <a:pt x="11720" y="14482"/>
                  <a:pt x="12756" y="14482"/>
                </a:cubicBezTo>
                <a:lnTo>
                  <a:pt x="14418" y="14482"/>
                </a:lnTo>
                <a:cubicBezTo>
                  <a:pt x="15454" y="14482"/>
                  <a:pt x="16254" y="13751"/>
                  <a:pt x="16254" y="12828"/>
                </a:cubicBezTo>
                <a:lnTo>
                  <a:pt x="16254" y="7493"/>
                </a:lnTo>
                <a:lnTo>
                  <a:pt x="14418" y="7493"/>
                </a:lnTo>
                <a:lnTo>
                  <a:pt x="17926" y="3985"/>
                </a:lnTo>
                <a:lnTo>
                  <a:pt x="21599" y="7493"/>
                </a:lnTo>
                <a:lnTo>
                  <a:pt x="19762" y="7493"/>
                </a:lnTo>
                <a:lnTo>
                  <a:pt x="19762" y="12828"/>
                </a:lnTo>
                <a:cubicBezTo>
                  <a:pt x="19762" y="15596"/>
                  <a:pt x="17186" y="18155"/>
                  <a:pt x="14418" y="18155"/>
                </a:cubicBezTo>
                <a:lnTo>
                  <a:pt x="12756" y="18155"/>
                </a:lnTo>
                <a:cubicBezTo>
                  <a:pt x="9988" y="18155"/>
                  <a:pt x="7412" y="15596"/>
                  <a:pt x="7412" y="12828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784836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   </a:t>
            </a: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Молекулы </a:t>
            </a:r>
            <a:r>
              <a:rPr b="0" lang="en-US" sz="2200" spc="-1" strike="noStrike">
                <a:solidFill>
                  <a:srgbClr val="00007d"/>
                </a:solidFill>
                <a:latin typeface="Bookman Old Style"/>
              </a:rPr>
              <a:t>P</a:t>
            </a:r>
            <a:r>
              <a:rPr b="0" lang="ru-RU" sz="2200" spc="-1" strike="noStrike" baseline="-25000">
                <a:solidFill>
                  <a:srgbClr val="00007d"/>
                </a:solidFill>
                <a:latin typeface="Bookman Old Style"/>
              </a:rPr>
              <a:t>4</a:t>
            </a: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 имеют форму тетраэдра. Это легкоплавкое </a:t>
            </a:r>
            <a:r>
              <a:rPr b="0" lang="en-US" sz="2200" spc="-1" strike="noStrike">
                <a:solidFill>
                  <a:srgbClr val="00007d"/>
                </a:solidFill>
                <a:latin typeface="Bookman Old Style"/>
              </a:rPr>
              <a:t>t</a:t>
            </a: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(пл)=44,1</a:t>
            </a:r>
            <a:r>
              <a:rPr b="0" lang="ru-RU" sz="2200" spc="-1" strike="noStrike" baseline="30000">
                <a:solidFill>
                  <a:srgbClr val="00007d"/>
                </a:solidFill>
                <a:latin typeface="Bookman Old Style"/>
              </a:rPr>
              <a:t>о</a:t>
            </a: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С, </a:t>
            </a:r>
            <a:r>
              <a:rPr b="0" lang="en-US" sz="2200" spc="-1" strike="noStrike">
                <a:solidFill>
                  <a:srgbClr val="00007d"/>
                </a:solidFill>
                <a:latin typeface="Bookman Old Style"/>
              </a:rPr>
              <a:t>t</a:t>
            </a: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(кип)=275</a:t>
            </a:r>
            <a:r>
              <a:rPr b="0" lang="ru-RU" sz="2200" spc="-1" strike="noStrike" baseline="30000">
                <a:solidFill>
                  <a:srgbClr val="00007d"/>
                </a:solidFill>
                <a:latin typeface="Bookman Old Style"/>
              </a:rPr>
              <a:t>о</a:t>
            </a: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С, мягкое, бесцветное воскообразное вещество. Хорошо растворяется в сероуглероде и ряде других органических растворителей. Ядовит, воспламеняется на воздухе, светится в темноте. Хранят его под слоем вод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Bookman Old Style"/>
              </a:rPr>
              <a:t>БЕЛЫЙ ФОСФ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340000" y="1154160"/>
            <a:ext cx="41767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7493"/>
                </a:moveTo>
                <a:lnTo>
                  <a:pt x="10919" y="7493"/>
                </a:lnTo>
                <a:lnTo>
                  <a:pt x="10919" y="12828"/>
                </a:lnTo>
                <a:cubicBezTo>
                  <a:pt x="10919" y="13751"/>
                  <a:pt x="11720" y="14482"/>
                  <a:pt x="12756" y="14482"/>
                </a:cubicBezTo>
                <a:lnTo>
                  <a:pt x="14418" y="14482"/>
                </a:lnTo>
                <a:cubicBezTo>
                  <a:pt x="15454" y="14482"/>
                  <a:pt x="16254" y="13751"/>
                  <a:pt x="16254" y="12828"/>
                </a:cubicBezTo>
                <a:lnTo>
                  <a:pt x="16254" y="7493"/>
                </a:lnTo>
                <a:lnTo>
                  <a:pt x="14418" y="7493"/>
                </a:lnTo>
                <a:lnTo>
                  <a:pt x="17926" y="3985"/>
                </a:lnTo>
                <a:lnTo>
                  <a:pt x="21599" y="7493"/>
                </a:lnTo>
                <a:lnTo>
                  <a:pt x="19762" y="7493"/>
                </a:lnTo>
                <a:lnTo>
                  <a:pt x="19762" y="12828"/>
                </a:lnTo>
                <a:cubicBezTo>
                  <a:pt x="19762" y="15596"/>
                  <a:pt x="17186" y="18155"/>
                  <a:pt x="14418" y="18155"/>
                </a:cubicBezTo>
                <a:lnTo>
                  <a:pt x="12756" y="18155"/>
                </a:lnTo>
                <a:cubicBezTo>
                  <a:pt x="9988" y="18155"/>
                  <a:pt x="7412" y="15596"/>
                  <a:pt x="7412" y="12828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508640"/>
            <a:ext cx="813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6699"/>
                </a:solidFill>
                <a:latin typeface="Bookman Old Style"/>
              </a:rPr>
              <a:t>   </a:t>
            </a: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Существует несколько форм красного фосфора Их структуры окончательно не установлены. Известно, что они являются атомными веществами с полимерной кристаллической решеткой. Их температура плавления 585-600</a:t>
            </a:r>
            <a:r>
              <a:rPr b="0" lang="ru-RU" sz="2200" spc="-1" strike="noStrike" baseline="30000">
                <a:solidFill>
                  <a:srgbClr val="00007d"/>
                </a:solidFill>
                <a:latin typeface="Bookman Old Style"/>
              </a:rPr>
              <a:t>о</a:t>
            </a: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С, цвет от темно-корчневого до красного и фиолетового. Не ядови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Bookman Old Style"/>
              </a:rPr>
              <a:t>КРАСНЫЙ ФОСФ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53708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7493"/>
                </a:moveTo>
                <a:lnTo>
                  <a:pt x="10919" y="7493"/>
                </a:lnTo>
                <a:lnTo>
                  <a:pt x="10919" y="12828"/>
                </a:lnTo>
                <a:cubicBezTo>
                  <a:pt x="10919" y="13751"/>
                  <a:pt x="11720" y="14482"/>
                  <a:pt x="12756" y="14482"/>
                </a:cubicBezTo>
                <a:lnTo>
                  <a:pt x="14418" y="14482"/>
                </a:lnTo>
                <a:cubicBezTo>
                  <a:pt x="15454" y="14482"/>
                  <a:pt x="16254" y="13751"/>
                  <a:pt x="16254" y="12828"/>
                </a:cubicBezTo>
                <a:lnTo>
                  <a:pt x="16254" y="7493"/>
                </a:lnTo>
                <a:lnTo>
                  <a:pt x="14418" y="7493"/>
                </a:lnTo>
                <a:lnTo>
                  <a:pt x="17926" y="3985"/>
                </a:lnTo>
                <a:lnTo>
                  <a:pt x="21599" y="7493"/>
                </a:lnTo>
                <a:lnTo>
                  <a:pt x="19762" y="7493"/>
                </a:lnTo>
                <a:lnTo>
                  <a:pt x="19762" y="12828"/>
                </a:lnTo>
                <a:cubicBezTo>
                  <a:pt x="19762" y="15596"/>
                  <a:pt x="17186" y="18155"/>
                  <a:pt x="14418" y="18155"/>
                </a:cubicBezTo>
                <a:lnTo>
                  <a:pt x="12756" y="18155"/>
                </a:lnTo>
                <a:cubicBezTo>
                  <a:pt x="9988" y="18155"/>
                  <a:pt x="7412" y="15596"/>
                  <a:pt x="7412" y="12828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450864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Bookman Old Style"/>
              </a:rPr>
              <a:t>   </a:t>
            </a:r>
            <a:r>
              <a:rPr b="0" lang="ru-RU" sz="2400" spc="-1" strike="noStrike">
                <a:solidFill>
                  <a:srgbClr val="00007d"/>
                </a:solidFill>
                <a:latin typeface="Bookman Old Style"/>
              </a:rPr>
              <a:t>Черный фосфор имеет слоистую атомную кристаллическую решетку. По внешнему виду похож на графит, но является полупроводником. Не ядов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Bookman Old Style"/>
              </a:rPr>
              <a:t>ЧЕРНЫЙ ФОСФ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8960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2-12-19T17:28:12Z</dcterms:modified>
  <cp:revision>23</cp:revision>
  <dc:subject/>
  <dc:title>PowerPoint Presentation</dc:title>
</cp:coreProperties>
</file>