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4126-C77A-4940-89F1-06CCD050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F6DB-7388-4717-B9B3-822A630E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4BBB-24DA-48B2-BADD-42749468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5835-DEEA-45C5-92DF-EAD63C37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0051-B209-49E8-81A8-B60C86C4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FADC-DE2E-438F-8B3E-DD9CA5CD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A290-87C9-4571-9E61-D3A816BF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F814-1F1D-4E29-A514-2B99D34D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C706-984C-4B89-A825-CE6809A1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6B8F-2843-4EB1-86CF-0A754365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1873-2312-4532-B4C0-7EF5220D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078E-64E4-4A92-B795-EB0BBCDD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CF45-EE31-4BB5-B392-B7E8AFE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E8CF-D9C3-41BD-8BEE-C651BD32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A3CE-D0A0-4298-BA1B-4B980DC2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8310-F2D4-4978-ACAA-16E0F13D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A26-BEA7-41A1-9501-7A17B3FE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5ACC-9051-4E3D-8FFE-7452E6C3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B288-BB33-42F8-9D1B-0682831D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A7F9C-E62B-43C2-9DA6-5B7F9E85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950F-81DF-4B02-8072-06B226E3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CC536-801C-40CB-8D4B-37CCE3B3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F222-1A89-4806-8F08-D8C1C52A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2618-07CD-4D39-8479-287697D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6A0-C372-4AF7-B1A4-81BDE7B65E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994E-57ED-4E45-B950-86F75A370D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11280" y="4868640"/>
            <a:ext cx="8532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ru-RU" sz="4000" spc="-1" strike="noStrike">
              <a:solidFill>
                <a:srgbClr val="00007d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03640" y="1989000"/>
            <a:ext cx="5256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осфор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Bookman Old Style"/>
              </a:rPr>
              <a:t> </a:t>
            </a:r>
            <a:r>
              <a:rPr b="1" lang="ru-RU" sz="4400" spc="-1" strike="noStrike">
                <a:solidFill>
                  <a:srgbClr val="00007d"/>
                </a:solidFill>
                <a:latin typeface="Bookman Old Style"/>
              </a:rPr>
              <a:t>С металл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a + P =</a:t>
            </a: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Bookman Old Style"/>
              </a:rPr>
              <a:t>C </a:t>
            </a:r>
            <a:r>
              <a:rPr b="1" lang="ru-RU" sz="4400" spc="-1" strike="noStrike">
                <a:solidFill>
                  <a:srgbClr val="00007d"/>
                </a:solidFill>
                <a:latin typeface="Bookman Old Style"/>
              </a:rPr>
              <a:t>неметалл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P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666699"/>
                </a:solidFill>
                <a:latin typeface="Bookman Old Style"/>
              </a:rPr>
              <a:t>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P + S =</a:t>
            </a: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Bookman Old Style"/>
              </a:rPr>
              <a:t>Х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7d"/>
                </a:solidFill>
                <a:latin typeface="Bookman Old Style"/>
              </a:rPr>
              <a:t>с бертолетовой солью при ударе взрывается, воспламеняется</a:t>
            </a:r>
            <a:r>
              <a:rPr b="1" lang="ru-RU" sz="4400" spc="-1" strike="noStrike">
                <a:solidFill>
                  <a:srgbClr val="00007d"/>
                </a:solidFill>
                <a:latin typeface="Bookman Old Style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Cl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+ P = 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 K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21457200">
            <a:off x="6588000" y="4005360"/>
            <a:ext cx="2266920" cy="1684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40360" y="4772160"/>
            <a:ext cx="2857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11280" y="476280"/>
            <a:ext cx="8229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1268280"/>
            <a:ext cx="1224000" cy="10796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99ff"/>
                </a:solidFill>
                <a:latin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060640"/>
            <a:ext cx="3097080" cy="718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ОРГАНИЗ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0000" y="2060640"/>
            <a:ext cx="3097440" cy="718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МИНЕР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285264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203640" y="1700280"/>
            <a:ext cx="503280" cy="216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1628640"/>
            <a:ext cx="503280" cy="36036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3213000"/>
            <a:ext cx="3527280" cy="24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ФОСФОЛИПИ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ФЕРМЕНТ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ФОСФАТ КАЛЬЦИЯ</a:t>
            </a:r>
            <a:br>
              <a:rPr sz="2400"/>
            </a:b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 ЭФИ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ОРТОФОСФОР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5950080"/>
            <a:ext cx="3097080" cy="718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Bookman Old Style"/>
              </a:rPr>
              <a:t>В ЗУБАХ И КОСТ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8000" y="5589720"/>
            <a:ext cx="144720" cy="288720"/>
          </a:xfrm>
          <a:prstGeom prst="downArrow">
            <a:avLst>
              <a:gd name="adj1" fmla="val 50000"/>
              <a:gd name="adj2" fmla="val 49876"/>
            </a:avLst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285264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3284640"/>
            <a:ext cx="3527640" cy="1439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ФОСФОР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БИРЮ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Bookman Old Style"/>
              </a:rPr>
              <a:t>АПАТ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33"/>
                </a:solidFill>
                <a:latin typeface="Bookman Old Style"/>
              </a:rPr>
              <a:t>НАХОЖДЕНИЕ В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80000" y="4913280"/>
            <a:ext cx="3024360" cy="1944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727960" y="636912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ПА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Физиологическое действие </a:t>
            </a:r>
            <a:br>
              <a:rPr sz="4000"/>
            </a:b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белого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063960" cy="3168720"/>
          </a:xfrm>
          <a:prstGeom prst="rect">
            <a:avLst/>
          </a:prstGeom>
          <a:ln w="0">
            <a:noFill/>
          </a:ln>
        </p:spPr>
      </p:pic>
      <p:pic>
        <p:nvPicPr>
          <p:cNvPr id="176" name="i-main-pic" descr="Картинка 51 из 132"/>
          <p:cNvPicPr/>
          <p:nvPr/>
        </p:nvPicPr>
        <p:blipFill>
          <a:blip r:embed="rId2"/>
          <a:stretch/>
        </p:blipFill>
        <p:spPr>
          <a:xfrm>
            <a:off x="6191280" y="206064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335640" y="50835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мерного количеств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сф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08860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лягушек с уродствами -результа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н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сфор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добрений, которые смываются в реки и пру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2808360" cy="3673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92360" y="573408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сфорн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кр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ражение челю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imes New Roman"/>
              </a:rPr>
              <a:t>Получение фосф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06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греванием смеси фосфорита, угля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ска в электропе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C + SiO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CaSiO</a:t>
            </a:r>
            <a:r>
              <a:rPr b="1" lang="en-US" sz="3000" spc="-1" strike="noStrike" baseline="-14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+ 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Bookman Old Style"/>
              </a:rPr>
              <a:t>ПРИМЕНЕНИЕ ФОС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2852640"/>
            <a:ext cx="1152720" cy="936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341360"/>
            <a:ext cx="2952720" cy="5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б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227664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дохимик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213000"/>
            <a:ext cx="295272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ч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4365720"/>
            <a:ext cx="295272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ымовых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</a:rPr>
              <a:t>зав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595008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проводн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4365720"/>
            <a:ext cx="2952720" cy="93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извод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213000"/>
            <a:ext cx="295272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щита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ро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227664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мягчение в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413000"/>
            <a:ext cx="29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ющие сре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88000" y="1699920"/>
            <a:ext cx="100800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348000" y="1628640"/>
            <a:ext cx="100800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276360" y="2492280"/>
            <a:ext cx="71892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76720" y="2420640"/>
            <a:ext cx="79056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348000" y="3500280"/>
            <a:ext cx="71928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8360" y="3429000"/>
            <a:ext cx="71892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71628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348000" y="3716280"/>
            <a:ext cx="93672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789360"/>
            <a:ext cx="0" cy="20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0920" y="3860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7d"/>
                </a:solidFill>
                <a:latin typeface="Times New Roman"/>
              </a:rPr>
              <a:t>. Задач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Какова масса фосфора в вашем теле, если известно, что фосфор составляет ≈1% от массы те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55640" y="476280"/>
            <a:ext cx="41050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Times New Roman"/>
              </a:rPr>
              <a:t>ПОВТО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1197000"/>
            <a:ext cx="842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ЗАКОНЧИТЕ УРАВН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  + P =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кажите окислитель и восстанови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72360" y="6524640"/>
            <a:ext cx="647640" cy="333360"/>
          </a:xfrm>
          <a:prstGeom prst="rightArrow">
            <a:avLst>
              <a:gd name="adj1" fmla="val 50000"/>
              <a:gd name="adj2" fmla="val 4856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445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Осуществите превращ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602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6093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6021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Bookman Old Style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1413000"/>
            <a:ext cx="7417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дготовить сообщения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)об истории спичек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) о биологической роли фосфора и его соединени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6093000"/>
            <a:ext cx="3240000" cy="475920"/>
          </a:xfrm>
          <a:custGeom>
            <a:avLst/>
            <a:gdLst>
              <a:gd name="textAreaLeft" fmla="*/ 810000 w 3240000"/>
              <a:gd name="textAreaRight" fmla="*/ 2430000 w 3240000"/>
              <a:gd name="textAreaTop" fmla="*/ 59400 h 475920"/>
              <a:gd name="textAreaBottom" fmla="*/ 476280 h 47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Times New Roman"/>
              </a:rPr>
              <a:t>ПОВТОРИ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116000" y="2133720"/>
            <a:ext cx="7416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99cc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СПАСИБО ЗА УРОК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99cc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16" name="">
            <a:hlinkClick r:id="" action="ppaction://hlinkshowjump?jump=endshow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8668" y="10800"/>
                </a:moveTo>
                <a:lnTo>
                  <a:pt x="8162" y="17806"/>
                </a:lnTo>
                <a:lnTo>
                  <a:pt x="8162" y="3794"/>
                </a:lnTo>
                <a:close/>
              </a:path>
              <a:path fill="darken" w="30338" h="21600">
                <a:moveTo>
                  <a:pt x="20513" y="3794"/>
                </a:moveTo>
                <a:lnTo>
                  <a:pt x="20513" y="17806"/>
                </a:lnTo>
                <a:lnTo>
                  <a:pt x="22175" y="17806"/>
                </a:lnTo>
                <a:lnTo>
                  <a:pt x="22175" y="3794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33940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Цели урока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ть усвоение учащимися знаний о фосфоре как о химическом элементе и простом веществ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лотропных видоизменениях фосф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ить зависимость свойств вещества от его состава и стро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вать умение сравнива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ствовать формированию материалистического мировоззрения, нравственному воспитанию школьник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02920" y="6021000"/>
            <a:ext cx="6542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Прав ли был Артур Конан-Дойл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921360" cy="55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Открытие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4392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Гамбургский алхим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еннинг Бр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«Фосфор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греческого «светонос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38750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30720" y="914400"/>
            <a:ext cx="4013280" cy="4495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1557360"/>
            <a:ext cx="13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6560" y="260280"/>
            <a:ext cx="78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Фосфор как химический элемен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1628640"/>
            <a:ext cx="790560" cy="35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520" y="25653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2492280"/>
            <a:ext cx="790560" cy="35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" y="342900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ентных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3573360"/>
            <a:ext cx="790560" cy="35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240" y="450864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епени ок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4581360"/>
            <a:ext cx="180000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520" y="5445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ший окс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5445000"/>
            <a:ext cx="1152360" cy="43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160" y="6165720"/>
            <a:ext cx="33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ородное соеди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6237360"/>
            <a:ext cx="790560" cy="358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59640" y="6381720"/>
            <a:ext cx="503280" cy="476280"/>
          </a:xfrm>
          <a:prstGeom prst="rightArrow">
            <a:avLst>
              <a:gd name="adj1" fmla="val 50000"/>
              <a:gd name="adj2" fmla="val 2641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0800000">
            <a:off x="3203280" y="1773000"/>
            <a:ext cx="2808360" cy="18000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АЛЛОТРОПНЫЕ МОДИФИКА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844640"/>
            <a:ext cx="1224000" cy="10796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ff"/>
                </a:solidFill>
                <a:latin typeface="Verdana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844640"/>
            <a:ext cx="216072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Bookman Old Style"/>
              </a:rPr>
              <a:t>БЕЛ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1844640"/>
            <a:ext cx="216072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Bookman Old Style"/>
              </a:rPr>
              <a:t>КРА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3716280"/>
            <a:ext cx="2160360" cy="790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7d"/>
            </a:solidFill>
            <a:miter/>
          </a:ln>
          <a:effectLst>
            <a:outerShdw dist="107932" dir="189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66699"/>
                </a:solidFill>
                <a:uFillTx/>
                <a:latin typeface="Bookman Old Style"/>
              </a:rPr>
              <a:t>ЧЕ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72360" y="4653000"/>
            <a:ext cx="2268360" cy="194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2298600" cy="1633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2292120" cy="1627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203640" y="4797360"/>
            <a:ext cx="2798640" cy="1663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826920" y="4581360"/>
            <a:ext cx="2144880" cy="2090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3920" y="549360"/>
            <a:ext cx="824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Сравните физические сво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АЛЛОТРОПНЫХ МОДИФИКАЦИЙ ФОСФ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8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385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38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838836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7493"/>
                </a:moveTo>
                <a:lnTo>
                  <a:pt x="10919" y="7493"/>
                </a:lnTo>
                <a:lnTo>
                  <a:pt x="10919" y="12828"/>
                </a:lnTo>
                <a:cubicBezTo>
                  <a:pt x="10919" y="13751"/>
                  <a:pt x="11720" y="14482"/>
                  <a:pt x="12756" y="14482"/>
                </a:cubicBezTo>
                <a:lnTo>
                  <a:pt x="14418" y="14482"/>
                </a:lnTo>
                <a:cubicBezTo>
                  <a:pt x="15454" y="14482"/>
                  <a:pt x="16254" y="13751"/>
                  <a:pt x="16254" y="12828"/>
                </a:cubicBezTo>
                <a:lnTo>
                  <a:pt x="16254" y="7493"/>
                </a:lnTo>
                <a:lnTo>
                  <a:pt x="14418" y="7493"/>
                </a:lnTo>
                <a:lnTo>
                  <a:pt x="17926" y="3985"/>
                </a:lnTo>
                <a:lnTo>
                  <a:pt x="21599" y="7493"/>
                </a:lnTo>
                <a:lnTo>
                  <a:pt x="19762" y="7493"/>
                </a:lnTo>
                <a:lnTo>
                  <a:pt x="19762" y="12828"/>
                </a:lnTo>
                <a:cubicBezTo>
                  <a:pt x="19762" y="15596"/>
                  <a:pt x="17186" y="18155"/>
                  <a:pt x="14418" y="18155"/>
                </a:cubicBezTo>
                <a:lnTo>
                  <a:pt x="12756" y="18155"/>
                </a:lnTo>
                <a:cubicBezTo>
                  <a:pt x="9988" y="18155"/>
                  <a:pt x="7412" y="15596"/>
                  <a:pt x="7412" y="12828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784836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   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Молекулы </a:t>
            </a:r>
            <a:r>
              <a:rPr b="0" lang="en-US" sz="2200" spc="-1" strike="noStrike">
                <a:solidFill>
                  <a:srgbClr val="00007d"/>
                </a:solidFill>
                <a:latin typeface="Bookman Old Style"/>
              </a:rPr>
              <a:t>P</a:t>
            </a:r>
            <a:r>
              <a:rPr b="0" lang="ru-RU" sz="2200" spc="-1" strike="noStrike" baseline="-25000">
                <a:solidFill>
                  <a:srgbClr val="00007d"/>
                </a:solidFill>
                <a:latin typeface="Bookman Old Style"/>
              </a:rPr>
              <a:t>4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 имеют форму тетраэдра. Это легкоплавкое </a:t>
            </a:r>
            <a:r>
              <a:rPr b="0" lang="en-US" sz="2200" spc="-1" strike="noStrike">
                <a:solidFill>
                  <a:srgbClr val="00007d"/>
                </a:solidFill>
                <a:latin typeface="Bookman Old Style"/>
              </a:rPr>
              <a:t>t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(пл)=44,1</a:t>
            </a:r>
            <a:r>
              <a:rPr b="0" lang="ru-RU" sz="2200" spc="-1" strike="noStrike" baseline="30000">
                <a:solidFill>
                  <a:srgbClr val="00007d"/>
                </a:solidFill>
                <a:latin typeface="Bookman Old Style"/>
              </a:rPr>
              <a:t>о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С, </a:t>
            </a:r>
            <a:r>
              <a:rPr b="0" lang="en-US" sz="2200" spc="-1" strike="noStrike">
                <a:solidFill>
                  <a:srgbClr val="00007d"/>
                </a:solidFill>
                <a:latin typeface="Bookman Old Style"/>
              </a:rPr>
              <a:t>t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(кип)=275</a:t>
            </a:r>
            <a:r>
              <a:rPr b="0" lang="ru-RU" sz="2200" spc="-1" strike="noStrike" baseline="30000">
                <a:solidFill>
                  <a:srgbClr val="00007d"/>
                </a:solidFill>
                <a:latin typeface="Bookman Old Style"/>
              </a:rPr>
              <a:t>о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С, мягкое, бесцветное воскообразное вещество. Хорошо растворяется в сероуглероде и ряде других органических растворителей. Ядовит, воспламеняется на воздухе, светится в темноте. Хранят его под слоем вод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Bookman Old Style"/>
              </a:rPr>
              <a:t>БЕЛЫЙ ФОСФ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40000" y="1154160"/>
            <a:ext cx="41767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7493"/>
                </a:moveTo>
                <a:lnTo>
                  <a:pt x="10919" y="7493"/>
                </a:lnTo>
                <a:lnTo>
                  <a:pt x="10919" y="12828"/>
                </a:lnTo>
                <a:cubicBezTo>
                  <a:pt x="10919" y="13751"/>
                  <a:pt x="11720" y="14482"/>
                  <a:pt x="12756" y="14482"/>
                </a:cubicBezTo>
                <a:lnTo>
                  <a:pt x="14418" y="14482"/>
                </a:lnTo>
                <a:cubicBezTo>
                  <a:pt x="15454" y="14482"/>
                  <a:pt x="16254" y="13751"/>
                  <a:pt x="16254" y="12828"/>
                </a:cubicBezTo>
                <a:lnTo>
                  <a:pt x="16254" y="7493"/>
                </a:lnTo>
                <a:lnTo>
                  <a:pt x="14418" y="7493"/>
                </a:lnTo>
                <a:lnTo>
                  <a:pt x="17926" y="3985"/>
                </a:lnTo>
                <a:lnTo>
                  <a:pt x="21599" y="7493"/>
                </a:lnTo>
                <a:lnTo>
                  <a:pt x="19762" y="7493"/>
                </a:lnTo>
                <a:lnTo>
                  <a:pt x="19762" y="12828"/>
                </a:lnTo>
                <a:cubicBezTo>
                  <a:pt x="19762" y="15596"/>
                  <a:pt x="17186" y="18155"/>
                  <a:pt x="14418" y="18155"/>
                </a:cubicBezTo>
                <a:lnTo>
                  <a:pt x="12756" y="18155"/>
                </a:lnTo>
                <a:cubicBezTo>
                  <a:pt x="9988" y="18155"/>
                  <a:pt x="7412" y="15596"/>
                  <a:pt x="7412" y="12828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508640"/>
            <a:ext cx="813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6699"/>
                </a:solidFill>
                <a:latin typeface="Bookman Old Style"/>
              </a:rPr>
              <a:t>   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Существует несколько форм красного фосфора Их структуры окончательно не установлены. Известно, что они являются атомными веществами с полимерной кристаллической решеткой. Их температура плавления 585-600</a:t>
            </a:r>
            <a:r>
              <a:rPr b="0" lang="ru-RU" sz="2200" spc="-1" strike="noStrike" baseline="30000">
                <a:solidFill>
                  <a:srgbClr val="00007d"/>
                </a:solidFill>
                <a:latin typeface="Bookman Old Style"/>
              </a:rPr>
              <a:t>о</a:t>
            </a:r>
            <a:r>
              <a:rPr b="0" lang="ru-RU" sz="2200" spc="-1" strike="noStrike">
                <a:solidFill>
                  <a:srgbClr val="00007d"/>
                </a:solidFill>
                <a:latin typeface="Bookman Old Style"/>
              </a:rPr>
              <a:t>С, цвет от темно-корчневого до красного и фиолетового. Не ядови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Bookman Old Style"/>
              </a:rPr>
              <a:t>КРАСНЫЙ ФОС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5370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7493"/>
                </a:moveTo>
                <a:lnTo>
                  <a:pt x="10919" y="7493"/>
                </a:lnTo>
                <a:lnTo>
                  <a:pt x="10919" y="12828"/>
                </a:lnTo>
                <a:cubicBezTo>
                  <a:pt x="10919" y="13751"/>
                  <a:pt x="11720" y="14482"/>
                  <a:pt x="12756" y="14482"/>
                </a:cubicBezTo>
                <a:lnTo>
                  <a:pt x="14418" y="14482"/>
                </a:lnTo>
                <a:cubicBezTo>
                  <a:pt x="15454" y="14482"/>
                  <a:pt x="16254" y="13751"/>
                  <a:pt x="16254" y="12828"/>
                </a:cubicBezTo>
                <a:lnTo>
                  <a:pt x="16254" y="7493"/>
                </a:lnTo>
                <a:lnTo>
                  <a:pt x="14418" y="7493"/>
                </a:lnTo>
                <a:lnTo>
                  <a:pt x="17926" y="3985"/>
                </a:lnTo>
                <a:lnTo>
                  <a:pt x="21599" y="7493"/>
                </a:lnTo>
                <a:lnTo>
                  <a:pt x="19762" y="7493"/>
                </a:lnTo>
                <a:lnTo>
                  <a:pt x="19762" y="12828"/>
                </a:lnTo>
                <a:cubicBezTo>
                  <a:pt x="19762" y="15596"/>
                  <a:pt x="17186" y="18155"/>
                  <a:pt x="14418" y="18155"/>
                </a:cubicBezTo>
                <a:lnTo>
                  <a:pt x="12756" y="18155"/>
                </a:lnTo>
                <a:cubicBezTo>
                  <a:pt x="9988" y="18155"/>
                  <a:pt x="7412" y="15596"/>
                  <a:pt x="7412" y="12828"/>
                </a:cubicBez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450864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7d"/>
                </a:solidFill>
                <a:latin typeface="Bookman Old Style"/>
              </a:rPr>
              <a:t>Черный фосфор имеет слоистую атомную кристаллическую решетку. По внешнему виду похож на графит, но является полупроводником. Не ядов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Bookman Old Style"/>
              </a:rPr>
              <a:t>ЧЕРНЫЙ ФОС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8960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12-19T17:28:12Z</dcterms:modified>
  <cp:revision>23</cp:revision>
  <dc:subject/>
  <dc:title>PowerPoint Presentation</dc:title>
</cp:coreProperties>
</file>