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4.png" ContentType="image/png"/>
  <Override PartName="/ppt/media/image7.png" ContentType="image/png"/>
  <Override PartName="/ppt/media/image1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" Target="slide2.xml"/><Relationship Id="rId4" Type="http://schemas.openxmlformats.org/officeDocument/2006/relationships/hyperlink" Target="http://schoolchemistry.by.ru/" TargetMode="External"/><Relationship Id="rId5" Type="http://schemas.openxmlformats.org/officeDocument/2006/relationships/hyperlink" Target="http://schoolchemistry.by.ru/" TargetMode="External"/><Relationship Id="rId6" Type="http://schemas.openxmlformats.org/officeDocument/2006/relationships/hyperlink" Target="http://schoolchemistry.by.ru/" TargetMode="External"/><Relationship Id="rId7" Type="http://schemas.openxmlformats.org/officeDocument/2006/relationships/hyperlink" Target="http://schoolchemistry.by.ru/" TargetMode="External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44960" y="5398920"/>
            <a:ext cx="424800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5c8526"/>
              </a:solidFill>
              <a:latin typeface="Tahoma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792000" y="2195640"/>
            <a:ext cx="55436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1033560" y="395280"/>
            <a:ext cx="8640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5c8526"/>
                </a:solidFill>
                <a:latin typeface="Tahoma"/>
              </a:rPr>
              <a:t>Галогены в организме человека</a:t>
            </a:r>
            <a:r>
              <a:rPr b="1" lang="ru-RU" sz="9600" spc="-1" strike="noStrike">
                <a:solidFill>
                  <a:srgbClr val="5c8526"/>
                </a:solidFill>
                <a:latin typeface="Tahoma"/>
              </a:rPr>
              <a:t> </a:t>
            </a:r>
            <a:br>
              <a:rPr sz="6000"/>
            </a:br>
            <a:br>
              <a:rPr sz="6000"/>
            </a:br>
            <a:endParaRPr b="0" lang="en-US" sz="9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2" name="Picture 11" descr="j0283278"/>
          <p:cNvPicPr/>
          <p:nvPr/>
        </p:nvPicPr>
        <p:blipFill>
          <a:blip r:embed="rId2"/>
          <a:stretch/>
        </p:blipFill>
        <p:spPr>
          <a:xfrm>
            <a:off x="3527280" y="2916360"/>
            <a:ext cx="2514600" cy="2209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6"/>
          <p:cNvGrpSpPr/>
          <p:nvPr/>
        </p:nvGrpSpPr>
        <p:grpSpPr>
          <a:xfrm>
            <a:off x="412920" y="5495760"/>
            <a:ext cx="2755440" cy="1514160"/>
            <a:chOff x="412920" y="5495760"/>
            <a:chExt cx="2755440" cy="1514160"/>
          </a:xfrm>
        </p:grpSpPr>
        <p:sp>
          <p:nvSpPr>
            <p:cNvPr id="44" name="Freeform 5"/>
            <p:cNvSpPr/>
            <p:nvPr/>
          </p:nvSpPr>
          <p:spPr>
            <a:xfrm>
              <a:off x="412920" y="5495760"/>
              <a:ext cx="2755440" cy="1514160"/>
            </a:xfrm>
            <a:custGeom>
              <a:avLst/>
              <a:gdLst>
                <a:gd name="textAreaLeft" fmla="*/ 0 w 2755440"/>
                <a:gd name="textAreaRight" fmla="*/ 2755440 w 2755440"/>
                <a:gd name="textAreaTop" fmla="*/ 0 h 1514160"/>
                <a:gd name="textAreaBottom" fmla="*/ 1514520 h 1514160"/>
              </a:gdLst>
              <a:ahLst/>
              <a:rect l="textAreaLeft" t="textAreaTop" r="textAreaRight" b="textAreaBottom"/>
              <a:pathLst>
                <a:path w="1575" h="758">
                  <a:moveTo>
                    <a:pt x="1356" y="175"/>
                  </a:moveTo>
                  <a:cubicBezTo>
                    <a:pt x="1319" y="169"/>
                    <a:pt x="1300" y="174"/>
                    <a:pt x="1274" y="148"/>
                  </a:cubicBezTo>
                  <a:cubicBezTo>
                    <a:pt x="1246" y="120"/>
                    <a:pt x="1215" y="75"/>
                    <a:pt x="1173" y="65"/>
                  </a:cubicBezTo>
                  <a:cubicBezTo>
                    <a:pt x="1114" y="50"/>
                    <a:pt x="1058" y="26"/>
                    <a:pt x="999" y="10"/>
                  </a:cubicBezTo>
                  <a:cubicBezTo>
                    <a:pt x="947" y="14"/>
                    <a:pt x="887" y="0"/>
                    <a:pt x="844" y="29"/>
                  </a:cubicBezTo>
                  <a:cubicBezTo>
                    <a:pt x="777" y="73"/>
                    <a:pt x="854" y="44"/>
                    <a:pt x="789" y="65"/>
                  </a:cubicBezTo>
                  <a:cubicBezTo>
                    <a:pt x="762" y="62"/>
                    <a:pt x="733" y="65"/>
                    <a:pt x="707" y="56"/>
                  </a:cubicBezTo>
                  <a:cubicBezTo>
                    <a:pt x="697" y="52"/>
                    <a:pt x="700" y="29"/>
                    <a:pt x="689" y="29"/>
                  </a:cubicBezTo>
                  <a:cubicBezTo>
                    <a:pt x="561" y="23"/>
                    <a:pt x="433" y="35"/>
                    <a:pt x="305" y="38"/>
                  </a:cubicBezTo>
                  <a:cubicBezTo>
                    <a:pt x="271" y="45"/>
                    <a:pt x="237" y="49"/>
                    <a:pt x="204" y="56"/>
                  </a:cubicBezTo>
                  <a:cubicBezTo>
                    <a:pt x="179" y="61"/>
                    <a:pt x="131" y="74"/>
                    <a:pt x="131" y="74"/>
                  </a:cubicBezTo>
                  <a:cubicBezTo>
                    <a:pt x="90" y="117"/>
                    <a:pt x="140" y="65"/>
                    <a:pt x="67" y="138"/>
                  </a:cubicBezTo>
                  <a:cubicBezTo>
                    <a:pt x="61" y="144"/>
                    <a:pt x="49" y="157"/>
                    <a:pt x="49" y="157"/>
                  </a:cubicBezTo>
                  <a:cubicBezTo>
                    <a:pt x="0" y="288"/>
                    <a:pt x="23" y="159"/>
                    <a:pt x="12" y="449"/>
                  </a:cubicBezTo>
                  <a:cubicBezTo>
                    <a:pt x="56" y="628"/>
                    <a:pt x="1" y="457"/>
                    <a:pt x="451" y="495"/>
                  </a:cubicBezTo>
                  <a:cubicBezTo>
                    <a:pt x="490" y="498"/>
                    <a:pt x="432" y="526"/>
                    <a:pt x="414" y="541"/>
                  </a:cubicBezTo>
                  <a:cubicBezTo>
                    <a:pt x="384" y="566"/>
                    <a:pt x="374" y="593"/>
                    <a:pt x="341" y="614"/>
                  </a:cubicBezTo>
                  <a:cubicBezTo>
                    <a:pt x="335" y="632"/>
                    <a:pt x="329" y="651"/>
                    <a:pt x="323" y="669"/>
                  </a:cubicBezTo>
                  <a:cubicBezTo>
                    <a:pt x="320" y="678"/>
                    <a:pt x="314" y="696"/>
                    <a:pt x="314" y="696"/>
                  </a:cubicBezTo>
                  <a:cubicBezTo>
                    <a:pt x="320" y="714"/>
                    <a:pt x="314" y="745"/>
                    <a:pt x="332" y="751"/>
                  </a:cubicBezTo>
                  <a:cubicBezTo>
                    <a:pt x="355" y="758"/>
                    <a:pt x="481" y="739"/>
                    <a:pt x="524" y="733"/>
                  </a:cubicBezTo>
                  <a:cubicBezTo>
                    <a:pt x="563" y="719"/>
                    <a:pt x="595" y="699"/>
                    <a:pt x="634" y="687"/>
                  </a:cubicBezTo>
                  <a:cubicBezTo>
                    <a:pt x="713" y="628"/>
                    <a:pt x="628" y="685"/>
                    <a:pt x="707" y="650"/>
                  </a:cubicBezTo>
                  <a:cubicBezTo>
                    <a:pt x="737" y="637"/>
                    <a:pt x="748" y="616"/>
                    <a:pt x="780" y="605"/>
                  </a:cubicBezTo>
                  <a:cubicBezTo>
                    <a:pt x="1047" y="619"/>
                    <a:pt x="917" y="564"/>
                    <a:pt x="954" y="714"/>
                  </a:cubicBezTo>
                  <a:cubicBezTo>
                    <a:pt x="1097" y="711"/>
                    <a:pt x="1240" y="717"/>
                    <a:pt x="1383" y="705"/>
                  </a:cubicBezTo>
                  <a:cubicBezTo>
                    <a:pt x="1393" y="704"/>
                    <a:pt x="1388" y="686"/>
                    <a:pt x="1393" y="678"/>
                  </a:cubicBezTo>
                  <a:cubicBezTo>
                    <a:pt x="1416" y="644"/>
                    <a:pt x="1420" y="650"/>
                    <a:pt x="1457" y="641"/>
                  </a:cubicBezTo>
                  <a:cubicBezTo>
                    <a:pt x="1484" y="623"/>
                    <a:pt x="1519" y="613"/>
                    <a:pt x="1539" y="586"/>
                  </a:cubicBezTo>
                  <a:cubicBezTo>
                    <a:pt x="1552" y="569"/>
                    <a:pt x="1575" y="532"/>
                    <a:pt x="1575" y="532"/>
                  </a:cubicBezTo>
                  <a:cubicBezTo>
                    <a:pt x="1572" y="480"/>
                    <a:pt x="1571" y="428"/>
                    <a:pt x="1566" y="376"/>
                  </a:cubicBezTo>
                  <a:cubicBezTo>
                    <a:pt x="1561" y="330"/>
                    <a:pt x="1491" y="275"/>
                    <a:pt x="1457" y="248"/>
                  </a:cubicBezTo>
                  <a:cubicBezTo>
                    <a:pt x="1421" y="220"/>
                    <a:pt x="1411" y="175"/>
                    <a:pt x="1356" y="175"/>
                  </a:cubicBezTo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8000"/>
                </a:solidFill>
                <a:latin typeface="Times New Roman"/>
              </a:endParaRPr>
            </a:p>
          </p:txBody>
        </p:sp>
        <p:sp>
          <p:nvSpPr>
            <p:cNvPr id="45" name="Text Box 18"/>
            <p:cNvSpPr/>
            <p:nvPr/>
          </p:nvSpPr>
          <p:spPr>
            <a:xfrm>
              <a:off x="1268280" y="5747760"/>
              <a:ext cx="1112760" cy="11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7200" spc="-1" strike="noStrike">
                  <a:solidFill>
                    <a:srgbClr val="008000"/>
                  </a:solidFill>
                  <a:latin typeface="Times New Roman"/>
                </a:rPr>
                <a:t>С</a:t>
              </a:r>
              <a:r>
                <a:rPr b="0" lang="en-US" sz="72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endParaRPr b="0" lang="en-US" sz="7200" spc="-1" strike="noStrike">
                <a:solidFill>
                  <a:srgbClr val="008000"/>
                </a:solidFill>
                <a:latin typeface="Times New Roman"/>
              </a:endParaRPr>
            </a:p>
          </p:txBody>
        </p:sp>
      </p:grpSp>
      <p:grpSp>
        <p:nvGrpSpPr>
          <p:cNvPr id="46" name="Group 37"/>
          <p:cNvGrpSpPr/>
          <p:nvPr/>
        </p:nvGrpSpPr>
        <p:grpSpPr>
          <a:xfrm>
            <a:off x="1008000" y="3203640"/>
            <a:ext cx="1995120" cy="1837800"/>
            <a:chOff x="1008000" y="3203640"/>
            <a:chExt cx="1995120" cy="1837800"/>
          </a:xfrm>
        </p:grpSpPr>
        <p:sp>
          <p:nvSpPr>
            <p:cNvPr id="47" name="AutoShape 4"/>
            <p:cNvSpPr/>
            <p:nvPr/>
          </p:nvSpPr>
          <p:spPr>
            <a:xfrm>
              <a:off x="1008000" y="3203640"/>
              <a:ext cx="1995120" cy="1837800"/>
            </a:xfrm>
            <a:prstGeom prst="cube">
              <a:avLst>
                <a:gd name="adj" fmla="val 250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008000"/>
                </a:solidFill>
                <a:latin typeface="Times New Roman"/>
              </a:endParaRPr>
            </a:p>
          </p:txBody>
        </p:sp>
        <p:sp>
          <p:nvSpPr>
            <p:cNvPr id="48" name="Text Box 21"/>
            <p:cNvSpPr/>
            <p:nvPr/>
          </p:nvSpPr>
          <p:spPr>
            <a:xfrm>
              <a:off x="1307160" y="3687480"/>
              <a:ext cx="89928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8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en-US" sz="8000" spc="-1" strike="noStrike">
                  <a:solidFill>
                    <a:srgbClr val="00cc99"/>
                  </a:solidFill>
                  <a:latin typeface="Times New Roman"/>
                </a:rPr>
                <a:t>I</a:t>
              </a:r>
              <a:endParaRPr b="0" lang="en-US" sz="8000" spc="-1" strike="noStrike">
                <a:solidFill>
                  <a:srgbClr val="008000"/>
                </a:solidFill>
                <a:latin typeface="Times New Roman"/>
              </a:endParaRPr>
            </a:p>
          </p:txBody>
        </p:sp>
      </p:grpSp>
      <p:sp>
        <p:nvSpPr>
          <p:cNvPr id="49" name="Oval 6"/>
          <p:cNvSpPr/>
          <p:nvPr/>
        </p:nvSpPr>
        <p:spPr>
          <a:xfrm>
            <a:off x="6769080" y="3274920"/>
            <a:ext cx="1800360" cy="1649520"/>
          </a:xfrm>
          <a:prstGeom prst="ellipse">
            <a:avLst/>
          </a:prstGeom>
          <a:solidFill>
            <a:srgbClr val="d3ef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Br</a:t>
            </a:r>
            <a:endParaRPr b="0" lang="en-US" sz="72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Овал 4"/>
          <p:cNvSpPr/>
          <p:nvPr/>
        </p:nvSpPr>
        <p:spPr>
          <a:xfrm>
            <a:off x="8540640" y="5137200"/>
            <a:ext cx="857520" cy="857160"/>
          </a:xfrm>
          <a:prstGeom prst="ellipse">
            <a:avLst/>
          </a:prstGeom>
          <a:solidFill>
            <a:srgbClr val="009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Управляющая кнопка: далее 5">
            <a:hlinkClick r:id="rId2" action="ppaction://hlinksldjump"/>
          </p:cNvPr>
          <p:cNvSpPr/>
          <p:nvPr/>
        </p:nvSpPr>
        <p:spPr>
          <a:xfrm rot="10800000">
            <a:off x="8683560" y="5351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6" name="Овал 6"/>
          <p:cNvSpPr/>
          <p:nvPr/>
        </p:nvSpPr>
        <p:spPr>
          <a:xfrm>
            <a:off x="8897760" y="5748480"/>
            <a:ext cx="1000440" cy="985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9169560" y="599436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274680" y="3492360"/>
            <a:ext cx="604980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879480" y="108000"/>
            <a:ext cx="86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Применение хлора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274680" y="4059360"/>
            <a:ext cx="611820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роизводство хлорсодержащих органических соединений (60-75%), неорганических веществ (10-20%)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для отбелки целлюлозы и тканей (5-15%)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для санитарных нужд и обеззараживания (хлорирования) воды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роизводство соляной кислоты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роизводство органических растворителей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роизводство платмасс, клеев, каучуков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роизводство кожезаменителей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3"/>
          <a:stretch/>
        </p:blipFill>
        <p:spPr>
          <a:xfrm>
            <a:off x="6334200" y="4718160"/>
            <a:ext cx="1833480" cy="18334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" descr=""/>
          <p:cNvPicPr/>
          <p:nvPr/>
        </p:nvPicPr>
        <p:blipFill>
          <a:blip r:embed="rId4"/>
          <a:stretch/>
        </p:blipFill>
        <p:spPr>
          <a:xfrm>
            <a:off x="7693200" y="1363680"/>
            <a:ext cx="2266920" cy="22669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" descr=""/>
          <p:cNvPicPr/>
          <p:nvPr/>
        </p:nvPicPr>
        <p:blipFill>
          <a:blip r:embed="rId5"/>
          <a:stretch/>
        </p:blipFill>
        <p:spPr>
          <a:xfrm>
            <a:off x="1152360" y="828720"/>
            <a:ext cx="5696280" cy="327492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далее 11">
            <a:hlinkClick r:id="rId6" action="ppaction://hlinksldjump"/>
          </p:cNvPr>
          <p:cNvSpPr/>
          <p:nvPr/>
        </p:nvSpPr>
        <p:spPr>
          <a:xfrm rot="10800000">
            <a:off x="8656560" y="531936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303280" y="466200"/>
            <a:ext cx="7345080" cy="25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Бром находится в крови, мозге, печени, почках. Больше всего его в мозге. В гипофизе (мозговом придатке) брома в 2 5—50 раз больше, чем в крови, в 15—20 раз больше, чем в печени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6" name="Овал 6"/>
          <p:cNvSpPr/>
          <p:nvPr/>
        </p:nvSpPr>
        <p:spPr>
          <a:xfrm>
            <a:off x="8897760" y="5565600"/>
            <a:ext cx="1000440" cy="986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9183600" y="58514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503280" y="3995640"/>
            <a:ext cx="725148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 поводу роли брома как микроэлемента существуют некоторые сомнения, хотя достоверно известно его седативное действие. В человеческом теле средняя концентрация брома составляет около 3,7 мг/кг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727280" y="2700360"/>
            <a:ext cx="86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Бром от греческого </a:t>
            </a:r>
            <a:r>
              <a:rPr b="1" i="1" lang="ru-RU" sz="2000" spc="-1" strike="noStrike">
                <a:solidFill>
                  <a:srgbClr val="3333cc"/>
                </a:solidFill>
                <a:latin typeface="Tahoma"/>
              </a:rPr>
              <a:t>бромос 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означает зловонный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2"/>
          <a:stretch/>
        </p:blipFill>
        <p:spPr>
          <a:xfrm>
            <a:off x="287280" y="828720"/>
            <a:ext cx="210816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Овал 4"/>
          <p:cNvSpPr/>
          <p:nvPr/>
        </p:nvSpPr>
        <p:spPr>
          <a:xfrm>
            <a:off x="8540640" y="5137200"/>
            <a:ext cx="857520" cy="857160"/>
          </a:xfrm>
          <a:prstGeom prst="ellipse">
            <a:avLst/>
          </a:prstGeom>
          <a:solidFill>
            <a:srgbClr val="009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" name="Управляющая кнопка: далее 5">
            <a:hlinkClick r:id="rId2" action="ppaction://hlinksldjump"/>
          </p:cNvPr>
          <p:cNvSpPr/>
          <p:nvPr/>
        </p:nvSpPr>
        <p:spPr>
          <a:xfrm rot="10800000">
            <a:off x="8683560" y="5351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Овал 6"/>
          <p:cNvSpPr/>
          <p:nvPr/>
        </p:nvSpPr>
        <p:spPr>
          <a:xfrm>
            <a:off x="8969400" y="5721480"/>
            <a:ext cx="1000080" cy="985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4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9255240" y="596736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274680" y="3492360"/>
            <a:ext cx="604980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79480" y="108000"/>
            <a:ext cx="86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Применение брома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907920" y="1258920"/>
            <a:ext cx="503892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для получения ряда неорганических и органических веществ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соединения брома используют в качестве топливных добавок, пестицидов, ингибиторов горения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в фотоделе (AgBr) как светочувствительный материал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в медицине в качестве успокоительного средства. Успокаивающее действие бромистых препаратов основано на их способности усиливать процессы торможения в центральной нервной системе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8" name="Рисунок 1" descr=""/>
          <p:cNvPicPr/>
          <p:nvPr/>
        </p:nvPicPr>
        <p:blipFill>
          <a:blip r:embed="rId3"/>
          <a:stretch/>
        </p:blipFill>
        <p:spPr>
          <a:xfrm>
            <a:off x="5950080" y="43322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4"/>
          <a:stretch/>
        </p:blipFill>
        <p:spPr>
          <a:xfrm>
            <a:off x="6129360" y="849240"/>
            <a:ext cx="2554200" cy="3348000"/>
          </a:xfrm>
          <a:prstGeom prst="rect">
            <a:avLst/>
          </a:prstGeom>
          <a:ln w="0">
            <a:noFill/>
          </a:ln>
        </p:spPr>
      </p:pic>
      <p:sp>
        <p:nvSpPr>
          <p:cNvPr id="140" name="Управляющая кнопка: далее 10">
            <a:hlinkClick r:id="rId5" action="ppaction://hlinksldjump"/>
          </p:cNvPr>
          <p:cNvSpPr/>
          <p:nvPr/>
        </p:nvSpPr>
        <p:spPr>
          <a:xfrm rot="10800000">
            <a:off x="8631000" y="5351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165040" y="394920"/>
            <a:ext cx="756108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Содержание йода в виде различных соединений в организме человека составляет 25—30 мг. Из этого количества 15 мг находится в щитовидной железе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Йод участвует в метаболизме щитовидной железы и присущих ей гормонах. В настоящее время считают, что ведущую роль йод играет только в деятельности щитовидной железы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2" name="Овал 6"/>
          <p:cNvSpPr/>
          <p:nvPr/>
        </p:nvSpPr>
        <p:spPr>
          <a:xfrm>
            <a:off x="8897760" y="5565600"/>
            <a:ext cx="1000440" cy="986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3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9183600" y="58514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503280" y="4621320"/>
            <a:ext cx="7251480" cy="33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едостаток йода приводит к слабости, пожелтению кожи, возникновению ощущения холода и сухости. Особенно сильно это отражается на здоровье детей – они отстают в физическом и умственном развитии.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149480" y="3443400"/>
            <a:ext cx="86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Йод от греческого </a:t>
            </a:r>
            <a:r>
              <a:rPr b="1" i="1" lang="ru-RU" sz="2000" spc="-1" strike="noStrike">
                <a:solidFill>
                  <a:srgbClr val="3333cc"/>
                </a:solidFill>
                <a:latin typeface="Tahoma"/>
              </a:rPr>
              <a:t>иодэс 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означает фиолетовый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2"/>
          <a:stretch/>
        </p:blipFill>
        <p:spPr>
          <a:xfrm>
            <a:off x="503280" y="709560"/>
            <a:ext cx="1662120" cy="14749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" descr=""/>
          <p:cNvPicPr/>
          <p:nvPr/>
        </p:nvPicPr>
        <p:blipFill>
          <a:blip r:embed="rId3"/>
          <a:stretch/>
        </p:blipFill>
        <p:spPr>
          <a:xfrm>
            <a:off x="7993080" y="2484360"/>
            <a:ext cx="1333440" cy="11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Овал 4"/>
          <p:cNvSpPr/>
          <p:nvPr/>
        </p:nvSpPr>
        <p:spPr>
          <a:xfrm>
            <a:off x="8540640" y="5137200"/>
            <a:ext cx="857520" cy="857160"/>
          </a:xfrm>
          <a:prstGeom prst="ellipse">
            <a:avLst/>
          </a:prstGeom>
          <a:solidFill>
            <a:srgbClr val="009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9" name="Управляющая кнопка: далее 5">
            <a:hlinkClick r:id="rId2" action="ppaction://hlinksldjump"/>
          </p:cNvPr>
          <p:cNvSpPr/>
          <p:nvPr/>
        </p:nvSpPr>
        <p:spPr>
          <a:xfrm rot="10800000">
            <a:off x="8683560" y="5351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Овал 6"/>
          <p:cNvSpPr/>
          <p:nvPr/>
        </p:nvSpPr>
        <p:spPr>
          <a:xfrm>
            <a:off x="8897760" y="5780160"/>
            <a:ext cx="1000440" cy="985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1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9120240" y="605952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274680" y="3492360"/>
            <a:ext cx="604980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79480" y="108000"/>
            <a:ext cx="86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Применение йода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360360" y="596880"/>
            <a:ext cx="587520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для получения высокочистого титана (Ti), циркония (Zr), гафния (Hf), ниобия (Nb) и других металлов (так называемое иодидное рафинирование металлов)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в иодных лампах накаливания, имеющих вольфрамовую спираль и характеризующихся большим сроком службы;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применяют в пищевых добавках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в фотоделе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в аналитической химии - иодометрии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в медицине в качестве антисептического и кровеостанавливающего средства, однако обрабатывать иодной настойкой можно только небольшие раны, так как иод может вызвать омертвение ткани, что при больших ранах увеличит сроки их заживления.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55" name="Рисунок 1" descr=""/>
          <p:cNvPicPr/>
          <p:nvPr/>
        </p:nvPicPr>
        <p:blipFill>
          <a:blip r:embed="rId3"/>
          <a:srcRect l="25548" t="0" r="25006" b="4888"/>
          <a:stretch/>
        </p:blipFill>
        <p:spPr>
          <a:xfrm>
            <a:off x="8278920" y="6480"/>
            <a:ext cx="1380960" cy="26557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" descr=""/>
          <p:cNvPicPr/>
          <p:nvPr/>
        </p:nvPicPr>
        <p:blipFill>
          <a:blip r:embed="rId4"/>
          <a:stretch/>
        </p:blipFill>
        <p:spPr>
          <a:xfrm>
            <a:off x="6013440" y="2655720"/>
            <a:ext cx="2641680" cy="2197440"/>
          </a:xfrm>
          <a:prstGeom prst="rect">
            <a:avLst/>
          </a:prstGeom>
          <a:ln w="0">
            <a:noFill/>
          </a:ln>
        </p:spPr>
      </p:pic>
      <p:sp>
        <p:nvSpPr>
          <p:cNvPr id="157" name="Управляющая кнопка: далее 10">
            <a:hlinkClick r:id="rId5" action="ppaction://hlinksldjump"/>
          </p:cNvPr>
          <p:cNvSpPr/>
          <p:nvPr/>
        </p:nvSpPr>
        <p:spPr>
          <a:xfrm rot="10800000">
            <a:off x="8683560" y="5334120"/>
            <a:ext cx="571680" cy="42840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6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Овал 4"/>
          <p:cNvSpPr/>
          <p:nvPr/>
        </p:nvSpPr>
        <p:spPr>
          <a:xfrm>
            <a:off x="8540640" y="5137200"/>
            <a:ext cx="857520" cy="857160"/>
          </a:xfrm>
          <a:prstGeom prst="ellipse">
            <a:avLst/>
          </a:prstGeom>
          <a:solidFill>
            <a:srgbClr val="009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0" name="Управляющая кнопка: далее 5"/>
          <p:cNvSpPr/>
          <p:nvPr/>
        </p:nvSpPr>
        <p:spPr>
          <a:xfrm rot="10800000">
            <a:off x="8611920" y="5351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1" name="Овал 6"/>
          <p:cNvSpPr/>
          <p:nvPr/>
        </p:nvSpPr>
        <p:spPr>
          <a:xfrm>
            <a:off x="8897760" y="5710320"/>
            <a:ext cx="1000440" cy="985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9183600" y="599436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4240" y="611280"/>
            <a:ext cx="7391520" cy="60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зучили мы отменно 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элементы галогены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(А по-русски - солероды),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– от фтора и до йода.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Даже новенький астат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ыть в семействе этом рад.</a:t>
            </a: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  <a:p>
            <a:pPr marL="431640" indent="0">
              <a:lnSpc>
                <a:spcPct val="8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4" name="Управляющая кнопка: далее 8">
            <a:hlinkClick r:id="rId2" action="ppaction://hlinksldjump"/>
          </p:cNvPr>
          <p:cNvSpPr/>
          <p:nvPr/>
        </p:nvSpPr>
        <p:spPr>
          <a:xfrm rot="10800000">
            <a:off x="8683560" y="5299200"/>
            <a:ext cx="571680" cy="42840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3794"/>
                </a:moveTo>
                <a:lnTo>
                  <a:pt x="21416" y="10800"/>
                </a:lnTo>
                <a:lnTo>
                  <a:pt x="7403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D:\Мои документы\Мои рисунки\Картинки\107690_1.jpg"/>
          <p:cNvPicPr/>
          <p:nvPr/>
        </p:nvPicPr>
        <p:blipFill>
          <a:blip r:embed="rId2"/>
          <a:stretch/>
        </p:blipFill>
        <p:spPr>
          <a:xfrm>
            <a:off x="5040360" y="1547640"/>
            <a:ext cx="4851360" cy="5218200"/>
          </a:xfrm>
          <a:prstGeom prst="rect">
            <a:avLst/>
          </a:prstGeom>
          <a:ln w="0">
            <a:noFill/>
          </a:ln>
        </p:spPr>
      </p:pic>
      <p:sp>
        <p:nvSpPr>
          <p:cNvPr id="166" name="Овал 5"/>
          <p:cNvSpPr/>
          <p:nvPr/>
        </p:nvSpPr>
        <p:spPr>
          <a:xfrm>
            <a:off x="8540640" y="5137200"/>
            <a:ext cx="857520" cy="857160"/>
          </a:xfrm>
          <a:prstGeom prst="ellipse">
            <a:avLst/>
          </a:prstGeom>
          <a:solidFill>
            <a:srgbClr val="009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7" name="Управляющая кнопка: далее 6">
            <a:hlinkClick r:id="rId3" action="ppaction://hlinksldjump"/>
          </p:cNvPr>
          <p:cNvSpPr/>
          <p:nvPr/>
        </p:nvSpPr>
        <p:spPr>
          <a:xfrm rot="10800000">
            <a:off x="8754840" y="5351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741240" y="627120"/>
            <a:ext cx="8605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ahoma"/>
              </a:rPr>
              <a:t>Список использованных материалов</a:t>
            </a:r>
            <a:br>
              <a:rPr sz="4000"/>
            </a:b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87280" y="2398680"/>
            <a:ext cx="907272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2880" indent="-272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://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schoolchemistry.by.ru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http://www.chem.isu.ru/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http://www.xumuk.ru/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http://www.womenfolk.ru/dietyi-i-pitanie/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http://www.ukrhealth.com/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http://www.tryphonov.ru/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http://himia.ucoz.ru/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marL="272880" indent="-2728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70" name="Рисунок 1" descr=""/>
          <p:cNvPicPr/>
          <p:nvPr/>
        </p:nvPicPr>
        <p:blipFill>
          <a:blip r:embed="rId8"/>
          <a:stretch/>
        </p:blipFill>
        <p:spPr>
          <a:xfrm>
            <a:off x="5145120" y="5200560"/>
            <a:ext cx="258912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Управляющая кнопка: далее 7"/>
          <p:cNvSpPr/>
          <p:nvPr/>
        </p:nvSpPr>
        <p:spPr>
          <a:xfrm rot="10800000">
            <a:off x="8719920" y="5357880"/>
            <a:ext cx="571320" cy="42840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3840" y="136080"/>
            <a:ext cx="8605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5c8526"/>
                </a:solidFill>
                <a:latin typeface="Tahoma"/>
              </a:rPr>
              <a:t>Содержани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5120" y="1136160"/>
            <a:ext cx="860580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8412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84120" indent="-288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Введение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84120" indent="-288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Общая характеристика галогенов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84120" indent="-288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Открытие галогенов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84120" indent="-288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Содержание галогенов в организме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84120" indent="-288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Фтор (биологическая роль и применение)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84120" indent="-288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Хлор (биологическая роль и применение)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84120" indent="-288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Бром (биологическая роль и применение)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84120" indent="-288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Йод (биологическая роль и применение)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84120" indent="-288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Заключение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84120" indent="-288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Информационные источники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841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8412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  <a:p>
            <a:pPr marL="38412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2"/>
          <a:stretch/>
        </p:blipFill>
        <p:spPr>
          <a:xfrm>
            <a:off x="6622920" y="1116000"/>
            <a:ext cx="3457800" cy="31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вал 4"/>
          <p:cNvSpPr/>
          <p:nvPr/>
        </p:nvSpPr>
        <p:spPr>
          <a:xfrm>
            <a:off x="8540640" y="5137200"/>
            <a:ext cx="857520" cy="857160"/>
          </a:xfrm>
          <a:prstGeom prst="ellipse">
            <a:avLst/>
          </a:prstGeom>
          <a:solidFill>
            <a:srgbClr val="009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Управляющая кнопка: далее 5">
            <a:hlinkClick r:id="rId2" action="ppaction://hlinksldjump"/>
          </p:cNvPr>
          <p:cNvSpPr/>
          <p:nvPr/>
        </p:nvSpPr>
        <p:spPr>
          <a:xfrm rot="10800000">
            <a:off x="8611920" y="5351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Овал 6"/>
          <p:cNvSpPr/>
          <p:nvPr/>
        </p:nvSpPr>
        <p:spPr>
          <a:xfrm>
            <a:off x="8858160" y="5621400"/>
            <a:ext cx="1000080" cy="985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9112320" y="589752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576360" y="971640"/>
            <a:ext cx="648000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се живые организмы на Земле, в том числе и человек, находятся в тесном контакте с окружающей средой.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Жизнь требует постоянного обмена веществ в организме. Поступлению в организм химических элементов способствуют питание и потребляемая вода. 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Ежедневное поступление химических элементов с пищей должно находиться на определенном уровне. Столько же химических элементов должно ежесуточно выводиться из организма, поскольку их содержания находятся в относительном постоянстве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3"/>
          <a:stretch/>
        </p:blipFill>
        <p:spPr>
          <a:xfrm>
            <a:off x="7675560" y="463680"/>
            <a:ext cx="1736640" cy="450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Овал 4"/>
          <p:cNvSpPr/>
          <p:nvPr/>
        </p:nvSpPr>
        <p:spPr>
          <a:xfrm>
            <a:off x="8550360" y="5078520"/>
            <a:ext cx="857160" cy="857160"/>
          </a:xfrm>
          <a:prstGeom prst="ellipse">
            <a:avLst/>
          </a:prstGeom>
          <a:solidFill>
            <a:srgbClr val="009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Управляющая кнопка: далее 5">
            <a:hlinkClick r:id="rId2" action="ppaction://hlinksldjump"/>
          </p:cNvPr>
          <p:cNvSpPr/>
          <p:nvPr/>
        </p:nvSpPr>
        <p:spPr>
          <a:xfrm rot="10800000">
            <a:off x="8611920" y="529236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Овал 6"/>
          <p:cNvSpPr/>
          <p:nvPr/>
        </p:nvSpPr>
        <p:spPr>
          <a:xfrm>
            <a:off x="8918640" y="5580000"/>
            <a:ext cx="1000080" cy="986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9183600" y="585936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54200" y="136440"/>
            <a:ext cx="86058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c8526"/>
                </a:solidFill>
                <a:latin typeface="Tahoma"/>
              </a:rPr>
              <a:t>Общая характеристика галогенов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65240" y="826920"/>
            <a:ext cx="8742240" cy="279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4"/>
          <a:stretch/>
        </p:blipFill>
        <p:spPr>
          <a:xfrm>
            <a:off x="9055080" y="826920"/>
            <a:ext cx="828720" cy="40197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" descr=""/>
          <p:cNvPicPr/>
          <p:nvPr/>
        </p:nvPicPr>
        <p:blipFill>
          <a:blip r:embed="rId5"/>
          <a:stretch/>
        </p:blipFill>
        <p:spPr>
          <a:xfrm>
            <a:off x="3168720" y="3492360"/>
            <a:ext cx="5257800" cy="3959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"/>
          <p:cNvPicPr/>
          <p:nvPr/>
        </p:nvPicPr>
        <p:blipFill>
          <a:blip r:embed="rId6"/>
          <a:stretch/>
        </p:blipFill>
        <p:spPr>
          <a:xfrm>
            <a:off x="0" y="3689280"/>
            <a:ext cx="3168720" cy="31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Овал 4"/>
          <p:cNvSpPr/>
          <p:nvPr/>
        </p:nvSpPr>
        <p:spPr>
          <a:xfrm>
            <a:off x="8326440" y="5060880"/>
            <a:ext cx="857160" cy="857160"/>
          </a:xfrm>
          <a:prstGeom prst="ellipse">
            <a:avLst/>
          </a:prstGeom>
          <a:solidFill>
            <a:srgbClr val="009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Овал 6"/>
          <p:cNvSpPr/>
          <p:nvPr/>
        </p:nvSpPr>
        <p:spPr>
          <a:xfrm>
            <a:off x="8871120" y="5565600"/>
            <a:ext cx="1000080" cy="986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9183600" y="58514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647640" y="1222200"/>
            <a:ext cx="64803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65000" y="-181080"/>
            <a:ext cx="8606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5c8526"/>
                </a:solidFill>
                <a:latin typeface="Tahoma"/>
              </a:rPr>
              <a:t>Открытие галогенов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1960560" y="1420920"/>
            <a:ext cx="309708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Хлор открыт шведским химиком К.Шееле в 1774 г.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258840" y="1054080"/>
            <a:ext cx="1677960" cy="20620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 flipV="1" rot="10800000">
            <a:off x="6860880" y="1410120"/>
            <a:ext cx="33591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  <a:ea typeface="Calibri"/>
              </a:rPr>
              <a:t>Йод получен в 1811 г. французским учёным Б.Куртуа.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140440" y="1046160"/>
            <a:ext cx="1720800" cy="21448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88920" y="5851440"/>
            <a:ext cx="374472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Бром открыт в 1826 г. французским химиком А.Баларом.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4"/>
          <a:stretch/>
        </p:blipFill>
        <p:spPr>
          <a:xfrm>
            <a:off x="1096920" y="3648240"/>
            <a:ext cx="1598760" cy="20588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9"/>
          <p:cNvSpPr/>
          <p:nvPr/>
        </p:nvSpPr>
        <p:spPr>
          <a:xfrm>
            <a:off x="4608360" y="5707080"/>
            <a:ext cx="36990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Фтор в свободном виде получил впервые в 1886 г. французский химик Анри Муассан.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5"/>
          <a:stretch/>
        </p:blipFill>
        <p:spPr>
          <a:xfrm>
            <a:off x="5378400" y="3559320"/>
            <a:ext cx="1552680" cy="217152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алее 15">
            <a:hlinkClick r:id="rId6" action="ppaction://hlinksldjump"/>
          </p:cNvPr>
          <p:cNvSpPr/>
          <p:nvPr/>
        </p:nvSpPr>
        <p:spPr>
          <a:xfrm rot="10800000">
            <a:off x="8469000" y="5275440"/>
            <a:ext cx="571320" cy="42840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Овал 4"/>
          <p:cNvSpPr/>
          <p:nvPr/>
        </p:nvSpPr>
        <p:spPr>
          <a:xfrm>
            <a:off x="8540640" y="5137200"/>
            <a:ext cx="857520" cy="857160"/>
          </a:xfrm>
          <a:prstGeom prst="ellipse">
            <a:avLst/>
          </a:prstGeom>
          <a:solidFill>
            <a:srgbClr val="009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Управляющая кнопка: далее 5">
            <a:hlinkClick r:id="rId2" action="ppaction://hlinksldjump"/>
          </p:cNvPr>
          <p:cNvSpPr/>
          <p:nvPr/>
        </p:nvSpPr>
        <p:spPr>
          <a:xfrm rot="10800000">
            <a:off x="8611920" y="5351040"/>
            <a:ext cx="571320" cy="42876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76" h="21600">
                <a:moveTo>
                  <a:pt x="0" y="0"/>
                </a:moveTo>
                <a:lnTo>
                  <a:pt x="28776" y="0"/>
                </a:lnTo>
                <a:lnTo>
                  <a:pt x="28776" y="21600"/>
                </a:lnTo>
                <a:lnTo>
                  <a:pt x="0" y="21600"/>
                </a:lnTo>
                <a:close/>
              </a:path>
              <a:path fill="lightenLess" w="28776" h="21600">
                <a:moveTo>
                  <a:pt x="0" y="0"/>
                </a:moveTo>
                <a:lnTo>
                  <a:pt x="28776" y="0"/>
                </a:lnTo>
                <a:lnTo>
                  <a:pt x="27376" y="1400"/>
                </a:lnTo>
                <a:lnTo>
                  <a:pt x="1400" y="1400"/>
                </a:lnTo>
                <a:close/>
              </a:path>
              <a:path fill="darken" w="28776" h="21600">
                <a:moveTo>
                  <a:pt x="28776" y="0"/>
                </a:moveTo>
                <a:lnTo>
                  <a:pt x="28776" y="21600"/>
                </a:lnTo>
                <a:lnTo>
                  <a:pt x="27376" y="20200"/>
                </a:lnTo>
                <a:lnTo>
                  <a:pt x="27376" y="1400"/>
                </a:lnTo>
                <a:close/>
              </a:path>
              <a:path fill="darkenLess" w="28776" h="21600">
                <a:moveTo>
                  <a:pt x="28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6" y="20200"/>
                </a:lnTo>
                <a:close/>
              </a:path>
              <a:path fill="lighten" w="28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6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" name="Овал 6"/>
          <p:cNvSpPr/>
          <p:nvPr/>
        </p:nvSpPr>
        <p:spPr>
          <a:xfrm>
            <a:off x="8897760" y="5772240"/>
            <a:ext cx="1000440" cy="985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9183600" y="59864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647640" y="684360"/>
            <a:ext cx="648036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754200" y="136440"/>
            <a:ext cx="8605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c8526"/>
                </a:solidFill>
                <a:latin typeface="Tahoma"/>
              </a:rPr>
              <a:t>Содержание галогенов в организме</a:t>
            </a:r>
            <a:br>
              <a:rPr sz="3600"/>
            </a:br>
            <a:r>
              <a:rPr b="0" lang="ru-RU" sz="3200" spc="-1" strike="noStrike">
                <a:solidFill>
                  <a:srgbClr val="5c8526"/>
                </a:solidFill>
                <a:latin typeface="Tahoma"/>
              </a:rPr>
              <a:t>(по Дж.Эмели, 1993г.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rcRect l="5277" t="0" r="0" b="4509"/>
          <a:stretch/>
        </p:blipFill>
        <p:spPr>
          <a:xfrm>
            <a:off x="360360" y="1979640"/>
            <a:ext cx="8064360" cy="4465440"/>
          </a:xfrm>
          <a:prstGeom prst="rect">
            <a:avLst/>
          </a:prstGeom>
          <a:ln w="0">
            <a:noFill/>
          </a:ln>
        </p:spPr>
      </p:pic>
      <p:sp>
        <p:nvSpPr>
          <p:cNvPr id="89" name="Управляющая кнопка: далее 8">
            <a:hlinkClick r:id="rId4" action="ppaction://hlinksldjump"/>
          </p:cNvPr>
          <p:cNvSpPr/>
          <p:nvPr/>
        </p:nvSpPr>
        <p:spPr>
          <a:xfrm rot="10800000">
            <a:off x="8683560" y="5351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664000" y="178920"/>
            <a:ext cx="712944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Фтор находится в организме во всех органах и тканях. Но наибольшее его количество содержится в зубах, костях, волосах и ногтях.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Кости — своеобразное депо фтора, они имеют большое значение для регулирования его обмена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1" name="Овал 6"/>
          <p:cNvSpPr/>
          <p:nvPr/>
        </p:nvSpPr>
        <p:spPr>
          <a:xfrm>
            <a:off x="8897760" y="5565600"/>
            <a:ext cx="1000440" cy="986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9183600" y="58514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274680" y="3492360"/>
            <a:ext cx="604980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Для нормального роста фтор совершенно необходим, и его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едостаток приводит к анемии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. Большое внимание было уделено метаболизму фтора в связи с проблемой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кариеса зубов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, так как фтор предохраняет зубы от кариеса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Чрезмерное поглощение фторидов приводит к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фторозу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. Фтороз приводит к нарушениям в работе щитовидной железы, угнетению роста и поражению почек. Длительное воздействие фтора на организм приводит к минерализации тела. В итоге деформируются кости.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74920" y="2771640"/>
            <a:ext cx="86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Фтор от греческого </a:t>
            </a:r>
            <a:r>
              <a:rPr b="1" i="1" lang="ru-RU" sz="2000" spc="-1" strike="noStrike">
                <a:solidFill>
                  <a:srgbClr val="3333cc"/>
                </a:solidFill>
                <a:latin typeface="Tahoma"/>
              </a:rPr>
              <a:t>фторос 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означает разрушающий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2"/>
          <a:stretch/>
        </p:blipFill>
        <p:spPr>
          <a:xfrm>
            <a:off x="741240" y="755640"/>
            <a:ext cx="1467000" cy="16318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" descr=""/>
          <p:cNvPicPr/>
          <p:nvPr/>
        </p:nvPicPr>
        <p:blipFill>
          <a:blip r:embed="rId3"/>
          <a:stretch/>
        </p:blipFill>
        <p:spPr>
          <a:xfrm>
            <a:off x="6324480" y="3583080"/>
            <a:ext cx="2406600" cy="171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98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Овал 4"/>
          <p:cNvSpPr/>
          <p:nvPr/>
        </p:nvSpPr>
        <p:spPr>
          <a:xfrm>
            <a:off x="8540640" y="5137200"/>
            <a:ext cx="857520" cy="857160"/>
          </a:xfrm>
          <a:prstGeom prst="ellipse">
            <a:avLst/>
          </a:prstGeom>
          <a:solidFill>
            <a:srgbClr val="009f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8" name="Управляющая кнопка: далее 5">
            <a:hlinkClick r:id="rId2" action="ppaction://hlinksldjump"/>
          </p:cNvPr>
          <p:cNvSpPr/>
          <p:nvPr/>
        </p:nvSpPr>
        <p:spPr>
          <a:xfrm rot="10800000">
            <a:off x="8683560" y="53510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Овал 6"/>
          <p:cNvSpPr/>
          <p:nvPr/>
        </p:nvSpPr>
        <p:spPr>
          <a:xfrm>
            <a:off x="8897760" y="5715000"/>
            <a:ext cx="1000440" cy="985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9183600" y="599436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274680" y="3492360"/>
            <a:ext cx="604980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79480" y="108000"/>
            <a:ext cx="86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Применение фтора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1008000" y="684360"/>
            <a:ext cx="503892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Фтор широко применяют при получении различных фторидов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в производстве тефлона (антипригарное покрытие), других фторопластов, фторкаучуков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фторсодержащих органических веществ и материалов, которые широко применяют в технике, особенно в тех случаях, когда требуется устойчивость к агрессивным средам, высокой температуре и т. п.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В качестве фреонов и хладонов - в холодильных и морозильных установках, в аэрозольных баллонах;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в производстве зубной пасты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04" name="Рисунок 1" descr=""/>
          <p:cNvPicPr/>
          <p:nvPr/>
        </p:nvPicPr>
        <p:blipFill>
          <a:blip r:embed="rId3"/>
          <a:stretch/>
        </p:blipFill>
        <p:spPr>
          <a:xfrm>
            <a:off x="7672320" y="684360"/>
            <a:ext cx="1546200" cy="1546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" descr=""/>
          <p:cNvPicPr/>
          <p:nvPr/>
        </p:nvPicPr>
        <p:blipFill>
          <a:blip r:embed="rId4"/>
          <a:stretch/>
        </p:blipFill>
        <p:spPr>
          <a:xfrm>
            <a:off x="5946840" y="1424160"/>
            <a:ext cx="1038240" cy="3868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5"/>
          <a:stretch/>
        </p:blipFill>
        <p:spPr>
          <a:xfrm>
            <a:off x="7493040" y="2230560"/>
            <a:ext cx="1905120" cy="2857320"/>
          </a:xfrm>
          <a:prstGeom prst="rect">
            <a:avLst/>
          </a:prstGeom>
          <a:ln w="0">
            <a:noFill/>
          </a:ln>
        </p:spPr>
      </p:pic>
      <p:sp>
        <p:nvSpPr>
          <p:cNvPr id="107" name="Управляющая кнопка: далее 11">
            <a:hlinkClick r:id="rId6" action="ppaction://hlinksldjump"/>
          </p:cNvPr>
          <p:cNvSpPr/>
          <p:nvPr/>
        </p:nvSpPr>
        <p:spPr>
          <a:xfrm rot="10800000">
            <a:off x="8646840" y="5307120"/>
            <a:ext cx="571320" cy="42840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9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465280" y="178920"/>
            <a:ext cx="712944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Хлор относится к макроэлементам организма человека. 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22200" indent="-322200">
              <a:lnSpc>
                <a:spcPct val="95000"/>
              </a:lnSpc>
              <a:spcAft>
                <a:spcPts val="1426"/>
              </a:spcAft>
              <a:buClr>
                <a:srgbClr val="7da647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Хлор</a:t>
            </a:r>
            <a:r>
              <a:rPr b="0" lang="ru-RU" sz="2400" spc="-1" strike="noStrike">
                <a:solidFill>
                  <a:srgbClr val="336600"/>
                </a:solidFill>
                <a:latin typeface="Times New Roman"/>
              </a:rPr>
              <a:t> распространён чрезвычайно широко, он способен проходить сквозь мембрану и играет важную роль в поддержании осмотического равновесия. Хлор присутствует в желудочном соке в виде соляной кислоты. Концентрация соляной кислоты в желудочном соке человека равна 0,4-0,5%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8897760" y="5565600"/>
            <a:ext cx="1000440" cy="986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0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9183600" y="5851440"/>
            <a:ext cx="571680" cy="428760"/>
          </a:xfrm>
          <a:custGeom>
            <a:avLst/>
            <a:gdLst>
              <a:gd name="textAreaLeft" fmla="*/ 27720 w 571680"/>
              <a:gd name="textAreaRight" fmla="*/ 543960 w 571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0" y="3794"/>
                </a:moveTo>
                <a:lnTo>
                  <a:pt x="21403" y="10800"/>
                </a:lnTo>
                <a:lnTo>
                  <a:pt x="7390" y="1780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503280" y="3995640"/>
            <a:ext cx="725148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Хлор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является причиной заболеваний сердечно-сосудистой системы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способствует возникновению аллергических реакций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разрушает белки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повышает риск заболевания раком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474920" y="3274920"/>
            <a:ext cx="86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Хлор от греческого </a:t>
            </a:r>
            <a:r>
              <a:rPr b="1" i="1" lang="ru-RU" sz="2000" spc="-1" strike="noStrike">
                <a:solidFill>
                  <a:srgbClr val="3333cc"/>
                </a:solidFill>
                <a:latin typeface="Tahoma"/>
              </a:rPr>
              <a:t>хлорос 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означает жёлто-зелёный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13" name="Рисунок 1" descr=""/>
          <p:cNvPicPr/>
          <p:nvPr/>
        </p:nvPicPr>
        <p:blipFill>
          <a:blip r:embed="rId2"/>
          <a:stretch/>
        </p:blipFill>
        <p:spPr>
          <a:xfrm>
            <a:off x="503280" y="684360"/>
            <a:ext cx="161748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8:30:43Z</dcterms:created>
  <dc:creator>KOTENOK</dc:creator>
  <dc:description/>
  <dc:language>en-US</dc:language>
  <cp:lastModifiedBy>Home</cp:lastModifiedBy>
  <dcterms:modified xsi:type="dcterms:W3CDTF">2012-12-19T17:01:21Z</dcterms:modified>
  <cp:revision>40</cp:revision>
  <dc:subject/>
  <dc:title>Химия в быту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35000000000001023720</vt:lpwstr>
  </property>
</Properties>
</file>