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25.gif" ContentType="image/gif"/>
  <Override PartName="/ppt/media/image5.png" ContentType="image/png"/>
  <Override PartName="/ppt/media/image28.gif" ContentType="image/gif"/>
  <Override PartName="/ppt/media/image8.png" ContentType="image/png"/>
  <Override PartName="/ppt/media/image7.jpeg" ContentType="image/jpeg"/>
  <Override PartName="/ppt/media/image11.png" ContentType="image/png"/>
  <Override PartName="/ppt/media/image30.gif" ContentType="image/gif"/>
  <Override PartName="/ppt/media/image23.png" ContentType="image/png"/>
  <Override PartName="/ppt/media/image13.jpeg" ContentType="image/jpeg"/>
  <Override PartName="/ppt/media/image12.png" ContentType="image/png"/>
  <Override PartName="/ppt/media/image3.gif" ContentType="image/gif"/>
  <Override PartName="/ppt/media/image29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30F-3F5B-4593-A3F5-194ADCB7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35A-8C00-48AC-A81A-F26C2F05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642-7B2F-4D9A-8E4B-BD137F47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3F3-2EA2-4673-848A-182C0A39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277-8B0D-49C0-AB4A-B9BE89E5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F98-1E54-43E4-A3BB-3498F458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E96-21E7-4484-ADA2-A5EF9BD2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727-0692-4828-B4F9-E9DE16A2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8B8-EC27-4A2F-BF2F-03C920CC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03C-42F3-4945-B2E0-15A64DE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FD6-CFF4-4C06-8861-2A087CD9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12D-2AF1-4F91-8D02-F2BF962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A51B-E45F-45FE-8D9A-A34597864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ucretius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60;&#1072;&#1081;&#1083;:MendelCOLOR1884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alitva.ru/uploads/posts/2008-12/1228417113_de-friz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post.queensu.ca/~forsdyke/images/correns02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teson2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hyperlink" Target="http://ru.wikipedia.org/wiki/&#1060;&#1072;&#1081;&#1083;:Wilhelm_Johannsen_1857-1927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uit.ru/department/history/ithistory/10/10-02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hyperlink" Target="http://collection.edu.yar.ru/dlrstore/acb23cf1-0a01-022a-0077-7255ae37f6f5/vaviliv.jpg" TargetMode="Externa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684360" y="24130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ь Анжелика Георг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КК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г.Москвы средняя образовательная школа №1103 имени Героя РФ А.В.Солом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000080" y="1285920"/>
            <a:ext cx="75009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Генетика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наука о наследственности и изменчивости живых организмов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C:\Documents and Settings\Admin\Рабочий стол\анимашки\book17.gif"/>
          <p:cNvPicPr/>
          <p:nvPr/>
        </p:nvPicPr>
        <p:blipFill>
          <a:blip r:embed="rId1"/>
          <a:stretch/>
        </p:blipFill>
        <p:spPr>
          <a:xfrm>
            <a:off x="5857920" y="4643280"/>
            <a:ext cx="24289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2858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Наследственность </a:t>
            </a:r>
            <a:r>
              <a:rPr b="0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способность организмов передавать свои признаки и особенности развития потом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286000" y="214308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a2e4e"/>
                </a:solidFill>
                <a:latin typeface="Calibri"/>
              </a:rPr>
              <a:t>Ген </a:t>
            </a:r>
            <a:r>
              <a:rPr b="0" i="1" lang="ru-RU" sz="3600" spc="-1" strike="noStrike">
                <a:solidFill>
                  <a:srgbClr val="8a2e4e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участок молекулы ДНК, ответственный за проявление какого-либо призна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85840" y="439884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Ге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белок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ризнак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7"/>
          <p:cNvCxnSpPr/>
          <p:nvPr/>
        </p:nvCxnSpPr>
        <p:spPr>
          <a:xfrm>
            <a:off x="1356840" y="4785840"/>
            <a:ext cx="786600" cy="252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75" name="Прямая со стрелкой 10"/>
          <p:cNvCxnSpPr/>
          <p:nvPr/>
        </p:nvCxnSpPr>
        <p:spPr>
          <a:xfrm>
            <a:off x="3429000" y="4785840"/>
            <a:ext cx="929520" cy="252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76" name="Picture 1" descr="C:\Documents and Settings\Admin\Рабочий стол\анимашки\book17.gif"/>
          <p:cNvPicPr/>
          <p:nvPr/>
        </p:nvPicPr>
        <p:blipFill>
          <a:blip r:embed="rId1"/>
          <a:stretch/>
        </p:blipFill>
        <p:spPr>
          <a:xfrm>
            <a:off x="6500880" y="5072040"/>
            <a:ext cx="2428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85840" y="357120"/>
            <a:ext cx="84294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арные гены, расположенные в одних и тех же локусах гомологичных хромосом и ответственные за проявление одного и того же признака (например, цвета волос, глаз, формы уха), называются </a:t>
            </a: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аллельными генами (аллел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1857240" y="2928960"/>
            <a:ext cx="71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Доминантный признак (ген)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—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осподствующий, преобладающий.( А,В,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142920" y="4643280"/>
            <a:ext cx="53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цессивный признак (ген)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—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одавляемый признак. (а, в,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C:\Documents and Settings\Admin\Рабочий стол\анимашки\book17.gif"/>
          <p:cNvPicPr/>
          <p:nvPr/>
        </p:nvPicPr>
        <p:blipFill>
          <a:blip r:embed="rId1"/>
          <a:stretch/>
        </p:blipFill>
        <p:spPr>
          <a:xfrm>
            <a:off x="6500880" y="5072040"/>
            <a:ext cx="2428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428760" y="50004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омозигота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- это клетка (особь), имеющая одинаковые аллели одного гена в гомологичных хромосомах 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(АА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а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2286000" y="3071880"/>
            <a:ext cx="64292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етерозигота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- это клетка (особь), имеющая разные аллели одного гена в гомологичных хромосомах 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(Аа),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о есть несущая альтернативные призн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Строение хромосом и генов."/>
          <p:cNvPicPr/>
          <p:nvPr/>
        </p:nvPicPr>
        <p:blipFill>
          <a:blip r:embed="rId1"/>
          <a:stretch/>
        </p:blipFill>
        <p:spPr>
          <a:xfrm>
            <a:off x="357120" y="4857840"/>
            <a:ext cx="1714680" cy="1485720"/>
          </a:xfrm>
          <a:prstGeom prst="rect">
            <a:avLst/>
          </a:prstGeom>
          <a:ln w="9360">
            <a:solidFill>
              <a:srgbClr val="d788a3"/>
            </a:solidFill>
            <a:miter/>
          </a:ln>
        </p:spPr>
      </p:pic>
      <p:pic>
        <p:nvPicPr>
          <p:cNvPr id="84" name="Picture 1" descr="C:\Documents and Settings\Admin\Рабочий стол\анимашки\book17.gif"/>
          <p:cNvPicPr/>
          <p:nvPr/>
        </p:nvPicPr>
        <p:blipFill>
          <a:blip r:embed="rId2"/>
          <a:stretch/>
        </p:blipFill>
        <p:spPr>
          <a:xfrm>
            <a:off x="6429240" y="5000760"/>
            <a:ext cx="2500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14200" y="500040"/>
            <a:ext cx="471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енотип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- совокупность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следственных призна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(генов) организ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олученных от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142920" y="350028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Фенотип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овокупность внутренних и внешних признаков, которые проявляются у организма при взаимодействии со средой в процессе индивидуаль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go.imgsmail.ru/urlpreview?url=img-fotki.yandex.ru/get/3004/white--bear-cub.1/0_bf0_15224b81_XL"/>
          <p:cNvPicPr/>
          <p:nvPr/>
        </p:nvPicPr>
        <p:blipFill>
          <a:blip r:embed="rId1"/>
          <a:stretch/>
        </p:blipFill>
        <p:spPr>
          <a:xfrm>
            <a:off x="3743280" y="-7886880"/>
            <a:ext cx="1523880" cy="1047960"/>
          </a:xfrm>
          <a:prstGeom prst="rect">
            <a:avLst/>
          </a:prstGeom>
          <a:ln w="0">
            <a:noFill/>
          </a:ln>
        </p:spPr>
      </p:pic>
      <p:pic>
        <p:nvPicPr>
          <p:cNvPr id="88" name="pic_self" descr="0_bf0_15224b81_XL"/>
          <p:cNvPicPr/>
          <p:nvPr/>
        </p:nvPicPr>
        <p:blipFill>
          <a:blip r:embed="rId2"/>
          <a:stretch/>
        </p:blipFill>
        <p:spPr>
          <a:xfrm>
            <a:off x="5429160" y="714240"/>
            <a:ext cx="3500640" cy="192888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89" name="Picture 7" descr="http://upload.wikimedia.org/wikipedia/commons/thumb/d/d2/Coquina_variation3.jpg/250px-Coquina_variation3.jpg"/>
          <p:cNvPicPr/>
          <p:nvPr/>
        </p:nvPicPr>
        <p:blipFill>
          <a:blip r:embed="rId3"/>
          <a:stretch/>
        </p:blipFill>
        <p:spPr>
          <a:xfrm>
            <a:off x="6357960" y="4000680"/>
            <a:ext cx="238140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286000" y="57168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о́рма реа́кции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 — размах фенотипических проявлений признака у особи под влиянием внешней среды без изменения геноти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0" y="3143160"/>
            <a:ext cx="621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енотип определяет пределы (разм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ормы реакции организ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о есть его генетические возмож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а фенотип - это реализация эт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озможностей в призна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Строение хромосом и генов."/>
          <p:cNvPicPr/>
          <p:nvPr/>
        </p:nvPicPr>
        <p:blipFill>
          <a:blip r:embed="rId1"/>
          <a:stretch/>
        </p:blipFill>
        <p:spPr>
          <a:xfrm>
            <a:off x="6429240" y="4929120"/>
            <a:ext cx="1714680" cy="1486080"/>
          </a:xfrm>
          <a:prstGeom prst="rect">
            <a:avLst/>
          </a:prstGeom>
          <a:ln w="9360">
            <a:solidFill>
              <a:srgbClr val="d788a3"/>
            </a:solidFill>
            <a:miter/>
          </a:ln>
        </p:spPr>
      </p:pic>
      <p:pic>
        <p:nvPicPr>
          <p:cNvPr id="93" name="Picture 1" descr="C:\Documents and Settings\Admin\Рабочий стол\анимашки\book17.gif"/>
          <p:cNvPicPr/>
          <p:nvPr/>
        </p:nvPicPr>
        <p:blipFill>
          <a:blip r:embed="rId2"/>
          <a:stretch/>
        </p:blipFill>
        <p:spPr>
          <a:xfrm>
            <a:off x="0" y="928800"/>
            <a:ext cx="25002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857160" y="357120"/>
            <a:ext cx="7572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Изменчивость</a:t>
            </a:r>
            <a:r>
              <a:rPr b="0" lang="ru-RU" sz="2800" spc="-1" strike="noStrike">
                <a:solidFill>
                  <a:srgbClr val="852f74"/>
                </a:solidFill>
                <a:latin typeface="Calibri"/>
              </a:rPr>
              <a:t> - это способность организма приобретать новые признаки в процессе онтоген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2f74"/>
                </a:solidFill>
                <a:latin typeface="Calibri"/>
              </a:rPr>
              <a:t>Различают наследственную и ненаследственную изменчив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2f74"/>
                </a:solidFill>
                <a:latin typeface="Calibri"/>
              </a:rPr>
              <a:t>Наследственность и изменчивость присущи всем организмам. Генетика, изучающая их закономерности, выявляет методы управления этими процес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Admin\Рабочий стол\анимашки\87.gif"/>
          <p:cNvPicPr/>
          <p:nvPr/>
        </p:nvPicPr>
        <p:blipFill>
          <a:blip r:embed="rId1"/>
          <a:stretch/>
        </p:blipFill>
        <p:spPr>
          <a:xfrm>
            <a:off x="6715080" y="471492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0" y="313920"/>
            <a:ext cx="87152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91f4d"/>
                </a:solidFill>
                <a:latin typeface="Times New Roman"/>
                <a:ea typeface="Calibri"/>
              </a:rPr>
              <a:t>Синкве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1.Первая строка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 заключает в себе одно сло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обычно существительное или местоимение, ко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обозначает объект или предмет, о котором пойде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2.Во второй строке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- два слова, чаще всего прилагательные или причас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Они дают описание признаков и свойств выбранного предмета или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3.Третья строка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 образована тремя глаголами или деепричасти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описывающими характерные действия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4.Четвёртая строка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 –фраза из четырёх слов, выражает личное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5.В пятой строке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 содержится одно сл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характеризующее суть или о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165240"/>
            <a:ext cx="7935840" cy="579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Admin\Рабочий стол\анимашки\4.gif"/>
          <p:cNvPicPr/>
          <p:nvPr/>
        </p:nvPicPr>
        <p:blipFill>
          <a:blip r:embed="rId2"/>
          <a:stretch/>
        </p:blipFill>
        <p:spPr>
          <a:xfrm>
            <a:off x="214200" y="5143680"/>
            <a:ext cx="128592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857160" y="214200"/>
            <a:ext cx="77155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35 – экспериментальное определение размеров г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53 – структурная модель Д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61 – расшифровка генетического к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62 – первое клонирование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69 – химическим путем синтезирован первый 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72 – рождение генной инжене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77 – расшифрован геном бактериофага Х 174, секвенирован первый ген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80 – получена первая трансгенная мы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88 – создан проект «Геном человек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95 – становление геномики как раздела генетики, секвенирован геном бакте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97 – клонировали овцу Дол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99 – клонировали мышь и кор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2000 год – геном человека прочитан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C:\Documents and Settings\Admin\Рабочий стол\анимашки\1101.gif"/>
          <p:cNvPicPr/>
          <p:nvPr/>
        </p:nvPicPr>
        <p:blipFill>
          <a:blip r:embed="rId1"/>
          <a:stretch/>
        </p:blipFill>
        <p:spPr>
          <a:xfrm>
            <a:off x="6215040" y="4714920"/>
            <a:ext cx="24289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993600"/>
            <a:ext cx="6686640" cy="5803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Admin\Рабочий стол\анимашки\4.gif"/>
          <p:cNvPicPr/>
          <p:nvPr/>
        </p:nvPicPr>
        <p:blipFill>
          <a:blip r:embed="rId2"/>
          <a:stretch/>
        </p:blipFill>
        <p:spPr>
          <a:xfrm>
            <a:off x="571680" y="478620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Рабочий стол\анимашки\4.gif"/>
          <p:cNvPicPr/>
          <p:nvPr/>
        </p:nvPicPr>
        <p:blipFill>
          <a:blip r:embed="rId3"/>
          <a:stretch/>
        </p:blipFill>
        <p:spPr>
          <a:xfrm>
            <a:off x="7286760" y="35712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857160" y="665640"/>
            <a:ext cx="7572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«Дальнейший прогресс человечества во многом связан с развитием гене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Вместе с тем необходимо учиты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что неконтролируемое распространение генноинжене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живых организмов и продуктов может нарушить би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баланс в природе и представлять угрозу здоровью челове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(В. А. Авети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ол и гены."/>
          <p:cNvPicPr/>
          <p:nvPr/>
        </p:nvPicPr>
        <p:blipFill>
          <a:blip r:embed="rId1"/>
          <a:stretch/>
        </p:blipFill>
        <p:spPr>
          <a:xfrm>
            <a:off x="142920" y="5214960"/>
            <a:ext cx="2143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28080"/>
            <a:ext cx="88581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Сформулируйте выводы,  дополнив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2f74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Я думаю, что генетика – это самый ________  раздел биологии, потому что _______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2f74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Изучая генетику, я хочу _____________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На мой взгляд, знания по генетик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необходимы мне в жизни, так как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95280" y="1859040"/>
            <a:ext cx="646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 и интернет ресур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чебник И.Н. Пономарева, Москва, издательский центр «Вентана- Гра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урочные планы 9 класс биология , издательство «Учител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йала Ф., Кайгер Дж. Современная генетика, тт. 1–3. М.,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нгер М., Берг П. Гены и геномы, тт. 1–2. М., 19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http://revolution.allbest.ru/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Строение хромосом и генов."/>
          <p:cNvPicPr/>
          <p:nvPr/>
        </p:nvPicPr>
        <p:blipFill>
          <a:blip r:embed="rId1"/>
          <a:stretch/>
        </p:blipFill>
        <p:spPr>
          <a:xfrm>
            <a:off x="500040" y="5072040"/>
            <a:ext cx="1714680" cy="1486080"/>
          </a:xfrm>
          <a:prstGeom prst="rect">
            <a:avLst/>
          </a:prstGeom>
          <a:ln w="9360">
            <a:solidFill>
              <a:srgbClr val="d788a3"/>
            </a:solidFill>
            <a:miter/>
          </a:ln>
        </p:spPr>
      </p:pic>
      <p:sp>
        <p:nvSpPr>
          <p:cNvPr id="46" name="Прямоугольник 2"/>
          <p:cNvSpPr/>
          <p:nvPr/>
        </p:nvSpPr>
        <p:spPr>
          <a:xfrm>
            <a:off x="785880" y="12859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Официальной дат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рождения генет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считае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1900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987480" y="523800"/>
            <a:ext cx="7675560" cy="457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анимашки\4.gif"/>
          <p:cNvPicPr/>
          <p:nvPr/>
        </p:nvPicPr>
        <p:blipFill>
          <a:blip r:embed="rId2"/>
          <a:stretch/>
        </p:blipFill>
        <p:spPr>
          <a:xfrm>
            <a:off x="7215120" y="50720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Портрет">
            <a:hlinkClick r:id="rId1"/>
          </p:cNvPr>
          <p:cNvPicPr/>
          <p:nvPr/>
        </p:nvPicPr>
        <p:blipFill>
          <a:blip r:embed="rId2"/>
          <a:srcRect l="0" t="0" r="0" b="8951"/>
          <a:stretch/>
        </p:blipFill>
        <p:spPr>
          <a:xfrm>
            <a:off x="428760" y="500040"/>
            <a:ext cx="2928960" cy="435780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50" name="Picture 3" descr="MendelCOLOR1884.jpg">
            <a:hlinkClick r:id="rId3"/>
          </p:cNvPr>
          <p:cNvPicPr/>
          <p:nvPr/>
        </p:nvPicPr>
        <p:blipFill>
          <a:blip r:embed="rId4"/>
          <a:srcRect l="0" t="0" r="0" b="4687"/>
          <a:stretch/>
        </p:blipFill>
        <p:spPr>
          <a:xfrm>
            <a:off x="4786200" y="500040"/>
            <a:ext cx="3286080" cy="435780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51" name="Прямоугольник 3" descr=""/>
          <p:cNvPicPr/>
          <p:nvPr/>
        </p:nvPicPr>
        <p:blipFill>
          <a:blip r:embed="rId5"/>
          <a:stretch/>
        </p:blipFill>
        <p:spPr>
          <a:xfrm>
            <a:off x="231840" y="4700520"/>
            <a:ext cx="3249720" cy="1505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6"/>
          <a:stretch/>
        </p:blipFill>
        <p:spPr>
          <a:xfrm>
            <a:off x="4230720" y="4724280"/>
            <a:ext cx="44686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-main-pic" descr="Картинка 1 из 6864">
            <a:hlinkClick r:id="rId1"/>
          </p:cNvPr>
          <p:cNvPicPr/>
          <p:nvPr/>
        </p:nvPicPr>
        <p:blipFill>
          <a:blip r:embed="rId2"/>
          <a:srcRect l="0" t="0" r="0" b="20317"/>
          <a:stretch/>
        </p:blipFill>
        <p:spPr>
          <a:xfrm>
            <a:off x="0" y="642960"/>
            <a:ext cx="3143160" cy="400032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  <p:pic>
        <p:nvPicPr>
          <p:cNvPr id="54" name="Прямоугольник 2" descr=""/>
          <p:cNvPicPr/>
          <p:nvPr/>
        </p:nvPicPr>
        <p:blipFill>
          <a:blip r:embed="rId3"/>
          <a:stretch/>
        </p:blipFill>
        <p:spPr>
          <a:xfrm>
            <a:off x="171360" y="4773600"/>
            <a:ext cx="308952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5" descr=""/>
          <p:cNvPicPr/>
          <p:nvPr/>
        </p:nvPicPr>
        <p:blipFill>
          <a:blip r:embed="rId4"/>
          <a:stretch/>
        </p:blipFill>
        <p:spPr>
          <a:xfrm>
            <a:off x="2730600" y="5486400"/>
            <a:ext cx="3609720" cy="96372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2 из 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1071720"/>
            <a:ext cx="3071880" cy="407196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  <p:pic>
        <p:nvPicPr>
          <p:cNvPr id="57" name="Прямоугольник 8" descr=""/>
          <p:cNvPicPr/>
          <p:nvPr/>
        </p:nvPicPr>
        <p:blipFill>
          <a:blip r:embed="rId7"/>
          <a:stretch/>
        </p:blipFill>
        <p:spPr>
          <a:xfrm>
            <a:off x="5943600" y="4627440"/>
            <a:ext cx="2968560" cy="14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ttp://www.ido.rudn.ru/psychology/psychogenetic/biograf81.jpg"/>
          <p:cNvPicPr/>
          <p:nvPr/>
        </p:nvPicPr>
        <p:blipFill>
          <a:blip r:embed="rId8"/>
          <a:stretch/>
        </p:blipFill>
        <p:spPr>
          <a:xfrm>
            <a:off x="6286680" y="642960"/>
            <a:ext cx="2714400" cy="392904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50">
            <a:hlinkClick r:id="rId1"/>
          </p:cNvPr>
          <p:cNvPicPr/>
          <p:nvPr/>
        </p:nvPicPr>
        <p:blipFill>
          <a:blip r:embed="rId2"/>
          <a:srcRect l="12697" t="5632" r="12697" b="15516"/>
          <a:stretch/>
        </p:blipFill>
        <p:spPr>
          <a:xfrm>
            <a:off x="1000080" y="642960"/>
            <a:ext cx="3571920" cy="442908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60" name="Прямоугольник 3" descr=""/>
          <p:cNvPicPr/>
          <p:nvPr/>
        </p:nvPicPr>
        <p:blipFill>
          <a:blip r:embed="rId3"/>
          <a:stretch/>
        </p:blipFill>
        <p:spPr>
          <a:xfrm>
            <a:off x="1073160" y="5200560"/>
            <a:ext cx="34257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Wilhelm Johannsen 1857-192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3680" y="642960"/>
            <a:ext cx="3429000" cy="436716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62" name="Прямоугольник 5" descr=""/>
          <p:cNvPicPr/>
          <p:nvPr/>
        </p:nvPicPr>
        <p:blipFill>
          <a:blip r:embed="rId6"/>
          <a:stretch/>
        </p:blipFill>
        <p:spPr>
          <a:xfrm>
            <a:off x="4925880" y="5200560"/>
            <a:ext cx="4218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2 из 2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857160"/>
            <a:ext cx="3105000" cy="381024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  <p:pic>
        <p:nvPicPr>
          <p:cNvPr id="64" name="Прямоугольник 4" descr=""/>
          <p:cNvPicPr/>
          <p:nvPr/>
        </p:nvPicPr>
        <p:blipFill>
          <a:blip r:embed="rId3"/>
          <a:stretch/>
        </p:blipFill>
        <p:spPr>
          <a:xfrm>
            <a:off x="360360" y="4638600"/>
            <a:ext cx="3638520" cy="86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1 из 30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3680" y="928800"/>
            <a:ext cx="3214440" cy="388116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  <p:pic>
        <p:nvPicPr>
          <p:cNvPr id="66" name="Прямоугольник 7" descr=""/>
          <p:cNvPicPr/>
          <p:nvPr/>
        </p:nvPicPr>
        <p:blipFill>
          <a:blip r:embed="rId6"/>
          <a:stretch/>
        </p:blipFill>
        <p:spPr>
          <a:xfrm>
            <a:off x="4645080" y="4986360"/>
            <a:ext cx="39258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523800"/>
            <a:ext cx="6527520" cy="457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Admin\Рабочий стол\анимашки\4.gif"/>
          <p:cNvPicPr/>
          <p:nvPr/>
        </p:nvPicPr>
        <p:blipFill>
          <a:blip r:embed="rId2"/>
          <a:stretch/>
        </p:blipFill>
        <p:spPr>
          <a:xfrm>
            <a:off x="714240" y="500076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42:00Z</dcterms:created>
  <dc:creator>Admin</dc:creator>
  <dc:description/>
  <dc:language>en-US</dc:language>
  <cp:lastModifiedBy>Учитель-23</cp:lastModifiedBy>
  <dcterms:modified xsi:type="dcterms:W3CDTF">2012-12-15T15:30:34Z</dcterms:modified>
  <cp:revision>26</cp:revision>
  <dc:subject/>
  <dc:title>Слайд 1</dc:title>
</cp:coreProperties>
</file>