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0EB28-71B0-48F8-B6F6-F909FB6D7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BDA57-826B-4015-BA22-E9D160453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2D2DD-7E55-421C-A044-398E8A8A5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C89B6-9572-4AB9-983A-5B817CE5E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94DD1-124F-428B-A6D6-CCC24D01D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892F4-6B18-4B82-B8DC-567F89968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EED61-B8DD-41CD-9BF0-7472C5890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8A47D-8C5A-4D9C-9F0F-CD76C1FF0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613A2-6FE1-4D07-B586-E32A9B08C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6F47E-BEDB-4361-B49E-34FC416F3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3A3B8-EDE7-46D6-885F-E68B9DD48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9BA26-EB46-4E8F-9656-D7B840596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2C10C-B16E-43F7-8577-57B801D69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AE053-57E9-4C7B-9C03-23B926AC6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7D1EF-C1D6-40F3-8977-2AF193DB5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60509-03D6-4F83-8BE9-FFE7E1D5B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FE80A-ED5E-41BD-9255-07D35EFD6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B777C-7848-41C0-AABC-874BC5489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44FE9-282B-4F46-B12F-DE21717BD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32D4A-4E27-4384-AF5B-3479ECEEB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ABA1F-243E-43F1-9279-0E550548C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E0E29-AD7C-4F3C-A0EF-4B8F9C7BE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CE3BF-0423-44EF-9D23-069B06FB5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32F27-4096-487B-972A-E9C62E44B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8400"/>
            <a:ext cx="8915400" cy="6713280"/>
            <a:chOff x="0" y="68400"/>
            <a:chExt cx="8915400" cy="6713280"/>
          </a:xfrm>
        </p:grpSpPr>
        <p:grpSp>
          <p:nvGrpSpPr>
            <p:cNvPr id="1" name=""/>
            <p:cNvGrpSpPr/>
            <p:nvPr/>
          </p:nvGrpSpPr>
          <p:grpSpPr>
            <a:xfrm>
              <a:off x="0" y="68400"/>
              <a:ext cx="647640" cy="6713280"/>
              <a:chOff x="0" y="68400"/>
              <a:chExt cx="647640" cy="671328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6672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72948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781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652932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6453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660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58197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57769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63817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6181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6053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6348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5853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59389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6253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6219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55720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56293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5681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54291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53532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500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47196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4676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52815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508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0" y="49528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0" y="52484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0" y="47530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0" y="4838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0" y="515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0" y="51195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0" y="449424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0" y="43657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0" y="4251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0" y="4565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0" y="45324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0" y="4054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0" y="4111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0" y="41641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0" y="391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0" y="3835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0" y="398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0" y="3763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0" y="35640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0" y="37306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0" y="36352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36021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0" y="3381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0" y="3438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3490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0" y="3238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3162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0" y="3309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0" y="25290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24861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09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2890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762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3057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621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6478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0" y="29624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0" y="29289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0" y="2281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0" y="2338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0" y="23907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0" y="21384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0" y="22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0" y="16128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0" y="1569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0" y="19749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0" y="1846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0" y="1646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0" y="17319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0" y="20462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0" y="2013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0" y="1365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0" y="1422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0" y="1474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0" y="12222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0" y="1293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0" y="1139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10256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828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885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9381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0" y="685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0" y="6094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0" y="7570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0" y="538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0" y="504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0" y="4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0" y="111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0" y="6840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0" y="144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0" y="230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0" y="320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635040" y="325440"/>
              <a:ext cx="8280360" cy="1782720"/>
              <a:chOff x="635040" y="325440"/>
              <a:chExt cx="8280360" cy="1782720"/>
            </a:xfrm>
          </p:grpSpPr>
          <p:sp>
            <p:nvSpPr>
              <p:cNvPr id="101" name=""/>
              <p:cNvSpPr/>
              <p:nvPr/>
            </p:nvSpPr>
            <p:spPr>
              <a:xfrm>
                <a:off x="884160" y="325440"/>
                <a:ext cx="496800" cy="145080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35040" y="4572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300800" y="1770120"/>
                <a:ext cx="1474920" cy="33804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252960" y="19224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020600" indent="-2145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342800" indent="-214560">
              <a:spcBef>
                <a:spcPts val="7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1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2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3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275CF-C851-430E-ABA8-C8350876B6A0}" type="slidenum"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0" y="68400"/>
            <a:ext cx="8678880" cy="6713280"/>
            <a:chOff x="0" y="68400"/>
            <a:chExt cx="8678880" cy="6713280"/>
          </a:xfrm>
        </p:grpSpPr>
        <p:sp>
          <p:nvSpPr>
            <p:cNvPr id="147" name=""/>
            <p:cNvSpPr/>
            <p:nvPr/>
          </p:nvSpPr>
          <p:spPr>
            <a:xfrm>
              <a:off x="1098720" y="784080"/>
              <a:ext cx="7580160" cy="14860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0" y="68400"/>
              <a:ext cx="990720" cy="6713280"/>
              <a:chOff x="0" y="68400"/>
              <a:chExt cx="990720" cy="6713280"/>
            </a:xfrm>
          </p:grpSpPr>
          <p:sp>
            <p:nvSpPr>
              <p:cNvPr id="149" name=""/>
              <p:cNvSpPr/>
              <p:nvPr/>
            </p:nvSpPr>
            <p:spPr>
              <a:xfrm>
                <a:off x="0" y="6672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0" y="672948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0" y="6781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0" y="652932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0" y="6453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0" y="660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0" y="58197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0" y="57769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0" y="63817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0" y="6181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0" y="6053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0" y="6348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0" y="5853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0" y="59389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0" y="6253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6219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55720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56293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5681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0" y="54291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0" y="53532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0" y="5500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0" y="47196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0" y="4676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0" y="52815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0" y="508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0" y="49528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0" y="52484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0" y="47530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0" y="4838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0" y="515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0" y="51195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0" y="449424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0" y="43657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0" y="4251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0" y="4565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0" y="45324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0" y="4054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0" y="4111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0" y="41641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0" y="391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0" y="3835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0" y="398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0" y="3763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0" y="35640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0" y="37306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0" y="36352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0" y="36021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0" y="3381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0" y="3438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0" y="3490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0" y="3238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0" y="3162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0" y="3309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0" y="25290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0" y="24861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0" y="309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0" y="2890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0" y="2762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0" y="3057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0" y="25621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0" y="26478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0" y="29624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0" y="29289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0" y="2281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0" y="2338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0" y="23907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0" y="21384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0" y="22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0" y="16128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0" y="1569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0" y="19749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0" y="1846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0" y="1646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0" y="17319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0" y="20462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0" y="2013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0" y="1365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0" y="1422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0" y="1474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0" y="12222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0" y="1293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0" y="1139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0" y="10256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0" y="828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0" y="885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0" y="9381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685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0" y="6094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0" y="7570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538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0" y="504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0" y="4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0" y="111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0" y="6840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144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0" y="230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0" y="320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7" name="PlaceHolder 1"/>
          <p:cNvSpPr>
            <a:spLocks noGrp="1"/>
          </p:cNvSpPr>
          <p:nvPr>
            <p:ph type="dt" idx="4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5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6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5C6A8-D08A-4957-8D87-CA0219756121}" type="slidenum"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017880" y="2120760"/>
            <a:ext cx="5662440" cy="77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098720" y="861840"/>
            <a:ext cx="5662440" cy="781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2" marL="857160" algn="ctr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3" marL="1200240" algn="ctr">
              <a:spcBef>
                <a:spcPts val="4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4" marL="1542960" algn="ctr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5" marL="154296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6" marL="154296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Химическое равновесие.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914040" y="2693520"/>
            <a:ext cx="8458200" cy="29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761760" y="609120"/>
            <a:ext cx="7988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Задания по вариантам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52280" y="2214360"/>
            <a:ext cx="8615520" cy="433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1-ВАРИАНТ -</a:t>
            </a:r>
            <a:r>
              <a:rPr b="1" lang="en-US" sz="3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В пробирку №1 помести</a:t>
            </a: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ли</a:t>
            </a:r>
            <a:r>
              <a:rPr b="1" lang="en-US" sz="3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порошок железа, а в №2- стружки железа. В каждую добав</a:t>
            </a: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или</a:t>
            </a:r>
            <a:r>
              <a:rPr b="1" lang="en-US" sz="3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серной кислоты. Объясните, как идет реакция?</a:t>
            </a: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2- ВАРИАНТ-</a:t>
            </a:r>
            <a:r>
              <a:rPr b="1" lang="en-US" sz="3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В пробирку №1 и №2 помести</a:t>
            </a: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ли</a:t>
            </a:r>
            <a:r>
              <a:rPr b="1" lang="en-US" sz="3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 </a:t>
            </a: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цинк</a:t>
            </a:r>
            <a:r>
              <a:rPr b="1" lang="en-US" sz="3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. В пробирку №1 добав</a:t>
            </a: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или</a:t>
            </a:r>
            <a:r>
              <a:rPr b="1" lang="en-US" sz="3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серной кислоты 5%, а в №2- 30%. Объясните, как идет реакция?</a:t>
            </a: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8750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Задание №2 по вариантам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ва средняя скорость реакции А+В=2С, если известно,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0" y="2214720"/>
            <a:ext cx="914400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1-ВАРИАНТ-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через 10с от начало реакции концентрация вещества А равна 0,08 моль/л, а через 20с-0,06 моль/л?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2- ВАРИАНТ-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начальная концентрация вещества А=0,22 моль/л, а через 10с-0,215 моль/л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28240" y="609120"/>
            <a:ext cx="85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Задание №3 по вариантам:</a:t>
            </a:r>
            <a:r>
              <a:rPr b="1" lang="en-US" sz="3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Куда сместится равновесие вследствие увеличения давления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Times New Roman"/>
              </a:rPr>
              <a:t>1-ВАРИАНТ</a:t>
            </a: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-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</a:t>
            </a:r>
            <a:r>
              <a:rPr b="1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1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</a:t>
            </a:r>
            <a:r>
              <a:rPr b="1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Times New Roman"/>
              </a:rPr>
              <a:t>2-ВАРИАНТ-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</a:t>
            </a:r>
            <a:r>
              <a:rPr b="1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1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3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1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8750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Times New Roman"/>
              </a:rPr>
              <a:t>Задание №4 :</a:t>
            </a:r>
            <a:r>
              <a:rPr b="1" lang="ru-RU" sz="3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Куда сместится равновесие вследствие увеличения </a:t>
            </a:r>
            <a:r>
              <a:rPr b="1" lang="ru-RU" sz="3200" spc="-1" strike="noStrike">
                <a:solidFill>
                  <a:srgbClr val="003366"/>
                </a:solidFill>
                <a:latin typeface="Times New Roman"/>
              </a:rPr>
              <a:t>1) температуры  </a:t>
            </a:r>
            <a:br>
              <a:rPr sz="3200"/>
            </a:br>
            <a:r>
              <a:rPr b="1" lang="ru-RU" sz="3200" spc="-1" strike="noStrike">
                <a:solidFill>
                  <a:srgbClr val="003366"/>
                </a:solidFill>
                <a:latin typeface="Times New Roman"/>
              </a:rPr>
              <a:t>2) </a:t>
            </a:r>
            <a:r>
              <a:rPr b="1" lang="ru-RU" sz="3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давления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228600" y="2214360"/>
            <a:ext cx="8539200" cy="433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Times New Roman"/>
              </a:rPr>
              <a:t>1-ВАРИАНТ-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Times New Roman"/>
              </a:rPr>
              <a:t>1)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US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3H</a:t>
            </a:r>
            <a:r>
              <a:rPr b="1" lang="en-US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NH</a:t>
            </a:r>
            <a:r>
              <a:rPr b="1" lang="en-US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Q  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1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Times New Roman"/>
              </a:rPr>
              <a:t>2-ВАРИАНТ</a:t>
            </a: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-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1)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1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1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 +Q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2HgO= 2Hg + 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Q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80520" y="740880"/>
            <a:ext cx="8077320" cy="545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1.В пробирку №1 и №2 </a:t>
            </a: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помести</a:t>
            </a: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ли</a:t>
            </a:r>
            <a:r>
              <a:rPr b="1" lang="en-US" sz="4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оксид меди. </a:t>
            </a:r>
            <a:br>
              <a:rPr sz="4400"/>
            </a:br>
            <a:r>
              <a:rPr b="1" lang="en-US" sz="4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В каждую доба</a:t>
            </a: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вили</a:t>
            </a:r>
            <a:r>
              <a:rPr b="1" lang="en-US" sz="4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серной кислоты. Пробирку №2 нагре</a:t>
            </a: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ли</a:t>
            </a:r>
            <a:r>
              <a:rPr b="1" lang="en-US" sz="4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. Объясните, как идет реакция в обоих пробирках?</a:t>
            </a:r>
            <a:br>
              <a:rPr sz="4400"/>
            </a:b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-360" y="133200"/>
            <a:ext cx="8458200" cy="61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CuO+H</a:t>
            </a: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SO</a:t>
            </a: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4</a:t>
            </a: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=CuSO</a:t>
            </a: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4</a:t>
            </a: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 +H</a:t>
            </a: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O</a:t>
            </a: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003366"/>
                </a:solidFill>
                <a:latin typeface="Times New Roman"/>
              </a:rPr>
              <a:t>При </a:t>
            </a: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t</a:t>
            </a:r>
            <a:r>
              <a:rPr b="1" lang="ru-RU" sz="3600" spc="-1" strike="noStrike">
                <a:solidFill>
                  <a:srgbClr val="003366"/>
                </a:solidFill>
                <a:latin typeface="Times New Roman"/>
              </a:rPr>
              <a:t> движение частиц происходит быстрее и возрастает возможность их столкновений. Нагревание снабжает частиц новым запасом энергии, делает их более активными. При нагревании раствор стал голубым, а без </a:t>
            </a: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t</a:t>
            </a:r>
            <a:r>
              <a:rPr b="1" lang="ru-RU" sz="3600" spc="-1" strike="noStrike">
                <a:solidFill>
                  <a:srgbClr val="003366"/>
                </a:solidFill>
                <a:latin typeface="Times New Roman"/>
              </a:rPr>
              <a:t>- не изменяется.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228240" y="609480"/>
            <a:ext cx="852156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2.Вычислите среднюю скорость хим</a:t>
            </a:r>
            <a:r>
              <a:rPr b="1" lang="ru-RU" sz="3600" spc="-1" strike="noStrike">
                <a:solidFill>
                  <a:srgbClr val="003366"/>
                </a:solidFill>
                <a:latin typeface="Times New Roman"/>
              </a:rPr>
              <a:t>ической</a:t>
            </a:r>
            <a:r>
              <a:rPr b="1" lang="ru-RU" sz="3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реакции</a:t>
            </a:r>
            <a:r>
              <a:rPr b="1" lang="ru-RU" sz="3600" spc="-1" strike="noStrike">
                <a:solidFill>
                  <a:srgbClr val="003366"/>
                </a:solidFill>
                <a:latin typeface="Times New Roman"/>
              </a:rPr>
              <a:t>: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N</a:t>
            </a:r>
            <a:r>
              <a:rPr b="1" lang="ru-RU" sz="2800" spc="-1" strike="noStrike" baseline="-30000">
                <a:solidFill>
                  <a:srgbClr val="003366"/>
                </a:solidFill>
                <a:latin typeface="Times New Roman"/>
              </a:rPr>
              <a:t>2</a:t>
            </a:r>
            <a:r>
              <a:rPr b="1" lang="ru-RU" sz="3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+</a:t>
            </a:r>
            <a:r>
              <a:rPr b="1" lang="en-US" sz="3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O</a:t>
            </a:r>
            <a:r>
              <a:rPr b="1" lang="ru-RU" sz="2800" spc="-1" strike="noStrike" baseline="-30000">
                <a:solidFill>
                  <a:srgbClr val="003366"/>
                </a:solidFill>
                <a:latin typeface="Times New Roman"/>
                <a:ea typeface="Times New Roman"/>
              </a:rPr>
              <a:t>2</a:t>
            </a:r>
            <a:r>
              <a:rPr b="1" lang="ru-RU" sz="3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=2</a:t>
            </a:r>
            <a:r>
              <a:rPr b="1" lang="en-US" sz="3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NO</a:t>
            </a:r>
            <a:r>
              <a:rPr b="1" lang="ru-RU" sz="3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, если в пятилитровом сосуде через 51 сек. после ее начала концентрация азота была 0,52 моль/л</a:t>
            </a:r>
            <a:r>
              <a:rPr b="1" lang="ru-RU" sz="3600" spc="-1" strike="noStrike">
                <a:solidFill>
                  <a:srgbClr val="003366"/>
                </a:solidFill>
                <a:latin typeface="Times New Roman"/>
              </a:rPr>
              <a:t>.</a:t>
            </a:r>
            <a:r>
              <a:rPr b="1" lang="ru-RU" sz="3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, а через 98 сек. стала 0,41 моль/л.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8750160" cy="472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3366"/>
                </a:solidFill>
                <a:latin typeface="Arial"/>
              </a:rPr>
              <a:t>       </a:t>
            </a:r>
            <a:r>
              <a:rPr b="1" lang="en-US" sz="6000" spc="-1" strike="noStrike">
                <a:solidFill>
                  <a:srgbClr val="003366"/>
                </a:solidFill>
                <a:latin typeface="Arial"/>
              </a:rPr>
              <a:t>Решение:</a:t>
            </a:r>
            <a:br>
              <a:rPr sz="6000"/>
            </a:br>
            <a:br>
              <a:rPr sz="6000"/>
            </a:br>
            <a:br>
              <a:rPr sz="6000"/>
            </a:br>
            <a:endParaRPr b="0" lang="en-US" sz="6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209680" y="3048120"/>
            <a:ext cx="36036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-25000">
                <a:solidFill>
                  <a:srgbClr val="003366"/>
                </a:solidFill>
                <a:latin typeface="Arial"/>
              </a:rPr>
              <a:t>=</a:t>
            </a: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590920" y="2819520"/>
            <a:ext cx="287280" cy="17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baseline="-25000">
                <a:solidFill>
                  <a:srgbClr val="003366"/>
                </a:solidFill>
                <a:latin typeface="Arial"/>
              </a:rPr>
              <a:t>+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666880" y="3352680"/>
            <a:ext cx="216000" cy="0"/>
          </a:xfrm>
          <a:prstGeom prst="line">
            <a:avLst/>
          </a:prstGeom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048120" y="2666880"/>
            <a:ext cx="28810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С</a:t>
            </a:r>
            <a:r>
              <a:rPr b="1" lang="en-US" sz="3200" spc="-1" strike="noStrike" baseline="-25000">
                <a:solidFill>
                  <a:srgbClr val="003366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 – С</a:t>
            </a:r>
            <a:r>
              <a:rPr b="1" lang="en-US" sz="3200" spc="-1" strike="noStrike" baseline="-25000">
                <a:solidFill>
                  <a:srgbClr val="003366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971800" y="3276720"/>
            <a:ext cx="1727280" cy="0"/>
          </a:xfrm>
          <a:prstGeom prst="line">
            <a:avLst/>
          </a:prstGeom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95480" y="3200400"/>
            <a:ext cx="165600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Arial"/>
              </a:rPr>
              <a:t>t</a:t>
            </a:r>
            <a:r>
              <a:rPr b="1" lang="en-US" sz="4000" spc="-1" strike="noStrike" baseline="-25000">
                <a:solidFill>
                  <a:srgbClr val="003366"/>
                </a:solidFill>
                <a:latin typeface="Arial"/>
              </a:rPr>
              <a:t>2</a:t>
            </a:r>
            <a:r>
              <a:rPr b="1" lang="en-US" sz="4000" spc="-1" strike="noStrike">
                <a:solidFill>
                  <a:srgbClr val="003366"/>
                </a:solidFill>
                <a:latin typeface="Arial"/>
              </a:rPr>
              <a:t> – t</a:t>
            </a:r>
            <a:r>
              <a:rPr b="1" lang="en-US" sz="4000" spc="-1" strike="noStrike" baseline="-25000">
                <a:solidFill>
                  <a:srgbClr val="003366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600200" y="1981080"/>
            <a:ext cx="6094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1" lang="en-US" sz="6000" spc="-1" strike="noStrike">
                <a:solidFill>
                  <a:srgbClr val="003366"/>
                </a:solidFill>
                <a:latin typeface="Arial"/>
              </a:rPr>
              <a:t>V</a:t>
            </a:r>
            <a:endParaRPr b="0" lang="en-US" sz="6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38080" y="4267080"/>
            <a:ext cx="36036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-25000">
                <a:solidFill>
                  <a:srgbClr val="003366"/>
                </a:solidFill>
                <a:latin typeface="Arial"/>
              </a:rPr>
              <a:t>=</a:t>
            </a: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219320" y="4038480"/>
            <a:ext cx="19810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baseline="-25000">
                <a:solidFill>
                  <a:srgbClr val="003366"/>
                </a:solidFill>
                <a:latin typeface="Arial"/>
              </a:rPr>
              <a:t>0,52- 0,41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295280" y="4495680"/>
            <a:ext cx="16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98 -51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295280" y="4572000"/>
            <a:ext cx="198144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352680" y="4267080"/>
            <a:ext cx="36036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-25000">
                <a:solidFill>
                  <a:srgbClr val="003366"/>
                </a:solidFill>
                <a:latin typeface="Arial"/>
              </a:rPr>
              <a:t>=</a:t>
            </a: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809880" y="4419720"/>
            <a:ext cx="15242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baseline="-25000">
                <a:solidFill>
                  <a:srgbClr val="003366"/>
                </a:solidFill>
                <a:latin typeface="Arial"/>
              </a:rPr>
              <a:t>0,0023 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0" y="3276720"/>
            <a:ext cx="6094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1" lang="en-US" sz="6000" spc="-1" strike="noStrike">
                <a:solidFill>
                  <a:srgbClr val="003366"/>
                </a:solidFill>
                <a:latin typeface="Arial"/>
              </a:rPr>
              <a:t>V</a:t>
            </a:r>
            <a:endParaRPr b="0" lang="en-US" sz="6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500"/>
                            </p:stCondLst>
                            <p:childTnLst>
                              <p:par>
                                <p:cTn id="2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3000"/>
                            </p:stCondLst>
                            <p:childTnLst>
                              <p:par>
                                <p:cTn id="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50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4000"/>
                            </p:stCondLst>
                            <p:childTnLst>
                              <p:par>
                                <p:cTn id="3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4500"/>
                            </p:stCondLst>
                            <p:childTnLst>
                              <p:par>
                                <p:cTn id="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500"/>
                            </p:stCondLst>
                            <p:childTnLst>
                              <p:par>
                                <p:cTn id="4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69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3.Куда сместится равновесие</a:t>
            </a:r>
            <a:br>
              <a:rPr sz="4400"/>
            </a:br>
            <a:br>
              <a:rPr sz="4400"/>
            </a:br>
            <a:r>
              <a:rPr b="1" lang="ru-RU" sz="4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вследствие увеличения температуры  </a:t>
            </a:r>
            <a:br>
              <a:rPr sz="4400"/>
            </a:br>
            <a:r>
              <a:rPr b="1" lang="en-US" sz="4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N</a:t>
            </a:r>
            <a:r>
              <a:rPr b="1" lang="ru-RU" sz="3600" spc="-1" strike="noStrike" baseline="-30000">
                <a:solidFill>
                  <a:srgbClr val="003366"/>
                </a:solidFill>
                <a:latin typeface="Times New Roman"/>
                <a:ea typeface="Times New Roman"/>
              </a:rPr>
              <a:t>2</a:t>
            </a:r>
            <a:r>
              <a:rPr b="1" lang="ru-RU" sz="4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+</a:t>
            </a:r>
            <a:r>
              <a:rPr b="1" lang="en-US" sz="4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O</a:t>
            </a:r>
            <a:r>
              <a:rPr b="1" lang="ru-RU" sz="3600" spc="-1" strike="noStrike" baseline="-30000">
                <a:solidFill>
                  <a:srgbClr val="003366"/>
                </a:solidFill>
                <a:latin typeface="Times New Roman"/>
                <a:ea typeface="Times New Roman"/>
              </a:rPr>
              <a:t>2</a:t>
            </a:r>
            <a:r>
              <a:rPr b="1" lang="ru-RU" sz="4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=2</a:t>
            </a:r>
            <a:r>
              <a:rPr b="1" lang="en-US" sz="4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NO</a:t>
            </a:r>
            <a:r>
              <a:rPr b="1" lang="ru-RU" sz="4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-180 кДж</a:t>
            </a:r>
            <a:br>
              <a:rPr sz="4400"/>
            </a:b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09120" y="609480"/>
            <a:ext cx="81406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66"/>
                </a:solidFill>
                <a:latin typeface="Times New Roman"/>
              </a:rPr>
              <a:t>      </a:t>
            </a:r>
            <a:r>
              <a:rPr b="1" lang="en-US" sz="4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N</a:t>
            </a:r>
            <a:r>
              <a:rPr b="1" lang="ru-RU" sz="3600" spc="-1" strike="noStrike" baseline="-30000">
                <a:solidFill>
                  <a:srgbClr val="003366"/>
                </a:solidFill>
                <a:latin typeface="Times New Roman"/>
                <a:ea typeface="Times New Roman"/>
              </a:rPr>
              <a:t>2</a:t>
            </a:r>
            <a:r>
              <a:rPr b="1" lang="ru-RU" sz="4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+</a:t>
            </a:r>
            <a:r>
              <a:rPr b="1" lang="en-US" sz="4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O</a:t>
            </a:r>
            <a:r>
              <a:rPr b="1" lang="ru-RU" sz="3600" spc="-1" strike="noStrike" baseline="-30000">
                <a:solidFill>
                  <a:srgbClr val="003366"/>
                </a:solidFill>
                <a:latin typeface="Times New Roman"/>
                <a:ea typeface="Times New Roman"/>
              </a:rPr>
              <a:t>2</a:t>
            </a:r>
            <a:r>
              <a:rPr b="1" lang="ru-RU" sz="4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=2</a:t>
            </a:r>
            <a:r>
              <a:rPr b="1" lang="en-US" sz="4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NO</a:t>
            </a:r>
            <a:r>
              <a:rPr b="1" lang="ru-RU" sz="4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-180 кДж</a:t>
            </a:r>
            <a:br>
              <a:rPr sz="4400"/>
            </a:br>
            <a:br>
              <a:rPr sz="4400"/>
            </a:br>
            <a:r>
              <a:rPr b="1" lang="ru-RU" sz="4400" spc="-1" strike="noStrike">
                <a:solidFill>
                  <a:srgbClr val="003366"/>
                </a:solidFill>
                <a:latin typeface="Times New Roman"/>
              </a:rPr>
              <a:t> Вправо, т.к. равновесие смещается в сторону эндотермической реакции.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692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1" lang="en-US" sz="4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Дайте определение термохимической реакции.</a:t>
            </a: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15328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Термохимической называется</a:t>
            </a: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химическое уравнение с указанием теплового эффекта реакции.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5T14:03:23Z</dcterms:created>
  <dc:creator>Серега</dc:creator>
  <dc:description/>
  <dc:language>en-US</dc:language>
  <cp:lastModifiedBy>Home</cp:lastModifiedBy>
  <dcterms:modified xsi:type="dcterms:W3CDTF">2012-12-19T17:06:06Z</dcterms:modified>
  <cp:revision>4</cp:revision>
  <dc:subject/>
  <dc:title>1.В пробирку №1 и №2   поместили оксид меди. В каждую добавили серной кислоты. Пробирку №2 нагрели. Объясните, как идет реакция в обоих пробирках? </dc:title>
</cp:coreProperties>
</file>