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FF1-7522-4982-A3B9-9714880C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E30-AD9D-4BF0-AFD9-49DDBF73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0DE-E3F1-42C6-A849-B0FCC22C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D33-B9A1-43D3-9875-C07541DC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9CB7-ACF4-40DB-8E66-919B1295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DD14-1C4E-412E-9C8F-3E9271B9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8DA9-9FA4-472E-BCDE-F4591A29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7913-4D28-42F0-B2A8-61F07904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4860-2A0D-41FB-9571-42665E30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BE03-626E-470F-9A3C-D809C20C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7FC3-BEE3-4697-A4B2-F29D6354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45E-CF9D-4C7C-AC54-9DD4BF8B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A58F-3697-4C06-BE34-746C9113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D3C0-D280-450E-9F1A-506ED377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0691-70D4-4506-BBE9-CAC2C0C9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3391-CC8B-4E16-9B53-3FFD9844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79F3-E996-4B0A-AC9A-5E1B3EFD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3F1-C664-4689-801E-1A88C3A1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75E-43EA-469D-91A6-817B66DA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BF7-8468-4D1C-83A9-E174FAE6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DEB-D3DF-4F48-B6E0-65B701F7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646-1409-4B4F-BCC8-CFA9DC46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871-E1BF-4BA3-B450-218FC19D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84F-7631-46F3-BEC7-1EF88D43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B306-7CE8-49DE-ABD8-222C8A8275B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5018-0F80-43B7-A802-80A11BBA860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Химическое равновесие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914040" y="2693520"/>
            <a:ext cx="845820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Задания по вариантам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2214360"/>
            <a:ext cx="861552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-ВАРИАНТ -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пробирку №1 помест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л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порошок железа, а в №2- стружки железа. В каждую добав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ил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ерной кислоты. Объясните, как идет реакция?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2- ВАРИАНТ-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пробирку №1 и №2 помест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л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цинк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В пробирку №1 добав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или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ерной кислоты 5%, а в №2- 30%. Объясните, как идет реакция?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Задание №2 по вариантам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средняя скорость реакции А+В=2С, если известно,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2214720"/>
            <a:ext cx="91440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-ВАРИАНТ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через 10с от начало реакции концентрация вещества А равна 0,08 моль/л, а через 20с-0,06 моль/л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2- ВАРИАНТ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чальная концентрация вещества А=0,22 моль/л, а через 10с-0,215 моль/л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Задание №3 по вариантам: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да сместится равновесие вследствие увеличения давл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1-ВАРИАНТ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2-ВАРИАНТ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Задание №4 :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да сместится равновесие вследствие увеличения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1) температуры 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2)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вления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2214360"/>
            <a:ext cx="853920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1-ВАРИАНТ-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N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Q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2-ВАРИАНТ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Q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2HgO= 2Hg +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Q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520" y="740880"/>
            <a:ext cx="8077320" cy="54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В пробирку №1 и №2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мести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ли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оксид меди.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каждую доба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вили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ерной кислоты. Пробирку №2 нагре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ли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Объясните, как идет реакция в обоих пробирках?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33200"/>
            <a:ext cx="8458200" cy="61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uO+H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O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=CuSO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+H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ри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движение частиц происходит быстрее и возрастает возможность их столкновений. Нагревание снабжает частиц новым запасом энергии, делает их более активными. При нагревании раствор стал голубым, а без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- не изменяется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215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Вычислите среднюю скорость хим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ической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реакции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</a:t>
            </a:r>
            <a:r>
              <a:rPr b="1" lang="ru-RU" sz="2800" spc="-1" strike="noStrike" baseline="-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r>
              <a:rPr b="1" lang="ru-RU" sz="28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2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если в пятилитровом сосуде через 51 сек. после ее начала концентрация азота была 0,52 моль/л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а через 98 сек. стала 0,41 моль/л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75016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Решение: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9680" y="3048120"/>
            <a:ext cx="36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3366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819520"/>
            <a:ext cx="28728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3366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3352680"/>
            <a:ext cx="216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2666880"/>
            <a:ext cx="288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– С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3276720"/>
            <a:ext cx="1727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3200400"/>
            <a:ext cx="16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– t</a:t>
            </a:r>
            <a:r>
              <a:rPr b="1" lang="en-US" sz="4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1981080"/>
            <a:ext cx="609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267080"/>
            <a:ext cx="36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3366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4038480"/>
            <a:ext cx="1981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3366"/>
                </a:solidFill>
                <a:latin typeface="Arial"/>
              </a:rPr>
              <a:t>0,52- 0,41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44956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98 -5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4572000"/>
            <a:ext cx="1981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2680" y="4267080"/>
            <a:ext cx="36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-25000">
                <a:solidFill>
                  <a:srgbClr val="003366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419720"/>
            <a:ext cx="1524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3366"/>
                </a:solidFill>
                <a:latin typeface="Arial"/>
              </a:rPr>
              <a:t>0,0023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76720"/>
            <a:ext cx="609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69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Куда сместится равновесие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следствие увеличения температуры 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</a:t>
            </a:r>
            <a:r>
              <a:rPr b="1" lang="ru-RU" sz="3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r>
              <a:rPr b="1" lang="ru-RU" sz="3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2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180 кДж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140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</a:t>
            </a:r>
            <a:r>
              <a:rPr b="1" lang="ru-RU" sz="3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+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</a:t>
            </a:r>
            <a:r>
              <a:rPr b="1" lang="ru-RU" sz="36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=2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NO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180 кДж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 Вправо, т.к. равновесие смещается в сторону эндотермической реакции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69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Дайте определение термохимической реакции.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Термохимической называется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химическое уравнение с указанием теплового эффекта реакции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4:03:23Z</dcterms:created>
  <dc:creator>Серега</dc:creator>
  <dc:description/>
  <dc:language>en-US</dc:language>
  <cp:lastModifiedBy>Home</cp:lastModifiedBy>
  <dcterms:modified xsi:type="dcterms:W3CDTF">2012-12-19T17:06:06Z</dcterms:modified>
  <cp:revision>4</cp:revision>
  <dc:subject/>
  <dc:title>1.В пробирку №1 и №2   поместили оксид меди. В каждую добавили серной кислоты. Пробирку №2 нагрели. Объясните, как идет реакция в обоих пробирках? </dc:title>
</cp:coreProperties>
</file>