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6372-A6B7-4A8E-A706-E2946E1E6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750C-4201-4829-BDE2-D5142BA2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8FCE-7243-4921-A8CD-F6E33D61C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ADBC-8D80-486F-AE3F-F4F7E90D4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7A56-3577-4D69-AE0B-56DD63DC6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3379-3545-4FF8-B1C4-030703A0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3A7B-18F5-4C7E-9F97-9F6DE66B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CBA5-B2EB-4A4F-A2A3-0BED038A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CB29-EFC7-4FCA-A715-DF289379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9E08-18EE-459C-819C-07D50B24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954E-305E-43CE-893C-63A08FB2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E6F0-6AD9-4EC6-8819-F208A64B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3813-0CB8-4F91-A66C-50D13C89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76BD-D134-4220-B038-1156D82B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AA89-1A86-42F2-9DF5-D7DC6461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1517-C470-4BDA-BF3F-165AF57F9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5687-4509-42F6-9570-91B211759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ABA3-92A7-4DF1-A3EC-5C6CB71E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4C70-5618-407F-9967-6AAD3010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1F99-A107-4C52-AADB-8462A8C5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749D-EA27-4B14-89F0-C977D5FE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7B86-0A66-4F41-8AA2-9650452E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15F2-CBF8-44C6-95EE-DA2CBD1C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FE44-9355-46EF-AAFA-2729F56F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ce1"/>
            </a:gs>
            <a:gs pos="100000">
              <a:srgbClr val="66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E2F9-0494-438C-B004-7E85B853F5D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ce1"/>
            </a:gs>
            <a:gs pos="100000">
              <a:srgbClr val="66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75CF-C89D-477E-8BF8-4F09D9E772B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ce1"/>
            </a:gs>
            <a:gs pos="100000">
              <a:srgbClr val="66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556400" cy="16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Times New Roman"/>
              </a:rPr>
              <a:t>Презентация на тему: </a:t>
            </a:r>
            <a:r>
              <a:rPr b="1" lang="ru-RU" sz="4400" spc="-1" strike="noStrike">
                <a:solidFill>
                  <a:srgbClr val="990099"/>
                </a:solidFill>
                <a:latin typeface="Calibri"/>
              </a:rPr>
              <a:t>«</a:t>
            </a:r>
            <a:r>
              <a:rPr b="1" lang="ru-RU" sz="4400" spc="-1" strike="noStrike">
                <a:solidFill>
                  <a:srgbClr val="990099"/>
                </a:solidFill>
                <a:latin typeface="Times New Roman"/>
              </a:rPr>
              <a:t>Категория состояния как часть речи</a:t>
            </a:r>
            <a:r>
              <a:rPr b="1" lang="ru-RU" sz="4400" spc="-1" strike="noStrike">
                <a:solidFill>
                  <a:srgbClr val="990099"/>
                </a:solidFill>
                <a:latin typeface="Calibri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58920" y="2997000"/>
            <a:ext cx="640080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полнил учител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У «СОШ №2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. Шайков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харченко Ольга Александро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ce1"/>
            </a:gs>
            <a:gs pos="100000">
              <a:srgbClr val="66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187280" y="1628280"/>
            <a:ext cx="6400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) Что обозначают слова категории состояни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) Какими морфологическими признаками обладают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) Какую роль они играют в предложени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ce1"/>
            </a:gs>
            <a:gs pos="100000">
              <a:srgbClr val="66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Исследовательск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ло-поживало наречие. И случилось с ним невероятное: как-то у двери его дома появился подкидыш. Кто он, откуда, чей? Никто не зн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ило наречие отдать незнакомца в хорошие руки, чтобы и у него был дом и друзья, и отправилось на Грамматическое подворье, где разные части речи вступали в разговор, соединяясь в самые разные пред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ичок оказался «гадким утёнком», его никто не хотел брать, да и имени его никто не знал: как позвать к себ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олько безличное предложение, всегда очень ответственное и чуткое, хотя и односоставное, приютило бедня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чень ободрило приёмыша. К нему стали подходить существительные и местоимения в Д.п., дополняя его, существительные с предлогами пристраивались, предлагая разные обстоятельства, глаголы быть, становиться, делаться пытались услужить, внося дополнительные значения времени и наклонения. Потянулись и другие части ре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 временем новичок стал своим в безличном предложении, а некоторые завистники – краткие прилагательные среднего рода, некоторые существительные, причастия и даже наречие – стали подражать ему, переходя в его состоя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и стали называть подкидыша – слова категории состоя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язь с наречи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сочетаемость с другими частями речи, т.е. неизменяем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ывает в только в безличном предложе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правляет другими частями реч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ругие части речи могут употребляться в значении категории состоя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ce1"/>
            </a:gs>
            <a:gs pos="100000">
              <a:srgbClr val="66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Научн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Calibri"/>
              </a:rPr>
              <a:t>Ново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меет форму сравнительной степен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нятие «состояние» включает несколько групп по значению (стр. 126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просы, на которые отвечает категория состояния: каково мне? Что со мной происходит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Calibri"/>
              </a:rPr>
              <a:t>Итог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обозначают слова категории состоян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ми морфологическими признаками (общими свойствами)  обладают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ую роль играют в предложении? (Синтаксические связи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611280" y="198900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9"/>
          <p:cNvSpPr/>
          <p:nvPr/>
        </p:nvSpPr>
        <p:spPr>
          <a:xfrm>
            <a:off x="4932360" y="198900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ce1"/>
            </a:gs>
            <a:gs pos="100000">
              <a:srgbClr val="66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Знакомый незнакоме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амостоятельная рабо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больно и смешно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ун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арко. …морозно. …легк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их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рош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устней и больнее… (10 с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7" descr=""/>
          <p:cNvPicPr/>
          <p:nvPr/>
        </p:nvPicPr>
        <p:blipFill>
          <a:blip r:embed="rId1"/>
          <a:stretch/>
        </p:blipFill>
        <p:spPr>
          <a:xfrm>
            <a:off x="5041800" y="1600200"/>
            <a:ext cx="3251160" cy="452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ce1"/>
            </a:gs>
            <a:gs pos="100000">
              <a:srgbClr val="66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Знакомый незнакоме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1"/>
          <a:stretch/>
        </p:blipFill>
        <p:spPr>
          <a:xfrm>
            <a:off x="2786040" y="1000080"/>
            <a:ext cx="2836800" cy="4054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5084280"/>
            <a:ext cx="8229600" cy="15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юч 1 : 1(4), 2(3), 3(2), 4(1), 5(2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юч 2 : 1(4), 2(2), 3(3), 4(4), 5(3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468360" y="1268280"/>
            <a:ext cx="1942920" cy="865440"/>
          </a:xfrm>
          <a:custGeom>
            <a:avLst/>
            <a:gdLst>
              <a:gd name="textAreaLeft" fmla="*/ 0 w 1942920"/>
              <a:gd name="textAreaRight" fmla="*/ 1943280 w 1942920"/>
              <a:gd name="textAreaTop" fmla="*/ 111960 h 865440"/>
              <a:gd name="textAreaBottom" fmla="*/ 753480 h 8654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ислитель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468360" y="2276640"/>
            <a:ext cx="1942920" cy="865080"/>
          </a:xfrm>
          <a:custGeom>
            <a:avLst/>
            <a:gdLst>
              <a:gd name="textAreaLeft" fmla="*/ 0 w 1942920"/>
              <a:gd name="textAreaRight" fmla="*/ 1943280 w 1942920"/>
              <a:gd name="textAreaTop" fmla="*/ 111960 h 865080"/>
              <a:gd name="textAreaBottom" fmla="*/ 753120 h 865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стоим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468360" y="3141720"/>
            <a:ext cx="1942920" cy="865080"/>
          </a:xfrm>
          <a:custGeom>
            <a:avLst/>
            <a:gdLst>
              <a:gd name="textAreaLeft" fmla="*/ 0 w 1942920"/>
              <a:gd name="textAreaRight" fmla="*/ 1943280 w 1942920"/>
              <a:gd name="textAreaTop" fmla="*/ 111960 h 865080"/>
              <a:gd name="textAreaBottom" fmla="*/ 753120 h 865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част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468360" y="4149720"/>
            <a:ext cx="1942920" cy="865080"/>
          </a:xfrm>
          <a:custGeom>
            <a:avLst/>
            <a:gdLst>
              <a:gd name="textAreaLeft" fmla="*/ 0 w 1942920"/>
              <a:gd name="textAreaRight" fmla="*/ 1943280 w 1942920"/>
              <a:gd name="textAreaTop" fmla="*/ 111960 h 865080"/>
              <a:gd name="textAreaBottom" fmla="*/ 753120 h 865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ществитель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6012000" y="1197000"/>
            <a:ext cx="1942920" cy="865080"/>
          </a:xfrm>
          <a:custGeom>
            <a:avLst/>
            <a:gdLst>
              <a:gd name="textAreaLeft" fmla="*/ 0 w 1942920"/>
              <a:gd name="textAreaRight" fmla="*/ 1943280 w 1942920"/>
              <a:gd name="textAreaTop" fmla="*/ 111960 h 865080"/>
              <a:gd name="textAreaBottom" fmla="*/ 753120 h 865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г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11"/>
          <p:cNvSpPr/>
          <p:nvPr/>
        </p:nvSpPr>
        <p:spPr>
          <a:xfrm>
            <a:off x="5940360" y="2205000"/>
            <a:ext cx="1943280" cy="865080"/>
          </a:xfrm>
          <a:custGeom>
            <a:avLst/>
            <a:gdLst>
              <a:gd name="textAreaLeft" fmla="*/ 0 w 1943280"/>
              <a:gd name="textAreaRight" fmla="*/ 1943640 w 1943280"/>
              <a:gd name="textAreaTop" fmla="*/ 111960 h 865080"/>
              <a:gd name="textAreaBottom" fmla="*/ 753120 h 865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еч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12"/>
          <p:cNvSpPr/>
          <p:nvPr/>
        </p:nvSpPr>
        <p:spPr>
          <a:xfrm>
            <a:off x="6012000" y="4149720"/>
            <a:ext cx="1942920" cy="865080"/>
          </a:xfrm>
          <a:custGeom>
            <a:avLst/>
            <a:gdLst>
              <a:gd name="textAreaLeft" fmla="*/ 0 w 1942920"/>
              <a:gd name="textAreaRight" fmla="*/ 1943280 w 1942920"/>
              <a:gd name="textAreaTop" fmla="*/ 111960 h 865080"/>
              <a:gd name="textAreaBottom" fmla="*/ 753120 h 865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Times New Roman"/>
              </a:rPr>
              <a:t>Категор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Times New Roman"/>
              </a:rPr>
              <a:t>состоя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13"/>
          <p:cNvSpPr/>
          <p:nvPr/>
        </p:nvSpPr>
        <p:spPr>
          <a:xfrm>
            <a:off x="5940360" y="3284640"/>
            <a:ext cx="1943280" cy="865080"/>
          </a:xfrm>
          <a:custGeom>
            <a:avLst/>
            <a:gdLst>
              <a:gd name="textAreaLeft" fmla="*/ 0 w 1943280"/>
              <a:gd name="textAreaRight" fmla="*/ 1943640 w 1943280"/>
              <a:gd name="textAreaTop" fmla="*/ 111960 h 865080"/>
              <a:gd name="textAreaBottom" fmla="*/ 753120 h 865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епричаст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ce1"/>
            </a:gs>
            <a:gs pos="100000">
              <a:srgbClr val="66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Урок оконче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аботали мы друж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ружн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трудиться ещё нуж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ужн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вого узнали мног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ног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ценили себя строг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ог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уть познанья интересен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к работать, так учиться вам всегд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ce1"/>
            </a:gs>
            <a:gs pos="100000">
              <a:srgbClr val="66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Лингвистическая разм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47640" y="1628640"/>
            <a:ext cx="6401160" cy="408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ледопыт – 1) охотник, выслеживающий добыч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) разведчик – следопыт (перен.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По С.И. Ожегову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ыт -  : 1)пытливый – любознательный, расспрашивающий обо всём; 2)испытание – проверка на опыте; 3)испытанный – проверенный на опыте; 4)испытательный – служащий для испыт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)пытаться – стараться  сделать что-нибудь; 6)пытать (разг.) – расспрашивать, стараясь узнать что-то ново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11 значений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пыт- - любознательный, проницательный, проверяющий всё на деле, расспрашивающий обо всём, деятельны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ce1"/>
            </a:gs>
            <a:gs pos="100000">
              <a:srgbClr val="66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Маска – кто в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26920" y="2204640"/>
            <a:ext cx="64008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6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1) Охота уже началась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2) Охота было узнать что-то новое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3) Время дорого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4) Время отправляться в путь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5) Пора, мой друг, пора!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6) Ах, как трудно!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ce1"/>
            </a:gs>
            <a:gs pos="100000">
              <a:srgbClr val="66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Маска – кто в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87280" y="2349000"/>
            <a:ext cx="64008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6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1) Охота уже началась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2) Охота было узнать что-то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новое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3) Время дорого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4) Время отправляться в путь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5) Пора, мой друг, пора!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6)Ах, как трудно!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Line 12"/>
          <p:cNvSpPr/>
          <p:nvPr/>
        </p:nvSpPr>
        <p:spPr>
          <a:xfrm>
            <a:off x="2050920" y="270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23"/>
          <p:cNvSpPr/>
          <p:nvPr/>
        </p:nvSpPr>
        <p:spPr>
          <a:xfrm>
            <a:off x="1763640" y="27082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30"/>
          <p:cNvGrpSpPr/>
          <p:nvPr/>
        </p:nvGrpSpPr>
        <p:grpSpPr>
          <a:xfrm>
            <a:off x="1763640" y="3141720"/>
            <a:ext cx="3816360" cy="73080"/>
            <a:chOff x="1763640" y="3141720"/>
            <a:chExt cx="3816360" cy="73080"/>
          </a:xfrm>
        </p:grpSpPr>
        <p:sp>
          <p:nvSpPr>
            <p:cNvPr id="93" name="Line 26"/>
            <p:cNvSpPr/>
            <p:nvPr/>
          </p:nvSpPr>
          <p:spPr>
            <a:xfrm>
              <a:off x="1763640" y="3141720"/>
              <a:ext cx="38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29"/>
            <p:cNvSpPr/>
            <p:nvPr/>
          </p:nvSpPr>
          <p:spPr>
            <a:xfrm>
              <a:off x="1763640" y="3214800"/>
              <a:ext cx="38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Group 33"/>
          <p:cNvGrpSpPr/>
          <p:nvPr/>
        </p:nvGrpSpPr>
        <p:grpSpPr>
          <a:xfrm>
            <a:off x="3924360" y="2708280"/>
            <a:ext cx="1871640" cy="73080"/>
            <a:chOff x="3924360" y="2708280"/>
            <a:chExt cx="1871640" cy="73080"/>
          </a:xfrm>
        </p:grpSpPr>
        <p:sp>
          <p:nvSpPr>
            <p:cNvPr id="96" name="Line 31"/>
            <p:cNvSpPr/>
            <p:nvPr/>
          </p:nvSpPr>
          <p:spPr>
            <a:xfrm>
              <a:off x="3924360" y="270828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32"/>
            <p:cNvSpPr/>
            <p:nvPr/>
          </p:nvSpPr>
          <p:spPr>
            <a:xfrm>
              <a:off x="3924360" y="278136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Line 34"/>
          <p:cNvSpPr/>
          <p:nvPr/>
        </p:nvSpPr>
        <p:spPr>
          <a:xfrm>
            <a:off x="1763640" y="3933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37"/>
          <p:cNvGrpSpPr/>
          <p:nvPr/>
        </p:nvGrpSpPr>
        <p:grpSpPr>
          <a:xfrm>
            <a:off x="3203640" y="3860640"/>
            <a:ext cx="1368360" cy="73080"/>
            <a:chOff x="3203640" y="3860640"/>
            <a:chExt cx="1368360" cy="73080"/>
          </a:xfrm>
        </p:grpSpPr>
        <p:sp>
          <p:nvSpPr>
            <p:cNvPr id="100" name="Line 35"/>
            <p:cNvSpPr/>
            <p:nvPr/>
          </p:nvSpPr>
          <p:spPr>
            <a:xfrm>
              <a:off x="3203640" y="386064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36"/>
            <p:cNvSpPr/>
            <p:nvPr/>
          </p:nvSpPr>
          <p:spPr>
            <a:xfrm>
              <a:off x="3203640" y="393372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Group 44"/>
          <p:cNvGrpSpPr/>
          <p:nvPr/>
        </p:nvGrpSpPr>
        <p:grpSpPr>
          <a:xfrm>
            <a:off x="1835280" y="4292640"/>
            <a:ext cx="4174920" cy="73080"/>
            <a:chOff x="1835280" y="4292640"/>
            <a:chExt cx="4174920" cy="73080"/>
          </a:xfrm>
        </p:grpSpPr>
        <p:sp>
          <p:nvSpPr>
            <p:cNvPr id="103" name="Line 41"/>
            <p:cNvSpPr/>
            <p:nvPr/>
          </p:nvSpPr>
          <p:spPr>
            <a:xfrm>
              <a:off x="1835280" y="4292640"/>
              <a:ext cx="417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43"/>
            <p:cNvSpPr/>
            <p:nvPr/>
          </p:nvSpPr>
          <p:spPr>
            <a:xfrm>
              <a:off x="1835280" y="4365720"/>
              <a:ext cx="417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Group 49"/>
          <p:cNvGrpSpPr/>
          <p:nvPr/>
        </p:nvGrpSpPr>
        <p:grpSpPr>
          <a:xfrm>
            <a:off x="1763640" y="4653000"/>
            <a:ext cx="1079640" cy="71280"/>
            <a:chOff x="1763640" y="4653000"/>
            <a:chExt cx="1079640" cy="71280"/>
          </a:xfrm>
        </p:grpSpPr>
        <p:sp>
          <p:nvSpPr>
            <p:cNvPr id="106" name="Line 45"/>
            <p:cNvSpPr/>
            <p:nvPr/>
          </p:nvSpPr>
          <p:spPr>
            <a:xfrm>
              <a:off x="1763640" y="465300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46"/>
            <p:cNvSpPr/>
            <p:nvPr/>
          </p:nvSpPr>
          <p:spPr>
            <a:xfrm>
              <a:off x="1763640" y="472428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Group 50"/>
          <p:cNvGrpSpPr/>
          <p:nvPr/>
        </p:nvGrpSpPr>
        <p:grpSpPr>
          <a:xfrm>
            <a:off x="4859280" y="4653000"/>
            <a:ext cx="1079640" cy="71280"/>
            <a:chOff x="4859280" y="4653000"/>
            <a:chExt cx="1079640" cy="71280"/>
          </a:xfrm>
        </p:grpSpPr>
        <p:sp>
          <p:nvSpPr>
            <p:cNvPr id="109" name="Line 47"/>
            <p:cNvSpPr/>
            <p:nvPr/>
          </p:nvSpPr>
          <p:spPr>
            <a:xfrm>
              <a:off x="4859280" y="465300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48"/>
            <p:cNvSpPr/>
            <p:nvPr/>
          </p:nvSpPr>
          <p:spPr>
            <a:xfrm>
              <a:off x="4859280" y="472428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Group 53"/>
          <p:cNvGrpSpPr/>
          <p:nvPr/>
        </p:nvGrpSpPr>
        <p:grpSpPr>
          <a:xfrm>
            <a:off x="3059280" y="5157720"/>
            <a:ext cx="1441440" cy="71640"/>
            <a:chOff x="3059280" y="5157720"/>
            <a:chExt cx="1441440" cy="71640"/>
          </a:xfrm>
        </p:grpSpPr>
        <p:sp>
          <p:nvSpPr>
            <p:cNvPr id="112" name="Line 51"/>
            <p:cNvSpPr/>
            <p:nvPr/>
          </p:nvSpPr>
          <p:spPr>
            <a:xfrm>
              <a:off x="3059280" y="5157720"/>
              <a:ext cx="14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52"/>
            <p:cNvSpPr/>
            <p:nvPr/>
          </p:nvSpPr>
          <p:spPr>
            <a:xfrm>
              <a:off x="3059280" y="5229360"/>
              <a:ext cx="14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ce1"/>
            </a:gs>
            <a:gs pos="100000">
              <a:srgbClr val="66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-459000"/>
            <a:ext cx="777240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Подкиды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35344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Жило-поживало наречие. И случилось с ним невероятное: как-то у двери его дома появился подкидыш. Кто он, откуда, чей? Никто не зна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шило наречие отдать незнакомца в хорошие руки, чтобы и у него был дом и друзья, и отправилось на Грамматическое подворье, где разные части речи вступали в разговор, соединяясь в самые разные предлож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вичок оказался «гадким утёнком», его никто не хотел брать, да и имени его никто не знал: как позвать к себ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только безличное предложение, всегда очень ответственное и чуткое, хотя и односоставное, приютило бедняг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очень ободрило приёмыша. К нему стали подходить существительные и местоимения в Д.п., дополняя его, существительные с предлогами пристраивались, предлагая разные обстоятельства, глаголы быть становиться, делаться пытались услужить, внося дополнительные значения времени и наклонения. Потянулись и другие части ре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 временем новичок стал своим в безличном предложении, а некоторые завистники – краткие прилагательные среднего рода, некоторые существительные, причастия и даже наречие – стали подражать ему, переходя в его состоя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к и стали называть подкидыша – слова категории состоя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ce1"/>
            </a:gs>
            <a:gs pos="100000">
              <a:srgbClr val="66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Слова категории состоя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тегория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научное понятие, выражающее наиболее общие свойства и связи явлений действительнос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группа, разря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ояние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положение, в котором кто-нибудь или что-нибудь находится (состояние природы, например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физическое самочувствие (больной в тяжёлом состояни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900000" y="321300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826920" y="3645000"/>
            <a:ext cx="295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3"/>
          <p:cNvSpPr/>
          <p:nvPr/>
        </p:nvSpPr>
        <p:spPr>
          <a:xfrm>
            <a:off x="900000" y="4005360"/>
            <a:ext cx="338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4"/>
          <p:cNvSpPr/>
          <p:nvPr/>
        </p:nvSpPr>
        <p:spPr>
          <a:xfrm>
            <a:off x="900000" y="4365720"/>
            <a:ext cx="324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5"/>
          <p:cNvSpPr/>
          <p:nvPr/>
        </p:nvSpPr>
        <p:spPr>
          <a:xfrm>
            <a:off x="1332000" y="566100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7"/>
          <p:cNvSpPr/>
          <p:nvPr/>
        </p:nvSpPr>
        <p:spPr>
          <a:xfrm>
            <a:off x="5435640" y="2708280"/>
            <a:ext cx="27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8"/>
          <p:cNvSpPr/>
          <p:nvPr/>
        </p:nvSpPr>
        <p:spPr>
          <a:xfrm>
            <a:off x="5148360" y="3068640"/>
            <a:ext cx="30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9"/>
          <p:cNvSpPr/>
          <p:nvPr/>
        </p:nvSpPr>
        <p:spPr>
          <a:xfrm>
            <a:off x="5148360" y="342900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24"/>
          <p:cNvSpPr/>
          <p:nvPr/>
        </p:nvSpPr>
        <p:spPr>
          <a:xfrm>
            <a:off x="5076720" y="371628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5"/>
          <p:cNvSpPr/>
          <p:nvPr/>
        </p:nvSpPr>
        <p:spPr>
          <a:xfrm>
            <a:off x="5435640" y="486900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27"/>
          <p:cNvSpPr/>
          <p:nvPr/>
        </p:nvSpPr>
        <p:spPr>
          <a:xfrm>
            <a:off x="5076720" y="5229360"/>
            <a:ext cx="26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28"/>
          <p:cNvSpPr/>
          <p:nvPr/>
        </p:nvSpPr>
        <p:spPr>
          <a:xfrm flipH="1">
            <a:off x="1834920" y="1125360"/>
            <a:ext cx="1081080" cy="71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9"/>
          <p:cNvSpPr/>
          <p:nvPr/>
        </p:nvSpPr>
        <p:spPr>
          <a:xfrm>
            <a:off x="5219640" y="1052640"/>
            <a:ext cx="115272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ce1"/>
            </a:gs>
            <a:gs pos="100000">
              <a:srgbClr val="66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Слова категории состоя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50920" y="1484280"/>
            <a:ext cx="85629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лова категории состояния – это группа слов, обладающая…………………………………. и выражающая состояние, то есть.................... 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ce1"/>
            </a:gs>
            <a:gs pos="100000">
              <a:srgbClr val="66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Прив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600200"/>
            <a:ext cx="29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640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то скучает весь урок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едь урок тогда не впрок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сли скучно – отвлекис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тань и сладко потяни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играем мы чуть-чут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б с охотой выйти в пу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сли весело тебе, то делай так…………………………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дохнули мы немного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ледопытов ждёт доро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9" descr=""/>
          <p:cNvPicPr/>
          <p:nvPr/>
        </p:nvPicPr>
        <p:blipFill>
          <a:blip r:embed="rId1"/>
          <a:stretch/>
        </p:blipFill>
        <p:spPr>
          <a:xfrm>
            <a:off x="428760" y="1643040"/>
            <a:ext cx="2990880" cy="4429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ce1"/>
            </a:gs>
            <a:gs pos="100000">
              <a:srgbClr val="66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Справочн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492000" y="1484280"/>
            <a:ext cx="540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лгоритм изучения части реч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что обозначает и на какие вопросы отвечает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какие морфологические признаки имеет? Как изменяетс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какую роль играет в предложени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1"/>
          <a:stretch/>
        </p:blipFill>
        <p:spPr>
          <a:xfrm>
            <a:off x="285840" y="1643040"/>
            <a:ext cx="2981160" cy="392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1T12:37:27Z</dcterms:created>
  <dc:creator>Семья</dc:creator>
  <dc:description/>
  <dc:language>en-US</dc:language>
  <cp:lastModifiedBy>Пользователь</cp:lastModifiedBy>
  <dcterms:modified xsi:type="dcterms:W3CDTF">2008-09-01T16:02:09Z</dcterms:modified>
  <cp:revision>24</cp:revision>
  <dc:subject/>
  <dc:title>Лингвистическая разминка</dc:title>
</cp:coreProperties>
</file>