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0E2-CFBD-438B-9582-81C44E77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68E-B4A0-45A0-8568-5343D122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199-8C2C-42DD-A9F4-D8500C2D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6DE-6361-4FE1-9A1B-ADD1F090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66C-380E-45D9-BFB6-4A16DA7F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206A-2747-4523-9369-0738FEDD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E6F7-7FE3-49E3-A6EF-FFEB652B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A533-B6EE-4B6E-9E11-A48E514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D05F-8795-4C1F-AEEB-1096B9F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99C6-B927-4FEB-8068-B99157B5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4817-2686-4594-9089-8C1D9C5E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826-C783-40E9-8D61-D77D6B05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22AD-756D-4E6A-B2F2-5E3B6B3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2318-FDE6-40D5-94AF-C09E545F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90D3-6075-461F-8AD6-E72F7808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8ACF-BD9E-4D4D-A51E-3B3841A7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425D-D0CC-45F1-ABA6-533E5F53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6A6-D4D5-4AD6-A546-D4513EBA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511-9CAB-49B4-949B-ACF1C6B7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7A8-7C14-4056-8988-E3152A1A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C8B-1F76-4F7E-BAEB-7AB246B1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927-CFF5-4797-94F2-754200C9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3AE-55ED-4625-BC86-074F5E9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121-7D1D-45F9-AC39-07D7BD1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ACF3-FAE1-446B-831E-FD875ADFDF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464A-A6BE-443D-AC70-54AD141A0D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55640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Презентация на тему: </a:t>
            </a:r>
            <a:r>
              <a:rPr b="1" lang="ru-RU" sz="4400" spc="-1" strike="noStrike">
                <a:solidFill>
                  <a:srgbClr val="990099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Категория состояния как часть речи</a:t>
            </a:r>
            <a:r>
              <a:rPr b="1" lang="ru-RU" sz="4400" spc="-1" strike="noStrike">
                <a:solidFill>
                  <a:srgbClr val="990099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2997000"/>
            <a:ext cx="6400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л уч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У «СОШ №2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. Шайк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харченко Ольга Александ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87280" y="1628280"/>
            <a:ext cx="6400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Что обозначают слова категории состоя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 Какими морфологическими признаками обладают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) Какую роль они играют в предложен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Исследовательск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о-поживало наречие. И случилось с ним невероятное: как-то у двери его дома появился подкидыш. Кто он, откуда, чей? Никто не з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ло наречие отдать незнакомца в хорошие руки, чтобы и у него был дом и друзья, и отправилось на Грамматическое подворье, где разные части речи вступали в разговор, соединяясь в самые разны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ичок оказался «гадким утёнком», его никто не хотел брать, да и имени его никто не знал: как позвать к себ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безличное предложение, всегда очень ответственное и чуткое, хотя и односоставное, приютило бедня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чень ободрило приёмыша. К нему стали подходить существительные и местоимения в Д.п., дополняя его, существительные с предлогами пристраивались, предлагая разные обстоятельства, глаголы быть, становиться, делаться пытались услужить, внося дополнительные значения времени и наклонения. Потянулись и другие части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новичок стал своим в безличном предложении, а некоторые завистники – краткие прилагательные среднего рода, некоторые существительные, причастия и даже наречие – стали подражать ему, переходя в его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и стали называть подкидыша – слова категории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с нареч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очетаемость с другими частями речи, т.е. неизменяем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вает в только в безличном предлож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ляет другими частями ре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ие части речи могут употребляться в значении категории состоя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Науч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Ново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еет форму сравнительной степ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нятие «состояние» включает несколько групп по значению (стр. 126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ы, на которые отвечает категория состояния: каково мне? Что со мной происходи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Calibri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обозначают слова категории состоя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ми морфологическими признаками (общими свойствами)  обладаю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ую роль играют в предложении? (Синтаксические связи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611280" y="19890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4932360" y="19890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Знакомый незнаком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больно и смешно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арко. …морозно. …легк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их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стней и больнее… (10 с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5041800" y="1600200"/>
            <a:ext cx="325116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Знакомый незнаком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2786040" y="1000080"/>
            <a:ext cx="2836800" cy="4054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508428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 1 : 1(4), 2(3), 3(2), 4(1), 5(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 2 : 1(4), 2(2), 3(3), 4(4), 5(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68360" y="1268280"/>
            <a:ext cx="1942920" cy="86544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440"/>
              <a:gd name="textAreaBottom" fmla="*/ 753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468360" y="227664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68360" y="314172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ча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68360" y="414972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6012000" y="119700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940360" y="2205000"/>
            <a:ext cx="1943280" cy="865080"/>
          </a:xfrm>
          <a:custGeom>
            <a:avLst/>
            <a:gdLst>
              <a:gd name="textAreaLeft" fmla="*/ 0 w 1943280"/>
              <a:gd name="textAreaRight" fmla="*/ 1943640 w 194328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2"/>
          <p:cNvSpPr/>
          <p:nvPr/>
        </p:nvSpPr>
        <p:spPr>
          <a:xfrm>
            <a:off x="6012000" y="4149720"/>
            <a:ext cx="1942920" cy="865080"/>
          </a:xfrm>
          <a:custGeom>
            <a:avLst/>
            <a:gdLst>
              <a:gd name="textAreaLeft" fmla="*/ 0 w 1942920"/>
              <a:gd name="textAreaRight" fmla="*/ 1943280 w 194292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Категор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Times New Roman"/>
              </a:rPr>
              <a:t>состо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3"/>
          <p:cNvSpPr/>
          <p:nvPr/>
        </p:nvSpPr>
        <p:spPr>
          <a:xfrm>
            <a:off x="5940360" y="3284640"/>
            <a:ext cx="1943280" cy="865080"/>
          </a:xfrm>
          <a:custGeom>
            <a:avLst/>
            <a:gdLst>
              <a:gd name="textAreaLeft" fmla="*/ 0 w 1943280"/>
              <a:gd name="textAreaRight" fmla="*/ 1943640 w 194328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епричас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Урок оконч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аботали мы друж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уж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трудиться ещё нужн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ж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вого узнали мн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ценили себя стр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ть познанья интересе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 работать, так учиться вам всег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Лингвистическая 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47640" y="1628640"/>
            <a:ext cx="6401160" cy="40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допыт – 1) охотник, выслеживающий добыч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разведчик – следопыт (перен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о С.И. Ожегову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ыт -  : 1)пытливый – любознательный, расспрашивающий обо всём; 2)испытание – проверка на опыте; 3)испытанный – проверенный на опыте; 4)испытательный – служащий для испы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)пытаться – стараться  сделать что-нибудь; 6)пытать (разг.) – расспрашивать, стараясь узнать что-то нов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1 значен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ыт- - любознательный, проницательный, проверяющий всё на деле, расспрашивающий обо всём, деятель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Маска – кто 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26920" y="220464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) Охота уже началас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2) Охота было узнать что-то новое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3) Время дорого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4) Время отправляться в пут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5) Пора, мой друг, пора!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6) Ах, как трудно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Маска – кто 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7280" y="2349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1) Охота уже началас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2) Охота было узнать что-т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новое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3) Время дорого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4) Время отправляться в путь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5) Пора, мой друг, пора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6)Ах, как трудно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05092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1763640" y="2708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0"/>
          <p:cNvGrpSpPr/>
          <p:nvPr/>
        </p:nvGrpSpPr>
        <p:grpSpPr>
          <a:xfrm>
            <a:off x="1763640" y="3141720"/>
            <a:ext cx="3816360" cy="73080"/>
            <a:chOff x="1763640" y="3141720"/>
            <a:chExt cx="3816360" cy="73080"/>
          </a:xfrm>
        </p:grpSpPr>
        <p:sp>
          <p:nvSpPr>
            <p:cNvPr id="93" name="Line 26"/>
            <p:cNvSpPr/>
            <p:nvPr/>
          </p:nvSpPr>
          <p:spPr>
            <a:xfrm>
              <a:off x="1763640" y="314172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1763640" y="321480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33"/>
          <p:cNvGrpSpPr/>
          <p:nvPr/>
        </p:nvGrpSpPr>
        <p:grpSpPr>
          <a:xfrm>
            <a:off x="3924360" y="2708280"/>
            <a:ext cx="1871640" cy="73080"/>
            <a:chOff x="3924360" y="2708280"/>
            <a:chExt cx="1871640" cy="73080"/>
          </a:xfrm>
        </p:grpSpPr>
        <p:sp>
          <p:nvSpPr>
            <p:cNvPr id="96" name="Line 31"/>
            <p:cNvSpPr/>
            <p:nvPr/>
          </p:nvSpPr>
          <p:spPr>
            <a:xfrm>
              <a:off x="3924360" y="27082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>
              <a:off x="3924360" y="2781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Line 34"/>
          <p:cNvSpPr/>
          <p:nvPr/>
        </p:nvSpPr>
        <p:spPr>
          <a:xfrm>
            <a:off x="176364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7"/>
          <p:cNvGrpSpPr/>
          <p:nvPr/>
        </p:nvGrpSpPr>
        <p:grpSpPr>
          <a:xfrm>
            <a:off x="3203640" y="3860640"/>
            <a:ext cx="1368360" cy="73080"/>
            <a:chOff x="3203640" y="3860640"/>
            <a:chExt cx="1368360" cy="73080"/>
          </a:xfrm>
        </p:grpSpPr>
        <p:sp>
          <p:nvSpPr>
            <p:cNvPr id="100" name="Line 35"/>
            <p:cNvSpPr/>
            <p:nvPr/>
          </p:nvSpPr>
          <p:spPr>
            <a:xfrm>
              <a:off x="3203640" y="3860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6"/>
            <p:cNvSpPr/>
            <p:nvPr/>
          </p:nvSpPr>
          <p:spPr>
            <a:xfrm>
              <a:off x="3203640" y="393372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44"/>
          <p:cNvGrpSpPr/>
          <p:nvPr/>
        </p:nvGrpSpPr>
        <p:grpSpPr>
          <a:xfrm>
            <a:off x="1835280" y="4292640"/>
            <a:ext cx="4174920" cy="73080"/>
            <a:chOff x="1835280" y="4292640"/>
            <a:chExt cx="4174920" cy="73080"/>
          </a:xfrm>
        </p:grpSpPr>
        <p:sp>
          <p:nvSpPr>
            <p:cNvPr id="103" name="Line 41"/>
            <p:cNvSpPr/>
            <p:nvPr/>
          </p:nvSpPr>
          <p:spPr>
            <a:xfrm>
              <a:off x="1835280" y="4292640"/>
              <a:ext cx="41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3"/>
            <p:cNvSpPr/>
            <p:nvPr/>
          </p:nvSpPr>
          <p:spPr>
            <a:xfrm>
              <a:off x="1835280" y="4365720"/>
              <a:ext cx="41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9"/>
          <p:cNvGrpSpPr/>
          <p:nvPr/>
        </p:nvGrpSpPr>
        <p:grpSpPr>
          <a:xfrm>
            <a:off x="1763640" y="4653000"/>
            <a:ext cx="1079640" cy="71280"/>
            <a:chOff x="1763640" y="4653000"/>
            <a:chExt cx="1079640" cy="71280"/>
          </a:xfrm>
        </p:grpSpPr>
        <p:sp>
          <p:nvSpPr>
            <p:cNvPr id="106" name="Line 45"/>
            <p:cNvSpPr/>
            <p:nvPr/>
          </p:nvSpPr>
          <p:spPr>
            <a:xfrm>
              <a:off x="1763640" y="465300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6"/>
            <p:cNvSpPr/>
            <p:nvPr/>
          </p:nvSpPr>
          <p:spPr>
            <a:xfrm>
              <a:off x="1763640" y="47242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4859280" y="4653000"/>
            <a:ext cx="1079640" cy="71280"/>
            <a:chOff x="4859280" y="4653000"/>
            <a:chExt cx="1079640" cy="71280"/>
          </a:xfrm>
        </p:grpSpPr>
        <p:sp>
          <p:nvSpPr>
            <p:cNvPr id="109" name="Line 47"/>
            <p:cNvSpPr/>
            <p:nvPr/>
          </p:nvSpPr>
          <p:spPr>
            <a:xfrm>
              <a:off x="4859280" y="465300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>
              <a:off x="4859280" y="472428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3059280" y="5157720"/>
            <a:ext cx="1441440" cy="71640"/>
            <a:chOff x="3059280" y="5157720"/>
            <a:chExt cx="1441440" cy="71640"/>
          </a:xfrm>
        </p:grpSpPr>
        <p:sp>
          <p:nvSpPr>
            <p:cNvPr id="112" name="Line 51"/>
            <p:cNvSpPr/>
            <p:nvPr/>
          </p:nvSpPr>
          <p:spPr>
            <a:xfrm>
              <a:off x="3059280" y="51577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2"/>
            <p:cNvSpPr/>
            <p:nvPr/>
          </p:nvSpPr>
          <p:spPr>
            <a:xfrm>
              <a:off x="3059280" y="522936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459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одкиды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35344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ло-поживало наречие. И случилось с ним невероятное: как-то у двери его дома появился подкидыш. Кто он, откуда, чей? Никто не зна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ило наречие отдать незнакомца в хорошие руки, чтобы и у него был дом и друзья, и отправилось на Грамматическое подворье, где разные части речи вступали в разговор, соединяясь в самые разные предло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ичок оказался «гадким утёнком», его никто не хотел брать, да и имени его никто не знал: как позвать к себ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олько безличное предложение, всегда очень ответственное и чуткое, хотя и односоставное, приютило бедня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очень ободрило приёмыша. К нему стали подходить существительные и местоимения в Д.п., дополняя его, существительные с предлогами пристраивались, предлагая разные обстоятельства, глаголы быть становиться, делаться пытались услужить, внося дополнительные значения времени и наклонения. Потянулись и другие части ре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 временем новичок стал своим в безличном предложении, а некоторые завистники – краткие прилагательные среднего рода, некоторые существительные, причастия и даже наречие – стали подражать ему, переходя в его состоя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и стали называть подкидыша – слова категории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Слова категории состоя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тегория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научное понятие, выражающее наиболее общие свойства и связи явлений действи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группа, разря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яни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оложение, в котором кто-нибудь или что-нибудь находится (состояние природы, например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физическое самочувствие (больной в тяжёлом состояни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900000" y="3213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826920" y="3645000"/>
            <a:ext cx="29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900000" y="400536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900000" y="4365720"/>
            <a:ext cx="32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1332000" y="56610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5435640" y="27082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5148360" y="3068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5148360" y="342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5076720" y="371628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5435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5076720" y="522936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8"/>
          <p:cNvSpPr/>
          <p:nvPr/>
        </p:nvSpPr>
        <p:spPr>
          <a:xfrm flipH="1">
            <a:off x="1834920" y="1125360"/>
            <a:ext cx="10810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5219640" y="1052640"/>
            <a:ext cx="115272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Слова категории состоя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50920" y="1484280"/>
            <a:ext cx="8562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 категории состояния – это группа слов, обладающая…………………………………. и выражающая состояние, то есть.................... 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При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скучает весь урок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дь урок тогда не впро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скучно – отвлекис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ань и сладко потян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играем мы чуть-чу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с охотой выйти в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весело тебе, то делай так…………………………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дохнули мы немного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ледопытов ждёт дор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2990880" cy="44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ece1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Справоч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492000" y="1484280"/>
            <a:ext cx="540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горитм изучения части ре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что обозначает и на какие вопросы отвеча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какие морфологические признаки имеет? Как изменяет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какую роль играет в предложен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298116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2:37:27Z</dcterms:created>
  <dc:creator>Семья</dc:creator>
  <dc:description/>
  <dc:language>en-US</dc:language>
  <cp:lastModifiedBy>Пользователь</cp:lastModifiedBy>
  <dcterms:modified xsi:type="dcterms:W3CDTF">2008-09-01T16:02:09Z</dcterms:modified>
  <cp:revision>24</cp:revision>
  <dc:subject/>
  <dc:title>Лингвистическая разминка</dc:title>
</cp:coreProperties>
</file>