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8.gif" ContentType="image/gi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600-BE83-4EFC-BC24-E445B015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C96-CE4F-455F-B4E2-923760E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059-80C6-494B-B710-5893A62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458-EE60-4FBD-AC17-38F6550E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234-034D-4EA1-93C1-DE10D98C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C050-2A29-4ED1-B5E0-65175A2E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57A7-59D8-4C09-A553-9DBDF11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89A-1CFD-4F0D-AECD-D4B7537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F5B4-F452-4F91-9D2C-CA358AEA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8DEA-4EA4-47E3-AAC5-F75FD681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596-57BD-483C-9017-ACE671D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AE1-D95A-41F2-A765-07E79088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2EE3-9997-4D3D-826E-223BB0A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2036-0080-49D2-AF6D-74513B0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36DC-5A2D-4510-9ECE-5284E17B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260B-B2CF-4C7B-ACAE-857481A9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3997-A4A8-4D40-88F6-428085F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C90-E61F-4C71-92CA-7189C2C8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2ED-6A52-4449-8390-C7731902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317-23E5-416D-B644-5238699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A9D-3BE5-44C2-8F65-01173EA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E76-D1BE-4DCB-8756-B7C3842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252-B3FD-4583-8052-CD9CDCB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026-0E44-45C1-AFB9-24497B5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67B-7912-4F91-B7FA-23C5404EBE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2E8-C70A-480E-BC98-7583201973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52560"/>
            <a:ext cx="85406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ffff00"/>
              </a:solidFill>
              <a:uFillTx/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17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00"/>
                </a:solidFill>
                <a:latin typeface="Times New Roman"/>
              </a:rPr>
              <a:t>КИСЛОТЫ</a:t>
            </a:r>
            <a:endParaRPr b="0" lang="en-US" sz="10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4005360"/>
            <a:ext cx="47512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ahoma"/>
              </a:rPr>
              <a:t>О  С  Т  Ы  Л  К  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181440" y="1341000"/>
            <a:ext cx="9720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700" spc="-1" strike="noStrike">
                <a:solidFill>
                  <a:srgbClr val="ffff00"/>
                </a:solidFill>
                <a:latin typeface="Times New Roman"/>
              </a:rPr>
              <a:t>КИСЛОТЫ</a:t>
            </a:r>
            <a:endParaRPr b="0" lang="en-US" sz="1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554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ahoma"/>
              </a:rPr>
              <a:t>Задачи урока: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нать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определение, состав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лассификацию, номенклатур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мет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определять кислоты сред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веществ, классифиц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ы, определять валент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ных остат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Развивать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внимание, мышление и пам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86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2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2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42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14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719520" cy="5040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КИСЛОТЫ В КУЛИНАРИИ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263700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Уксусная и лимо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87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КИСЛОТЫ  В МЕДИЦИН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680000" cy="424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003640" y="2492280"/>
            <a:ext cx="39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Аскорбинов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ацетилсалицил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и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9796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Соляная кислота, находящаяся в желудке, помогает переваривать пи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Молочная кислота образуется в мышцах при физической нагруз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ИСЛОТЫ СОДЕРЖАТСЯ В ОРГАНИЗМАХ ЖИВОТНЫ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олучение водород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Zn + 2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HCl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ZnCl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+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оля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Zn +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→ ZnSO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 + H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ер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2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36" name="_s32772"/>
            <p:cNvCxnSpPr>
              <a:stCxn id="437" idx="3"/>
              <a:endCxn id="43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9" name="_s32773"/>
            <p:cNvCxnSpPr>
              <a:stCxn id="440" idx="3"/>
              <a:endCxn id="44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2" name="_s32774"/>
            <p:cNvCxnSpPr>
              <a:stCxn id="441" idx="0"/>
              <a:endCxn id="44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4" name="_s32775"/>
            <p:cNvCxnSpPr>
              <a:stCxn id="438" idx="0"/>
              <a:endCxn id="44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43" name="_s32776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_s32777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_s32778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_s32779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_s32780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402920" y="404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Ребенок –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не кувшин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оторый надо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наполнить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лампад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 котор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надо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заж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редневековые гуманис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2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7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46" name="_s33796"/>
            <p:cNvCxnSpPr>
              <a:stCxn id="447" idx="3"/>
              <a:endCxn id="44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9" name="_s33797"/>
            <p:cNvCxnSpPr>
              <a:stCxn id="450" idx="3"/>
              <a:endCxn id="45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2" name="_s33798"/>
            <p:cNvCxnSpPr>
              <a:stCxn id="451" idx="0"/>
              <a:endCxn id="45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4" name="_s33799"/>
            <p:cNvCxnSpPr>
              <a:stCxn id="448" idx="0"/>
              <a:endCxn id="45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53" name="_s33800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_s33801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_s33802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_s33803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_s33804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56" name="_s34820"/>
            <p:cNvCxnSpPr>
              <a:stCxn id="457" idx="3"/>
              <a:endCxn id="45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9" name="_s34821"/>
            <p:cNvCxnSpPr>
              <a:stCxn id="460" idx="3"/>
              <a:endCxn id="46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2" name="_s34822"/>
            <p:cNvCxnSpPr>
              <a:stCxn id="461" idx="0"/>
              <a:endCxn id="46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4" name="_s34823"/>
            <p:cNvCxnSpPr>
              <a:stCxn id="458" idx="0"/>
              <a:endCxn id="46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63" name="_s34824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_s34825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_s34826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_s34827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_s34828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66" name="_s35844"/>
            <p:cNvCxnSpPr>
              <a:stCxn id="467" idx="3"/>
              <a:endCxn id="46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9" name="_s35845"/>
            <p:cNvCxnSpPr>
              <a:stCxn id="470" idx="3"/>
              <a:endCxn id="47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2" name="_s35846"/>
            <p:cNvCxnSpPr>
              <a:stCxn id="471" idx="0"/>
              <a:endCxn id="47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4" name="_s35847"/>
            <p:cNvCxnSpPr>
              <a:stCxn id="468" idx="0"/>
              <a:endCxn id="47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73" name="_s35848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_s35849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_s35850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_s35851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_s35852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76" name="_s36868"/>
            <p:cNvCxnSpPr>
              <a:stCxn id="477" idx="3"/>
              <a:endCxn id="47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9" name="_s36869"/>
            <p:cNvCxnSpPr>
              <a:stCxn id="480" idx="3"/>
              <a:endCxn id="48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2" name="_s36870"/>
            <p:cNvCxnSpPr>
              <a:stCxn id="481" idx="0"/>
              <a:endCxn id="48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4" name="_s36871"/>
            <p:cNvCxnSpPr>
              <a:stCxn id="478" idx="0"/>
              <a:endCxn id="48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83" name="_s36872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_s36873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_s36874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_s36875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_s36876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540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жите выигрышный путь которому соответствуют формулы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835280" y="1341360"/>
          <a:ext cx="6192720" cy="539748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13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8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24000" y="0"/>
            <a:ext cx="8540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жите выигрышный путь которому соответствуют формулы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835280" y="1341360"/>
          <a:ext cx="6192720" cy="521964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 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Классификация неорганических вещест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9080" y="1573200"/>
            <a:ext cx="8495640" cy="4463280"/>
            <a:chOff x="289080" y="1573200"/>
            <a:chExt cx="8495640" cy="4463280"/>
          </a:xfrm>
        </p:grpSpPr>
        <p:cxnSp>
          <p:nvCxnSpPr>
            <p:cNvPr id="389" name="_s16389"/>
            <p:cNvCxnSpPr>
              <a:stCxn id="390" idx="1"/>
              <a:endCxn id="391" idx="2"/>
            </p:cNvCxnSpPr>
            <p:nvPr/>
          </p:nvCxnSpPr>
          <p:spPr>
            <a:xfrm rot="10800000">
              <a:off x="6660000" y="3601440"/>
              <a:ext cx="303840" cy="2029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2" name="_s16390"/>
            <p:cNvCxnSpPr>
              <a:stCxn id="393" idx="3"/>
              <a:endCxn id="391" idx="2"/>
            </p:cNvCxnSpPr>
            <p:nvPr/>
          </p:nvCxnSpPr>
          <p:spPr>
            <a:xfrm flipV="1">
              <a:off x="6357240" y="3601800"/>
              <a:ext cx="303840" cy="2029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4" name="_s16391"/>
            <p:cNvCxnSpPr>
              <a:stCxn id="395" idx="1"/>
              <a:endCxn id="391" idx="2"/>
            </p:cNvCxnSpPr>
            <p:nvPr/>
          </p:nvCxnSpPr>
          <p:spPr>
            <a:xfrm rot="10800000">
              <a:off x="6660000" y="3601440"/>
              <a:ext cx="303840" cy="812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6" name="_s16392"/>
            <p:cNvCxnSpPr>
              <a:stCxn id="397" idx="3"/>
              <a:endCxn id="391" idx="2"/>
            </p:cNvCxnSpPr>
            <p:nvPr/>
          </p:nvCxnSpPr>
          <p:spPr>
            <a:xfrm flipV="1">
              <a:off x="6357240" y="3601800"/>
              <a:ext cx="303840" cy="812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8" name="_s16393"/>
            <p:cNvCxnSpPr>
              <a:stCxn id="399" idx="0"/>
              <a:endCxn id="400" idx="2"/>
            </p:cNvCxnSpPr>
            <p:nvPr/>
          </p:nvCxnSpPr>
          <p:spPr>
            <a:xfrm flipV="1" rot="16200000">
              <a:off x="2588400" y="3273120"/>
              <a:ext cx="406440" cy="10627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6394"/>
            <p:cNvCxnSpPr>
              <a:stCxn id="402" idx="0"/>
              <a:endCxn id="400" idx="2"/>
            </p:cNvCxnSpPr>
            <p:nvPr/>
          </p:nvCxnSpPr>
          <p:spPr>
            <a:xfrm flipH="1" flipV="1" rot="5400000">
              <a:off x="1526760" y="3273480"/>
              <a:ext cx="406440" cy="106236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3" name="_s16395"/>
            <p:cNvCxnSpPr>
              <a:stCxn id="391" idx="0"/>
              <a:endCxn id="404" idx="2"/>
            </p:cNvCxnSpPr>
            <p:nvPr/>
          </p:nvCxnSpPr>
          <p:spPr>
            <a:xfrm flipV="1" rot="16200000">
              <a:off x="5358240" y="1487880"/>
              <a:ext cx="406440" cy="21985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5" name="_s16396"/>
            <p:cNvCxnSpPr>
              <a:stCxn id="400" idx="0"/>
              <a:endCxn id="404" idx="2"/>
            </p:cNvCxnSpPr>
            <p:nvPr/>
          </p:nvCxnSpPr>
          <p:spPr>
            <a:xfrm flipH="1" flipV="1" rot="5400000">
              <a:off x="3158640" y="1486080"/>
              <a:ext cx="406440" cy="22024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04" name="_s16397"/>
            <p:cNvSpPr/>
            <p:nvPr/>
          </p:nvSpPr>
          <p:spPr>
            <a:xfrm>
              <a:off x="3550680" y="157320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Неорганическ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16398"/>
            <p:cNvSpPr/>
            <p:nvPr/>
          </p:nvSpPr>
          <p:spPr>
            <a:xfrm>
              <a:off x="1350720" y="279036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ост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_s16399"/>
            <p:cNvSpPr/>
            <p:nvPr/>
          </p:nvSpPr>
          <p:spPr>
            <a:xfrm>
              <a:off x="5750640" y="279036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Слож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16400"/>
            <p:cNvSpPr/>
            <p:nvPr/>
          </p:nvSpPr>
          <p:spPr>
            <a:xfrm>
              <a:off x="28908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Металл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16401"/>
            <p:cNvSpPr/>
            <p:nvPr/>
          </p:nvSpPr>
          <p:spPr>
            <a:xfrm>
              <a:off x="241272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Неметалл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16402"/>
            <p:cNvSpPr/>
            <p:nvPr/>
          </p:nvSpPr>
          <p:spPr>
            <a:xfrm>
              <a:off x="453672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16403"/>
            <p:cNvSpPr/>
            <p:nvPr/>
          </p:nvSpPr>
          <p:spPr>
            <a:xfrm>
              <a:off x="696420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_s16404"/>
            <p:cNvSpPr/>
            <p:nvPr/>
          </p:nvSpPr>
          <p:spPr>
            <a:xfrm>
              <a:off x="4538880" y="5225040"/>
              <a:ext cx="181836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16405"/>
            <p:cNvSpPr/>
            <p:nvPr/>
          </p:nvSpPr>
          <p:spPr>
            <a:xfrm>
              <a:off x="6964200" y="5225040"/>
              <a:ext cx="181800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Сол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4920" y="3284280"/>
            <a:ext cx="84963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слотные остатки</a:t>
            </a:r>
            <a:br>
              <a:rPr sz="72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1405080" y="-171360"/>
            <a:ext cx="556128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076720" y="3789360"/>
            <a:ext cx="0" cy="151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19640" y="3357360"/>
            <a:ext cx="1873440" cy="18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2556000" y="3284640"/>
            <a:ext cx="223200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Кислоты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9325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ложные вещества, состоящие из одного или нескольких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атомов водород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ислотного оста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5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48360" y="2205000"/>
            <a:ext cx="100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03640" y="2060280"/>
            <a:ext cx="50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49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51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53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441504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одчеркните кислотный остаток в молекулах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N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i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9280" y="4652640"/>
            <a:ext cx="86630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_______                ________           _________               __________           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561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Определите валентность кислотных остат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N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i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0" y="4723920"/>
            <a:ext cx="91440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_______                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  _________               __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  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4720" y="3500280"/>
            <a:ext cx="7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85080" y="3500280"/>
            <a:ext cx="1258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84720" y="342900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342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26600" indent="-42660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56000" y="3429000"/>
            <a:ext cx="7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298440" indent="-298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613080" y="549360"/>
            <a:ext cx="6264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оставьте формулы кислот по известным кислотным остаткам</a:t>
            </a:r>
            <a:br>
              <a:rPr sz="32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4000" y="256536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Cl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Cl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48000" y="256536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76360" y="306864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24360" y="357336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79640" y="414972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52720" y="465300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11640" y="522936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35280" y="5805360"/>
            <a:ext cx="147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6028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ассификация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482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.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 числу атомо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одоро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63640" y="371628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одн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63640" y="443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дву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63640" y="515772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тре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4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Задание.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Разделите кислоты по числу атомов водо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; HN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: HBr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ru-RU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4360" y="2847960"/>
            <a:ext cx="7632360" cy="4009680"/>
            <a:chOff x="684360" y="2847960"/>
            <a:chExt cx="7632360" cy="4009680"/>
          </a:xfrm>
        </p:grpSpPr>
        <p:cxnSp>
          <p:nvCxnSpPr>
            <p:cNvPr id="565" name="_s55302"/>
            <p:cNvCxnSpPr>
              <a:stCxn id="566" idx="1"/>
              <a:endCxn id="567" idx="2"/>
            </p:cNvCxnSpPr>
            <p:nvPr/>
          </p:nvCxnSpPr>
          <p:spPr>
            <a:xfrm rot="10800000">
              <a:off x="4499640" y="4026600"/>
              <a:ext cx="273240" cy="2595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8" name="_s55303"/>
            <p:cNvCxnSpPr>
              <a:stCxn id="569" idx="1"/>
              <a:endCxn id="567" idx="2"/>
            </p:cNvCxnSpPr>
            <p:nvPr/>
          </p:nvCxnSpPr>
          <p:spPr>
            <a:xfrm rot="10800000">
              <a:off x="4499640" y="4026600"/>
              <a:ext cx="273240" cy="1886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0" name="_s55304"/>
            <p:cNvCxnSpPr>
              <a:stCxn id="571" idx="1"/>
              <a:endCxn id="567" idx="2"/>
            </p:cNvCxnSpPr>
            <p:nvPr/>
          </p:nvCxnSpPr>
          <p:spPr>
            <a:xfrm rot="10800000">
              <a:off x="4499640" y="4026600"/>
              <a:ext cx="273240" cy="1178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2" name="_s55305"/>
            <p:cNvCxnSpPr>
              <a:stCxn id="573" idx="1"/>
              <a:endCxn id="567" idx="2"/>
            </p:cNvCxnSpPr>
            <p:nvPr/>
          </p:nvCxnSpPr>
          <p:spPr>
            <a:xfrm rot="10800000">
              <a:off x="4499640" y="4026600"/>
              <a:ext cx="273240" cy="472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4" name="_s55306"/>
            <p:cNvCxnSpPr>
              <a:stCxn id="575" idx="3"/>
              <a:endCxn id="576" idx="2"/>
            </p:cNvCxnSpPr>
            <p:nvPr/>
          </p:nvCxnSpPr>
          <p:spPr>
            <a:xfrm flipV="1">
              <a:off x="2319480" y="4026600"/>
              <a:ext cx="273240" cy="2596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7" name="_s55307"/>
            <p:cNvCxnSpPr>
              <a:stCxn id="578" idx="3"/>
              <a:endCxn id="576" idx="2"/>
            </p:cNvCxnSpPr>
            <p:nvPr/>
          </p:nvCxnSpPr>
          <p:spPr>
            <a:xfrm flipV="1">
              <a:off x="2319480" y="4026600"/>
              <a:ext cx="273240" cy="1887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9" name="_s55308"/>
            <p:cNvCxnSpPr>
              <a:stCxn id="580" idx="3"/>
              <a:endCxn id="576" idx="2"/>
            </p:cNvCxnSpPr>
            <p:nvPr/>
          </p:nvCxnSpPr>
          <p:spPr>
            <a:xfrm flipV="1">
              <a:off x="2319480" y="4026960"/>
              <a:ext cx="273240" cy="11800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1" name="_s55309"/>
            <p:cNvCxnSpPr>
              <a:stCxn id="582" idx="3"/>
              <a:endCxn id="576" idx="2"/>
            </p:cNvCxnSpPr>
            <p:nvPr/>
          </p:nvCxnSpPr>
          <p:spPr>
            <a:xfrm flipV="1">
              <a:off x="2319480" y="4026960"/>
              <a:ext cx="273240" cy="473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3" name="_s55310"/>
            <p:cNvCxnSpPr>
              <a:stCxn id="584" idx="0"/>
              <a:endCxn id="585" idx="2"/>
            </p:cNvCxnSpPr>
            <p:nvPr/>
          </p:nvCxnSpPr>
          <p:spPr>
            <a:xfrm flipV="1">
              <a:off x="7499160" y="4026600"/>
              <a:ext cx="2160" cy="236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6" name="_s55311"/>
            <p:cNvCxnSpPr>
              <a:stCxn id="585" idx="0"/>
              <a:endCxn id="587" idx="2"/>
            </p:cNvCxnSpPr>
            <p:nvPr/>
          </p:nvCxnSpPr>
          <p:spPr>
            <a:xfrm flipV="1" rot="16200000">
              <a:off x="6153840" y="221004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8" name="_s55312"/>
            <p:cNvCxnSpPr>
              <a:stCxn id="567" idx="0"/>
              <a:endCxn id="587" idx="2"/>
            </p:cNvCxnSpPr>
            <p:nvPr/>
          </p:nvCxnSpPr>
          <p:spPr>
            <a:xfrm flipH="1" flipV="1" rot="5400000">
              <a:off x="4654800" y="3164400"/>
              <a:ext cx="236520" cy="545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9" name="_s55313"/>
            <p:cNvCxnSpPr>
              <a:stCxn id="576" idx="0"/>
              <a:endCxn id="587" idx="2"/>
            </p:cNvCxnSpPr>
            <p:nvPr/>
          </p:nvCxnSpPr>
          <p:spPr>
            <a:xfrm flipH="1" flipV="1" rot="5400000">
              <a:off x="3700800" y="221040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87" name="_s55314"/>
            <p:cNvSpPr/>
            <p:nvPr/>
          </p:nvSpPr>
          <p:spPr>
            <a:xfrm>
              <a:off x="4227840" y="28479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55315"/>
            <p:cNvSpPr/>
            <p:nvPr/>
          </p:nvSpPr>
          <p:spPr>
            <a:xfrm>
              <a:off x="17744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ДН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55316"/>
            <p:cNvSpPr/>
            <p:nvPr/>
          </p:nvSpPr>
          <p:spPr>
            <a:xfrm>
              <a:off x="368280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ДВУХ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_s55317"/>
            <p:cNvSpPr/>
            <p:nvPr/>
          </p:nvSpPr>
          <p:spPr>
            <a:xfrm>
              <a:off x="66812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ТРЕХ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5318"/>
            <p:cNvSpPr/>
            <p:nvPr/>
          </p:nvSpPr>
          <p:spPr>
            <a:xfrm>
              <a:off x="668124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5319"/>
            <p:cNvSpPr/>
            <p:nvPr/>
          </p:nvSpPr>
          <p:spPr>
            <a:xfrm>
              <a:off x="68436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55320"/>
            <p:cNvSpPr/>
            <p:nvPr/>
          </p:nvSpPr>
          <p:spPr>
            <a:xfrm>
              <a:off x="684360" y="497088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55321"/>
            <p:cNvSpPr/>
            <p:nvPr/>
          </p:nvSpPr>
          <p:spPr>
            <a:xfrm>
              <a:off x="685800" y="5678280"/>
              <a:ext cx="16336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_s55322"/>
            <p:cNvSpPr/>
            <p:nvPr/>
          </p:nvSpPr>
          <p:spPr>
            <a:xfrm>
              <a:off x="684360" y="638604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_s55323"/>
            <p:cNvSpPr/>
            <p:nvPr/>
          </p:nvSpPr>
          <p:spPr>
            <a:xfrm>
              <a:off x="4773240" y="4263120"/>
              <a:ext cx="163548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55324"/>
            <p:cNvSpPr/>
            <p:nvPr/>
          </p:nvSpPr>
          <p:spPr>
            <a:xfrm>
              <a:off x="4773240" y="49708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_s55325"/>
            <p:cNvSpPr/>
            <p:nvPr/>
          </p:nvSpPr>
          <p:spPr>
            <a:xfrm>
              <a:off x="4773240" y="56782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_s55326"/>
            <p:cNvSpPr/>
            <p:nvPr/>
          </p:nvSpPr>
          <p:spPr>
            <a:xfrm>
              <a:off x="4773240" y="638604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ассификация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5508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 наличию в кислотном остатке атомов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исл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3640" y="422100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1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бес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ислород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63640" y="4797360"/>
            <a:ext cx="73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2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кислород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держащи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Задание.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Разделите кислоты по наличию атомов кисло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; HN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Br.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1280" y="2205000"/>
            <a:ext cx="7632000" cy="4009680"/>
            <a:chOff x="611280" y="2205000"/>
            <a:chExt cx="7632000" cy="4009680"/>
          </a:xfrm>
        </p:grpSpPr>
        <p:cxnSp>
          <p:nvCxnSpPr>
            <p:cNvPr id="600" name="_s67590"/>
            <p:cNvCxnSpPr>
              <a:stCxn id="601" idx="1"/>
              <a:endCxn id="602" idx="2"/>
            </p:cNvCxnSpPr>
            <p:nvPr/>
          </p:nvCxnSpPr>
          <p:spPr>
            <a:xfrm rot="10800000">
              <a:off x="5700600" y="363636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3" name="_s67591"/>
            <p:cNvCxnSpPr>
              <a:stCxn id="604" idx="1"/>
              <a:endCxn id="602" idx="2"/>
            </p:cNvCxnSpPr>
            <p:nvPr/>
          </p:nvCxnSpPr>
          <p:spPr>
            <a:xfrm rot="10800000">
              <a:off x="5700600" y="3636360"/>
              <a:ext cx="363960" cy="1432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5" name="_s67592"/>
            <p:cNvCxnSpPr>
              <a:stCxn id="606" idx="1"/>
              <a:endCxn id="602" idx="2"/>
            </p:cNvCxnSpPr>
            <p:nvPr/>
          </p:nvCxnSpPr>
          <p:spPr>
            <a:xfrm rot="10800000">
              <a:off x="570060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7" name="_s67593"/>
            <p:cNvCxnSpPr>
              <a:stCxn id="608" idx="3"/>
              <a:endCxn id="609" idx="2"/>
            </p:cNvCxnSpPr>
            <p:nvPr/>
          </p:nvCxnSpPr>
          <p:spPr>
            <a:xfrm flipV="1">
              <a:off x="2792160" y="363672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0" name="_s67594"/>
            <p:cNvCxnSpPr>
              <a:stCxn id="611" idx="3"/>
              <a:endCxn id="609" idx="2"/>
            </p:cNvCxnSpPr>
            <p:nvPr/>
          </p:nvCxnSpPr>
          <p:spPr>
            <a:xfrm flipV="1">
              <a:off x="2792160" y="3636360"/>
              <a:ext cx="363960" cy="1434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2" name="_s67595"/>
            <p:cNvCxnSpPr>
              <a:stCxn id="613" idx="3"/>
              <a:endCxn id="609" idx="2"/>
            </p:cNvCxnSpPr>
            <p:nvPr/>
          </p:nvCxnSpPr>
          <p:spPr>
            <a:xfrm flipV="1">
              <a:off x="279216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4" name="_s67596"/>
            <p:cNvCxnSpPr>
              <a:stCxn id="602" idx="0"/>
              <a:endCxn id="615" idx="2"/>
            </p:cNvCxnSpPr>
            <p:nvPr/>
          </p:nvCxnSpPr>
          <p:spPr>
            <a:xfrm flipV="1" rot="16200000">
              <a:off x="4920840" y="2283840"/>
              <a:ext cx="286920" cy="127332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6" name="_s67597"/>
            <p:cNvCxnSpPr>
              <a:stCxn id="609" idx="0"/>
              <a:endCxn id="615" idx="2"/>
            </p:cNvCxnSpPr>
            <p:nvPr/>
          </p:nvCxnSpPr>
          <p:spPr>
            <a:xfrm flipH="1" flipV="1" rot="5400000">
              <a:off x="3648960" y="2284200"/>
              <a:ext cx="286920" cy="127296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15" name="_s67598"/>
            <p:cNvSpPr/>
            <p:nvPr/>
          </p:nvSpPr>
          <p:spPr>
            <a:xfrm>
              <a:off x="3337560" y="22050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67599"/>
            <p:cNvSpPr/>
            <p:nvPr/>
          </p:nvSpPr>
          <p:spPr>
            <a:xfrm>
              <a:off x="20653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67600"/>
            <p:cNvSpPr/>
            <p:nvPr/>
          </p:nvSpPr>
          <p:spPr>
            <a:xfrm>
              <a:off x="46105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67601"/>
            <p:cNvSpPr/>
            <p:nvPr/>
          </p:nvSpPr>
          <p:spPr>
            <a:xfrm>
              <a:off x="611280" y="392328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67602"/>
            <p:cNvSpPr/>
            <p:nvPr/>
          </p:nvSpPr>
          <p:spPr>
            <a:xfrm>
              <a:off x="611280" y="47826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67603"/>
            <p:cNvSpPr/>
            <p:nvPr/>
          </p:nvSpPr>
          <p:spPr>
            <a:xfrm>
              <a:off x="613440" y="5641920"/>
              <a:ext cx="217908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67604"/>
            <p:cNvSpPr/>
            <p:nvPr/>
          </p:nvSpPr>
          <p:spPr>
            <a:xfrm>
              <a:off x="6064920" y="392328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67605"/>
            <p:cNvSpPr/>
            <p:nvPr/>
          </p:nvSpPr>
          <p:spPr>
            <a:xfrm>
              <a:off x="6064920" y="478260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67606"/>
            <p:cNvSpPr/>
            <p:nvPr/>
          </p:nvSpPr>
          <p:spPr>
            <a:xfrm>
              <a:off x="6064920" y="564192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олучение кисло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1280" y="1052640"/>
            <a:ext cx="4248000" cy="2237400"/>
            <a:chOff x="2411280" y="1052640"/>
            <a:chExt cx="4248000" cy="2237400"/>
          </a:xfrm>
        </p:grpSpPr>
        <p:cxnSp>
          <p:nvCxnSpPr>
            <p:cNvPr id="619" name="_s74757"/>
            <p:cNvCxnSpPr>
              <a:stCxn id="620" idx="0"/>
              <a:endCxn id="621" idx="2"/>
            </p:cNvCxnSpPr>
            <p:nvPr/>
          </p:nvCxnSpPr>
          <p:spPr>
            <a:xfrm flipV="1" rot="16200000">
              <a:off x="4882320" y="1598760"/>
              <a:ext cx="448200" cy="114444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2" name="_s74758"/>
            <p:cNvCxnSpPr>
              <a:stCxn id="623" idx="0"/>
              <a:endCxn id="621" idx="2"/>
            </p:cNvCxnSpPr>
            <p:nvPr/>
          </p:nvCxnSpPr>
          <p:spPr>
            <a:xfrm flipH="1" flipV="1" rot="5400000">
              <a:off x="3739320" y="1599120"/>
              <a:ext cx="448200" cy="114408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21" name="_s74759"/>
            <p:cNvSpPr/>
            <p:nvPr/>
          </p:nvSpPr>
          <p:spPr>
            <a:xfrm>
              <a:off x="3554640" y="105264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74760"/>
            <p:cNvSpPr/>
            <p:nvPr/>
          </p:nvSpPr>
          <p:spPr>
            <a:xfrm>
              <a:off x="241128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74761"/>
            <p:cNvSpPr/>
            <p:nvPr/>
          </p:nvSpPr>
          <p:spPr>
            <a:xfrm>
              <a:off x="469872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 flipV="1">
            <a:off x="334800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86728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4292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5928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О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Взаимодействие кислотных оксидов с вод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7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+ 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O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Взаимодействие водорода с неметалл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+ 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олучение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4716360" y="2708280"/>
            <a:ext cx="24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08360" y="4797360"/>
            <a:ext cx="223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00720" y="2708280"/>
            <a:ext cx="64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797360"/>
            <a:ext cx="647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8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420"/>
                            </p:stCondLst>
                            <p:childTnLst>
                              <p:par>
                                <p:cTn id="7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82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0948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" y="5335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свойства кисло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4005360"/>
            <a:ext cx="8820000" cy="262908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угольная кислота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сернистая кислота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В свободном виде не существуют, распадаются на газ и во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49360"/>
            <a:ext cx="8305920" cy="209016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Cl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с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ерная кислота     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жидкости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N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2492280"/>
            <a:ext cx="8640720" cy="155448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 кремниевая кислота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верд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ещество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59280" y="692280"/>
            <a:ext cx="217440" cy="180000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27640" y="2708280"/>
            <a:ext cx="71640" cy="431640"/>
          </a:xfrm>
          <a:custGeom>
            <a:avLst/>
            <a:gdLst>
              <a:gd name="textAreaLeft" fmla="*/ 0 w 71640"/>
              <a:gd name="textAreaRight" fmla="*/ 2592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ff00"/>
                </a:solidFill>
                <a:latin typeface="Tahoma"/>
              </a:rPr>
              <a:t>Индикаторы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ещества, дающие </a:t>
            </a:r>
            <a:r>
              <a:rPr b="1" lang="en-US" sz="4000" spc="-1" strike="noStrike">
                <a:solidFill>
                  <a:srgbClr val="ff0707"/>
                </a:solidFill>
                <a:latin typeface="Tahoma"/>
              </a:rPr>
              <a:t>цветные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химические  реакции в зависимости от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реды раство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4292640"/>
            <a:ext cx="5659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Лакм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Метилоран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Фенолфтале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750"/>
                            </p:stCondLst>
                            <p:childTnLst>
                              <p:par>
                                <p:cTn id="7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430"/>
                            </p:stCondLst>
                            <p:childTnLst>
                              <p:par>
                                <p:cTn id="7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95280" y="170028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аспознавание кислот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ндикатор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6819840" y="4991040"/>
            <a:ext cx="457200" cy="533520"/>
          </a:xfrm>
          <a:prstGeom prst="flowChartDelay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705720" y="3200400"/>
            <a:ext cx="753840" cy="2327400"/>
            <a:chOff x="6705720" y="3200400"/>
            <a:chExt cx="753840" cy="2327400"/>
          </a:xfrm>
        </p:grpSpPr>
        <p:sp>
          <p:nvSpPr>
            <p:cNvPr id="649" name=""/>
            <p:cNvSpPr/>
            <p:nvPr/>
          </p:nvSpPr>
          <p:spPr>
            <a:xfrm>
              <a:off x="7237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705720" y="3200400"/>
              <a:ext cx="753840" cy="2327400"/>
              <a:chOff x="6705720" y="3200400"/>
              <a:chExt cx="753840" cy="2327400"/>
            </a:xfrm>
          </p:grpSpPr>
          <p:sp>
            <p:nvSpPr>
              <p:cNvPr id="651" name=""/>
              <p:cNvSpPr/>
              <p:nvPr/>
            </p:nvSpPr>
            <p:spPr>
              <a:xfrm>
                <a:off x="6772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705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72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10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1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08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07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07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 rot="5400000">
            <a:off x="2171160" y="4914720"/>
            <a:ext cx="457200" cy="53316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057400" y="3200400"/>
            <a:ext cx="753840" cy="2327400"/>
            <a:chOff x="2057400" y="3200400"/>
            <a:chExt cx="753840" cy="2327400"/>
          </a:xfrm>
        </p:grpSpPr>
        <p:sp>
          <p:nvSpPr>
            <p:cNvPr id="663" name=""/>
            <p:cNvSpPr/>
            <p:nvPr/>
          </p:nvSpPr>
          <p:spPr>
            <a:xfrm>
              <a:off x="258912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2057400" y="3200400"/>
              <a:ext cx="753840" cy="2327400"/>
              <a:chOff x="2057400" y="3200400"/>
              <a:chExt cx="753840" cy="2327400"/>
            </a:xfrm>
          </p:grpSpPr>
          <p:sp>
            <p:nvSpPr>
              <p:cNvPr id="665" name=""/>
              <p:cNvSpPr/>
              <p:nvPr/>
            </p:nvSpPr>
            <p:spPr>
              <a:xfrm>
                <a:off x="212400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05740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2400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36196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196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4288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6052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36052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35908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35908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1523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56360" y="2637000"/>
            <a:ext cx="1066680" cy="3808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b5d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b5d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4533840" y="4991040"/>
            <a:ext cx="457200" cy="533520"/>
          </a:xfrm>
          <a:prstGeom prst="flowChartDelay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4419720" y="3200400"/>
            <a:ext cx="753840" cy="2327400"/>
            <a:chOff x="4419720" y="3200400"/>
            <a:chExt cx="753840" cy="2327400"/>
          </a:xfrm>
        </p:grpSpPr>
        <p:sp>
          <p:nvSpPr>
            <p:cNvPr id="680" name=""/>
            <p:cNvSpPr/>
            <p:nvPr/>
          </p:nvSpPr>
          <p:spPr>
            <a:xfrm>
              <a:off x="4951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419720" y="3200400"/>
              <a:ext cx="753840" cy="2327400"/>
              <a:chOff x="4419720" y="3200400"/>
              <a:chExt cx="753840" cy="2327400"/>
            </a:xfrm>
          </p:grpSpPr>
          <p:sp>
            <p:nvSpPr>
              <p:cNvPr id="682" name=""/>
              <p:cNvSpPr/>
              <p:nvPr/>
            </p:nvSpPr>
            <p:spPr>
              <a:xfrm>
                <a:off x="4486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419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86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24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24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5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22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2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21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21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13716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419640" y="198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илоран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96000" y="20574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енолфтале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295280" y="5638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28800" y="5486400"/>
            <a:ext cx="1066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5486400"/>
            <a:ext cx="1067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29400" y="5486400"/>
            <a:ext cx="99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5b5d6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"/>
          <p:cNvGraphicFramePr/>
          <p:nvPr/>
        </p:nvGraphicFramePr>
        <p:xfrm>
          <a:off x="324000" y="1125360"/>
          <a:ext cx="8642160" cy="5114880"/>
        </p:xfrm>
        <a:graphic>
          <a:graphicData uri="http://schemas.openxmlformats.org/drawingml/2006/table">
            <a:tbl>
              <a:tblPr/>
              <a:tblGrid>
                <a:gridCol w="3673440"/>
                <a:gridCol w="496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ОРМУЛА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АЗВАНИЕ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F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тороводородная (плавикова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Cl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водородная (соляная)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B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м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од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179280" y="18900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Названия кисло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"/>
          <p:cNvGraphicFramePr/>
          <p:nvPr/>
        </p:nvGraphicFramePr>
        <p:xfrm>
          <a:off x="250920" y="189000"/>
          <a:ext cx="8642160" cy="5476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N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о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i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ние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сфо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6804000" y="5057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то 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запомнили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то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поняли?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ему 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научились?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68360" y="765000"/>
            <a:ext cx="8244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1. Найди группу формул кисло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HCl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                                                                 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HBr     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Cl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Cl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Закреп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0920" y="2852640"/>
            <a:ext cx="849780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. Выберите формулу «третьего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лишнего» вещества в каждом ря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Cl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10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59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707"/>
                </a:solidFill>
                <a:latin typeface="Tahoma"/>
              </a:rPr>
              <a:t>3.</a:t>
            </a:r>
            <a:r>
              <a:rPr b="1" lang="ru-RU" sz="4800" spc="-1" strike="noStrike" u="sng">
                <a:solidFill>
                  <a:srgbClr val="ff0707"/>
                </a:solidFill>
                <a:uFillTx/>
                <a:latin typeface="Tahoma"/>
              </a:rPr>
              <a:t> Даны вещества: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O, NaOH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Ca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Cl, Cu(OH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N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BaO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,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l(OH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gN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NaSi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l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854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Из предложенного списка выберите кисло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Проклассифицируйте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Определите валентность кислотных остат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Домашнее задание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§ 34, 3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готовиться к химическому диктанту по названиям кисло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с листа-упражнения выполнить задания №1, №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59:12Z</dcterms:created>
  <dc:creator>1</dc:creator>
  <dc:description/>
  <dc:language>en-US</dc:language>
  <cp:lastModifiedBy>Home</cp:lastModifiedBy>
  <dcterms:modified xsi:type="dcterms:W3CDTF">2012-12-19T17:33:05Z</dcterms:modified>
  <cp:revision>4</cp:revision>
  <dc:subject/>
  <dc:title>Слайд 1</dc:title>
</cp:coreProperties>
</file>