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1C6-4DB6-47B5-9314-65033112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7D9-8288-41E4-B8F4-DA6A52DB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DC7-CD38-46CE-8371-B4323D81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1E19-38DB-4D91-B1D1-E838468F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7DE-BFCE-4F7C-977C-9B53A2D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F0E-A78B-4B21-9251-05BD165B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331-369C-46EA-B61B-25BBDA8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D8A-7FED-435D-85A4-C65D11F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350-3EBE-4B7F-B2E6-787B0BB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C08-68FA-46BC-8F91-9A42FF5F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7A3-5596-4275-B62B-F8A7E849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30E-6A89-4FAA-9045-517C7B7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686-A4D3-42E4-AE57-2A1F9CCC8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http://files.school-collection.edu.ru/dlrstore/0ab6f5aa-4185-11db-b0de-0800200c9a66/ch08_20_05.swf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50;&#1080;&#1089;&#1083;+&#1048;&#1085;&#1076;.mpg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94;&#1080;&#1085;&#1082;%20&#1080;%20&#1089;&#1086;&#1083;&#1103;&#1085;&#1072;&#1103;%20&#1082;-&#1090;&#1072;.avi" TargetMode="External"/><Relationship Id="rId3" Type="http://schemas.openxmlformats.org/officeDocument/2006/relationships/hyperlink" Target="file:///../../Local%20Settings/Temp/Rar$DI00.734/&#1094;&#1080;&#1085;&#1082;,%20&#1078;&#1077;&#1083;&#1077;&#1079;&#1086;%20&#1080;%20&#1084;&#1077;&#1076;&#1100;%20&#1089;%20&#1082;-&#1090;&#1072;&#1084;&#1080;.avi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3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4" Type="http://schemas.openxmlformats.org/officeDocument/2006/relationships/hyperlink" Target="file:///../../Local%20Settings/Temp/Rar$DI00.734/&#1086;&#1082;&#1089;&#1080;&#1076;%20&#1084;&#1077;&#1076;&#1080;%20&#1080;%20&#1089;&#1077;&#1088;&#1085;&#1072;&#1103;%20&#1082;-&#1090;&#1072;.avi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2360" y="2924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КИСЛ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00360" y="1916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hemistry"/>
          <p:cNvPicPr/>
          <p:nvPr/>
        </p:nvPicPr>
        <p:blipFill>
          <a:blip r:embed="rId2"/>
          <a:stretch/>
        </p:blipFill>
        <p:spPr>
          <a:xfrm>
            <a:off x="468360" y="549360"/>
            <a:ext cx="2449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Organization Chart 3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84" name="_s3076"/>
            <p:cNvCxnSpPr>
              <a:stCxn id="85" idx="0"/>
              <a:endCxn id="86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077"/>
            <p:cNvCxnSpPr>
              <a:stCxn id="88" idx="0"/>
              <a:endCxn id="86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6" name="_s3078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9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Раствори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3080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Нераствори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1"/>
          <p:cNvSpPr/>
          <p:nvPr/>
        </p:nvSpPr>
        <p:spPr>
          <a:xfrm>
            <a:off x="5940360" y="4005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1332000" y="3357720"/>
            <a:ext cx="1871640" cy="2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Organization Chart 3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94" name="_s4100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4101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4102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4103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Стаби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4104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Нестаби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0"/>
          <p:cNvSpPr/>
          <p:nvPr/>
        </p:nvSpPr>
        <p:spPr>
          <a:xfrm>
            <a:off x="755640" y="3716280"/>
            <a:ext cx="28083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940360" y="3716280"/>
            <a:ext cx="18003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Окраска растворов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ют окраски: раство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, 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яд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шенные раств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187280" y="4005360"/>
            <a:ext cx="1152720" cy="1657080"/>
          </a:xfrm>
          <a:prstGeom prst="flowChartMagneticDisk">
            <a:avLst/>
          </a:prstGeom>
          <a:solidFill>
            <a:srgbClr val="edf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6804000" y="4005360"/>
            <a:ext cx="1152720" cy="1657080"/>
          </a:xfrm>
          <a:prstGeom prst="flowChartMagneticDisk">
            <a:avLst/>
          </a:prstGeom>
          <a:solidFill>
            <a:srgbClr val="de68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84360" y="587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459480" y="5867280"/>
            <a:ext cx="20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6443640" y="2276640"/>
            <a:ext cx="649440" cy="936360"/>
          </a:xfrm>
          <a:prstGeom prst="flowChartMagneticDisk">
            <a:avLst/>
          </a:prstGeom>
          <a:solidFill>
            <a:srgbClr val="f0f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rId2" action="ppaction://hlinksldjump"/>
          </p:cNvPr>
          <p:cNvSpPr/>
          <p:nvPr/>
        </p:nvSpPr>
        <p:spPr>
          <a:xfrm>
            <a:off x="179280" y="623736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11453" y="3837"/>
                </a:moveTo>
                <a:lnTo>
                  <a:pt x="14029" y="6448"/>
                </a:ln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lnTo>
                  <a:pt x="18416" y="10800"/>
                </a:lnTo>
                <a:lnTo>
                  <a:pt x="16762" y="10800"/>
                </a:lnTo>
                <a:lnTo>
                  <a:pt x="16762" y="17989"/>
                </a:lnTo>
                <a:lnTo>
                  <a:pt x="6143" y="17989"/>
                </a:lnTo>
                <a:lnTo>
                  <a:pt x="6143" y="10800"/>
                </a:lnTo>
                <a:lnTo>
                  <a:pt x="4490" y="10800"/>
                </a:lnTo>
                <a:close/>
              </a:path>
              <a:path fill="darkenLess" w="22905" h="21600">
                <a:moveTo>
                  <a:pt x="14029" y="6448"/>
                </a:moveTo>
                <a:lnTo>
                  <a:pt x="14029" y="4707"/>
                </a:lnTo>
                <a:lnTo>
                  <a:pt x="15804" y="4707"/>
                </a:lnTo>
                <a:lnTo>
                  <a:pt x="15804" y="8224"/>
                </a:lnTo>
                <a:close/>
              </a:path>
              <a:path fill="darkenLess" w="22905" h="21600">
                <a:moveTo>
                  <a:pt x="10530" y="14299"/>
                </a:moveTo>
                <a:lnTo>
                  <a:pt x="12375" y="14299"/>
                </a:lnTo>
                <a:lnTo>
                  <a:pt x="12375" y="17989"/>
                </a:lnTo>
                <a:lnTo>
                  <a:pt x="16762" y="17989"/>
                </a:lnTo>
                <a:lnTo>
                  <a:pt x="16762" y="10800"/>
                </a:lnTo>
                <a:lnTo>
                  <a:pt x="6143" y="10800"/>
                </a:lnTo>
                <a:lnTo>
                  <a:pt x="6143" y="17989"/>
                </a:lnTo>
                <a:lnTo>
                  <a:pt x="10530" y="17989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1692360" y="64580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авила безопасности при работе с кисло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йствие кислот на инд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826920" y="4365720"/>
            <a:ext cx="1008360" cy="1657080"/>
            <a:chOff x="826920" y="4365720"/>
            <a:chExt cx="1008360" cy="1657080"/>
          </a:xfrm>
        </p:grpSpPr>
        <p:sp>
          <p:nvSpPr>
            <p:cNvPr id="114" name="Rectangle 5"/>
            <p:cNvSpPr/>
            <p:nvPr/>
          </p:nvSpPr>
          <p:spPr>
            <a:xfrm>
              <a:off x="826920" y="4365720"/>
              <a:ext cx="1008360" cy="165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826920" y="5157720"/>
              <a:ext cx="10083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826920" y="5157720"/>
            <a:ext cx="10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995640" y="4437000"/>
            <a:ext cx="1008000" cy="1657440"/>
            <a:chOff x="3995640" y="4437000"/>
            <a:chExt cx="1008000" cy="1657440"/>
          </a:xfrm>
        </p:grpSpPr>
        <p:sp>
          <p:nvSpPr>
            <p:cNvPr id="118" name="Rectangle 10"/>
            <p:cNvSpPr/>
            <p:nvPr/>
          </p:nvSpPr>
          <p:spPr>
            <a:xfrm>
              <a:off x="399564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3995640" y="5229360"/>
              <a:ext cx="100800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7093080" y="4437000"/>
            <a:ext cx="1008000" cy="1657440"/>
            <a:chOff x="7093080" y="4437000"/>
            <a:chExt cx="1008000" cy="1657440"/>
          </a:xfrm>
        </p:grpSpPr>
        <p:sp>
          <p:nvSpPr>
            <p:cNvPr id="121" name="Rectangle 13"/>
            <p:cNvSpPr/>
            <p:nvPr/>
          </p:nvSpPr>
          <p:spPr>
            <a:xfrm>
              <a:off x="7093080" y="4437000"/>
              <a:ext cx="1008000" cy="165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7093080" y="5229000"/>
              <a:ext cx="100800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17"/>
          <p:cNvSpPr/>
          <p:nvPr/>
        </p:nvSpPr>
        <p:spPr>
          <a:xfrm>
            <a:off x="611280" y="24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к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48000" y="2492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илоран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227640" y="2492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лфтале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3995640" y="5229360"/>
            <a:ext cx="100800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26"/>
          <p:cNvSpPr/>
          <p:nvPr/>
        </p:nvSpPr>
        <p:spPr>
          <a:xfrm>
            <a:off x="1258920" y="2997360"/>
            <a:ext cx="288720" cy="1008000"/>
          </a:xfrm>
          <a:custGeom>
            <a:avLst/>
            <a:gdLst>
              <a:gd name="textAreaLeft" fmla="*/ 0 w 288720"/>
              <a:gd name="textAreaRight" fmla="*/ 289080 w 288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7"/>
          <p:cNvSpPr/>
          <p:nvPr/>
        </p:nvSpPr>
        <p:spPr>
          <a:xfrm>
            <a:off x="435600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8"/>
          <p:cNvSpPr/>
          <p:nvPr/>
        </p:nvSpPr>
        <p:spPr>
          <a:xfrm>
            <a:off x="7451640" y="3068640"/>
            <a:ext cx="289080" cy="1008000"/>
          </a:xfrm>
          <a:custGeom>
            <a:avLst/>
            <a:gdLst>
              <a:gd name="textAreaLeft" fmla="*/ 0 w 289080"/>
              <a:gd name="textAreaRight" fmla="*/ 289440 w 2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503" h="740">
                <a:moveTo>
                  <a:pt x="328" y="20"/>
                </a:moveTo>
                <a:cubicBezTo>
                  <a:pt x="324" y="20"/>
                  <a:pt x="228" y="26"/>
                  <a:pt x="204" y="38"/>
                </a:cubicBezTo>
                <a:cubicBezTo>
                  <a:pt x="138" y="71"/>
                  <a:pt x="110" y="123"/>
                  <a:pt x="54" y="162"/>
                </a:cubicBezTo>
                <a:cubicBezTo>
                  <a:pt x="40" y="201"/>
                  <a:pt x="22" y="237"/>
                  <a:pt x="9" y="277"/>
                </a:cubicBezTo>
                <a:cubicBezTo>
                  <a:pt x="6" y="286"/>
                  <a:pt x="0" y="304"/>
                  <a:pt x="0" y="304"/>
                </a:cubicBezTo>
                <a:cubicBezTo>
                  <a:pt x="3" y="398"/>
                  <a:pt x="4" y="493"/>
                  <a:pt x="9" y="587"/>
                </a:cubicBezTo>
                <a:cubicBezTo>
                  <a:pt x="14" y="677"/>
                  <a:pt x="160" y="704"/>
                  <a:pt x="222" y="711"/>
                </a:cubicBezTo>
                <a:cubicBezTo>
                  <a:pt x="388" y="704"/>
                  <a:pt x="397" y="740"/>
                  <a:pt x="479" y="658"/>
                </a:cubicBezTo>
                <a:cubicBezTo>
                  <a:pt x="503" y="588"/>
                  <a:pt x="494" y="522"/>
                  <a:pt x="435" y="481"/>
                </a:cubicBezTo>
                <a:cubicBezTo>
                  <a:pt x="417" y="428"/>
                  <a:pt x="440" y="477"/>
                  <a:pt x="399" y="437"/>
                </a:cubicBezTo>
                <a:cubicBezTo>
                  <a:pt x="391" y="429"/>
                  <a:pt x="388" y="418"/>
                  <a:pt x="381" y="410"/>
                </a:cubicBezTo>
                <a:cubicBezTo>
                  <a:pt x="364" y="391"/>
                  <a:pt x="328" y="357"/>
                  <a:pt x="328" y="357"/>
                </a:cubicBezTo>
                <a:cubicBezTo>
                  <a:pt x="306" y="290"/>
                  <a:pt x="338" y="368"/>
                  <a:pt x="293" y="312"/>
                </a:cubicBezTo>
                <a:cubicBezTo>
                  <a:pt x="246" y="253"/>
                  <a:pt x="332" y="318"/>
                  <a:pt x="257" y="268"/>
                </a:cubicBezTo>
                <a:cubicBezTo>
                  <a:pt x="247" y="239"/>
                  <a:pt x="213" y="188"/>
                  <a:pt x="213" y="188"/>
                </a:cubicBezTo>
                <a:cubicBezTo>
                  <a:pt x="233" y="36"/>
                  <a:pt x="199" y="164"/>
                  <a:pt x="248" y="100"/>
                </a:cubicBezTo>
                <a:cubicBezTo>
                  <a:pt x="254" y="93"/>
                  <a:pt x="250" y="80"/>
                  <a:pt x="257" y="73"/>
                </a:cubicBezTo>
                <a:cubicBezTo>
                  <a:pt x="272" y="58"/>
                  <a:pt x="310" y="38"/>
                  <a:pt x="310" y="38"/>
                </a:cubicBezTo>
                <a:cubicBezTo>
                  <a:pt x="330" y="9"/>
                  <a:pt x="328" y="0"/>
                  <a:pt x="328" y="2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0">
            <a:hlinkClick r:id="" action="ppaction://hlinkshowjump?jump=previousslide"/>
          </p:cNvPr>
          <p:cNvSpPr/>
          <p:nvPr/>
        </p:nvSpPr>
        <p:spPr>
          <a:xfrm>
            <a:off x="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2"/>
          <p:cNvSpPr/>
          <p:nvPr/>
        </p:nvSpPr>
        <p:spPr>
          <a:xfrm>
            <a:off x="7380360" y="17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3">
            <a:hlinkClick r:id="rId3" action="ppaction://hlinksldjump"/>
          </p:cNvPr>
          <p:cNvSpPr/>
          <p:nvPr/>
        </p:nvSpPr>
        <p:spPr>
          <a:xfrm>
            <a:off x="684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12731" y="3837"/>
                </a:moveTo>
                <a:lnTo>
                  <a:pt x="15307" y="6448"/>
                </a:lnTo>
                <a:lnTo>
                  <a:pt x="15307" y="4707"/>
                </a:lnTo>
                <a:lnTo>
                  <a:pt x="17083" y="4707"/>
                </a:lnTo>
                <a:lnTo>
                  <a:pt x="17083" y="8224"/>
                </a:lnTo>
                <a:lnTo>
                  <a:pt x="19694" y="10800"/>
                </a:lnTo>
                <a:lnTo>
                  <a:pt x="18040" y="10800"/>
                </a:lnTo>
                <a:lnTo>
                  <a:pt x="18040" y="17989"/>
                </a:lnTo>
                <a:lnTo>
                  <a:pt x="7422" y="17989"/>
                </a:lnTo>
                <a:lnTo>
                  <a:pt x="7422" y="10800"/>
                </a:lnTo>
                <a:lnTo>
                  <a:pt x="5768" y="10800"/>
                </a:lnTo>
                <a:close/>
              </a:path>
              <a:path fill="darkenLess" w="25462" h="21600">
                <a:moveTo>
                  <a:pt x="15307" y="6448"/>
                </a:moveTo>
                <a:lnTo>
                  <a:pt x="15307" y="4707"/>
                </a:lnTo>
                <a:lnTo>
                  <a:pt x="17083" y="4707"/>
                </a:lnTo>
                <a:lnTo>
                  <a:pt x="17083" y="8224"/>
                </a:lnTo>
                <a:close/>
              </a:path>
              <a:path fill="darkenLess" w="25462" h="21600">
                <a:moveTo>
                  <a:pt x="11808" y="14299"/>
                </a:moveTo>
                <a:lnTo>
                  <a:pt x="13653" y="14299"/>
                </a:lnTo>
                <a:lnTo>
                  <a:pt x="13653" y="17989"/>
                </a:lnTo>
                <a:lnTo>
                  <a:pt x="18040" y="17989"/>
                </a:lnTo>
                <a:lnTo>
                  <a:pt x="18040" y="10800"/>
                </a:lnTo>
                <a:lnTo>
                  <a:pt x="7422" y="10800"/>
                </a:lnTo>
                <a:lnTo>
                  <a:pt x="7422" y="17989"/>
                </a:lnTo>
                <a:lnTo>
                  <a:pt x="11808" y="17989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9584E-006 L -2.22222E-006 0.26226 E">
                                      <p:cBhvr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2636E-006 L 2.5E-006 0.25185 E">
                                      <p:cBhvr>
                                        <p:cTn id="14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52636E-006 L 8.33333E-007 0.26249 E">
                                      <p:cBhvr>
                                        <p:cTn id="15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3"/>
          <p:cNvSpPr/>
          <p:nvPr/>
        </p:nvSpPr>
        <p:spPr>
          <a:xfrm>
            <a:off x="0" y="32846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ИСЛОТА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5435640" y="1916280"/>
            <a:ext cx="865080" cy="368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3059280" y="1557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Мет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2484360" y="2708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сновный 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2916360" y="37162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2843280" y="472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С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9"/>
          <p:cNvGrpSpPr/>
          <p:nvPr/>
        </p:nvGrpSpPr>
        <p:grpSpPr>
          <a:xfrm>
            <a:off x="2700360" y="2133720"/>
            <a:ext cx="2232000" cy="3024000"/>
            <a:chOff x="2700360" y="2133720"/>
            <a:chExt cx="2232000" cy="3024000"/>
          </a:xfrm>
        </p:grpSpPr>
        <p:sp>
          <p:nvSpPr>
            <p:cNvPr id="142" name="Line 24"/>
            <p:cNvSpPr/>
            <p:nvPr/>
          </p:nvSpPr>
          <p:spPr>
            <a:xfrm>
              <a:off x="2700360" y="2133720"/>
              <a:ext cx="22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2700360" y="3141720"/>
              <a:ext cx="223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700360" y="4149720"/>
              <a:ext cx="22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700360" y="5157720"/>
              <a:ext cx="2230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3"/>
            <p:cNvSpPr/>
            <p:nvPr/>
          </p:nvSpPr>
          <p:spPr>
            <a:xfrm>
              <a:off x="2700360" y="2133720"/>
              <a:ext cx="0" cy="30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34"/>
          <p:cNvSpPr/>
          <p:nvPr/>
        </p:nvSpPr>
        <p:spPr>
          <a:xfrm>
            <a:off x="665964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7524720" y="1700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7451640" y="27082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7451640" y="3789360"/>
            <a:ext cx="122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7308720" y="4797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>
            <a:hlinkClick r:id="" action="ppaction://hlinkshowjump?jump=previousslide"/>
          </p:cNvPr>
          <p:cNvSpPr/>
          <p:nvPr/>
        </p:nvSpPr>
        <p:spPr>
          <a:xfrm>
            <a:off x="179280" y="6308640"/>
            <a:ext cx="432000" cy="40500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39" y="1400"/>
                </a:lnTo>
                <a:lnTo>
                  <a:pt x="1400" y="140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39" y="20200"/>
                </a:lnTo>
                <a:lnTo>
                  <a:pt x="21639" y="140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9" y="2020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9" h="21600">
                <a:moveTo>
                  <a:pt x="4513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алл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сол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яд активности метал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 K Ba Ca Na Mg Al Zn Fe Sn Pb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Cu</a:t>
            </a: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g Ag Pt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179280" y="3933720"/>
            <a:ext cx="8713800" cy="398880"/>
            <a:chOff x="179280" y="3933720"/>
            <a:chExt cx="8713800" cy="398880"/>
          </a:xfrm>
        </p:grpSpPr>
        <p:sp>
          <p:nvSpPr>
            <p:cNvPr id="156" name="Line 4"/>
            <p:cNvSpPr/>
            <p:nvPr/>
          </p:nvSpPr>
          <p:spPr>
            <a:xfrm>
              <a:off x="179280" y="4292640"/>
              <a:ext cx="871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324000" y="3933720"/>
              <a:ext cx="84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"/>
                </a:rPr>
                <a:t>Активность металлов уменьша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6"/>
          <p:cNvSpPr/>
          <p:nvPr/>
        </p:nvSpPr>
        <p:spPr>
          <a:xfrm>
            <a:off x="179280" y="4724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 1. Взаимодействие цинка с соляной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79280" y="5661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ыт 2. Взаимодействие металлов с кисл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79280" y="1844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Кисло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ный окси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о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24000" y="3141720"/>
            <a:ext cx="81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пыт. Взаимодействие оксида меди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I)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с серной кис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9640" y="486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O +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995640" y="486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68360" y="2060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Кислот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но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со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84360" y="306864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l + NaOH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4360" y="4292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Cu(O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140360" y="3068640"/>
            <a:ext cx="26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Cl + 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03640" y="4292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11280" y="54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Химические свойства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50920" y="1773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ль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ль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ислота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263700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я реа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50920" y="3284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Если образуется осад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26920" y="407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a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067280" y="4076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 + 2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24000" y="4941720"/>
            <a:ext cx="61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Если выделяется га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684360" y="573408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211640" y="57340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95280" y="5734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оставьте возможные уравнения реакций взаимодействия перечисленных веществ с раствором серной 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50920" y="1700280"/>
          <a:ext cx="4330800" cy="4800600"/>
        </p:xfrm>
        <a:graphic>
          <a:graphicData uri="http://schemas.openxmlformats.org/drawingml/2006/table">
            <a:tbl>
              <a:tblPr/>
              <a:tblGrid>
                <a:gridCol w="3313080"/>
                <a:gridCol w="101772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Si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LiО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Ва (N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НСI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К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К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i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Н NО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Fе(ОН)</a:t>
                      </a:r>
                      <a:r>
                        <a:rPr b="0" lang="ru-RU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476280"/>
            <a:ext cx="8964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значение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предназначена для использования в качестве наглядного материала при изучении темы «Кислоты» на уроках химии в 8 кла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900000" y="3933720"/>
            <a:ext cx="72723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учащихся с классификацией и химическими свойствами кис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en"/>
          <p:cNvPicPr/>
          <p:nvPr/>
        </p:nvPicPr>
        <p:blipFill>
          <a:blip r:embed="rId2"/>
          <a:stretch/>
        </p:blipFill>
        <p:spPr>
          <a:xfrm>
            <a:off x="2835360" y="2266920"/>
            <a:ext cx="332748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324000" y="162864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Химия.8 класс» (Электронный ресурс) – М. «Просвещение»,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бриелян О.С. Настольная книга учителя. Химия. 8 класс. М.: Дрофа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ина И.В. Современный урок химии. Ярославль. Академия развития.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техники безопасности при работе с кислотами. Анимация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files.school-collection.edu.ru/dlrstore/0ab6f5aa-4185-11db-b0de-0800200c9a66/ch08_20_05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ogosib.ru/him/HC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rexaw.com/TERMs/Metal121313/img73211_4-1_Himicheskie_svoystva_zolota-rastvory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79280" y="260280"/>
            <a:ext cx="864072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еимущества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опорные схемы, способствующие быстрому запоминанию учащимися учебн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анимацию «Изменение окраски индикаторов», что позволяет наблюдать учащимся за изменениями окраски индикаторов в растворах кисл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ы видеофрагменты с диска «Уроки химии Кирилла и Мефодия. 8-9 классы.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интерактивна, дает возможность фронтальной работы с клас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79280" y="765000"/>
            <a:ext cx="871236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Cu(O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F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B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Na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NiO    Ca(O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7596360" y="765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340000" y="2781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79280" y="4797360"/>
            <a:ext cx="19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58920" y="335772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КИСЛ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340000" y="1628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mistry"/>
          <p:cNvPicPr/>
          <p:nvPr/>
        </p:nvPicPr>
        <p:blipFill>
          <a:blip r:embed="rId2"/>
          <a:stretch/>
        </p:blipFill>
        <p:spPr>
          <a:xfrm>
            <a:off x="468360" y="549360"/>
            <a:ext cx="24494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84360" y="1341360"/>
            <a:ext cx="77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Цель урока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познакомиться с классификациями и общими химическими свойствами кисл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http://forexaw.com/TERMs/Metal121313/img73211_4-1_Himicheskie_svoystva_zolota-rastvoryi.jpg"/>
          <p:cNvPicPr/>
          <p:nvPr/>
        </p:nvPicPr>
        <p:blipFill>
          <a:blip r:embed="rId2"/>
          <a:stretch/>
        </p:blipFill>
        <p:spPr>
          <a:xfrm>
            <a:off x="3276720" y="3573360"/>
            <a:ext cx="22003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лассификации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Физические свойства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Химические свойства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HCl"/>
          <p:cNvPicPr/>
          <p:nvPr/>
        </p:nvPicPr>
        <p:blipFill>
          <a:blip r:embed="rId5"/>
          <a:stretch/>
        </p:blipFill>
        <p:spPr>
          <a:xfrm>
            <a:off x="6804000" y="1844640"/>
            <a:ext cx="168912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Organization Chart 16"/>
          <p:cNvGrpSpPr/>
          <p:nvPr/>
        </p:nvGrpSpPr>
        <p:grpSpPr>
          <a:xfrm>
            <a:off x="431640" y="1585800"/>
            <a:ext cx="8208000" cy="1411200"/>
            <a:chOff x="431640" y="1585800"/>
            <a:chExt cx="8208000" cy="1411200"/>
          </a:xfrm>
        </p:grpSpPr>
        <p:cxnSp>
          <p:nvCxnSpPr>
            <p:cNvPr id="61" name="_s1028"/>
            <p:cNvCxnSpPr>
              <a:stCxn id="62" idx="0"/>
              <a:endCxn id="63" idx="2"/>
            </p:cNvCxnSpPr>
            <p:nvPr/>
          </p:nvCxnSpPr>
          <p:spPr>
            <a:xfrm flipV="1" rot="16200000">
              <a:off x="5499360" y="1186200"/>
              <a:ext cx="282960" cy="221004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29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289320" y="1185840"/>
              <a:ext cx="282960" cy="2210760"/>
            </a:xfrm>
            <a:prstGeom prst="bentConnector3">
              <a:avLst>
                <a:gd name="adj1" fmla="val 406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1030"/>
            <p:cNvSpPr/>
            <p:nvPr/>
          </p:nvSpPr>
          <p:spPr>
            <a:xfrm>
              <a:off x="2642040" y="158580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1"/>
            <p:cNvSpPr/>
            <p:nvPr/>
          </p:nvSpPr>
          <p:spPr>
            <a:xfrm>
              <a:off x="43164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Бескислород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2"/>
            <p:cNvSpPr/>
            <p:nvPr/>
          </p:nvSpPr>
          <p:spPr>
            <a:xfrm>
              <a:off x="4851360" y="2432520"/>
              <a:ext cx="3788280" cy="56448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50021"/>
                  </a:solidFill>
                  <a:latin typeface="Arial"/>
                </a:rPr>
                <a:t>Кислород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24"/>
          <p:cNvSpPr/>
          <p:nvPr/>
        </p:nvSpPr>
        <p:spPr>
          <a:xfrm>
            <a:off x="755640" y="3068640"/>
            <a:ext cx="280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5867280" y="3068640"/>
            <a:ext cx="180036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6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11280" y="3716280"/>
            <a:ext cx="19429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964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Organization Chart 16"/>
          <p:cNvGrpSpPr/>
          <p:nvPr/>
        </p:nvGrpSpPr>
        <p:grpSpPr>
          <a:xfrm>
            <a:off x="468360" y="1484280"/>
            <a:ext cx="8208360" cy="1657080"/>
            <a:chOff x="468360" y="1484280"/>
            <a:chExt cx="8208360" cy="1657080"/>
          </a:xfrm>
        </p:grpSpPr>
        <p:cxnSp>
          <p:nvCxnSpPr>
            <p:cNvPr id="73" name="_s205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843160" y="875880"/>
              <a:ext cx="331560" cy="2873520"/>
            </a:xfrm>
            <a:prstGeom prst="bentConnector3">
              <a:avLst>
                <a:gd name="adj1" fmla="val 127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053"/>
            <p:cNvCxnSpPr>
              <a:stCxn id="77" idx="0"/>
              <a:endCxn id="75" idx="2"/>
            </p:cNvCxnSpPr>
            <p:nvPr/>
          </p:nvCxnSpPr>
          <p:spPr>
            <a:xfrm flipV="1">
              <a:off x="4572720" y="2147040"/>
              <a:ext cx="3600" cy="33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054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2970360" y="876240"/>
              <a:ext cx="331560" cy="2873520"/>
            </a:xfrm>
            <a:prstGeom prst="bentConnector3">
              <a:avLst>
                <a:gd name="adj1" fmla="val 127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2055"/>
            <p:cNvSpPr/>
            <p:nvPr/>
          </p:nvSpPr>
          <p:spPr>
            <a:xfrm>
              <a:off x="3341160" y="148428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fefe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50021"/>
                  </a:solidFill>
                  <a:latin typeface="Arial"/>
                </a:rPr>
                <a:t>КИСЛОТ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6"/>
            <p:cNvSpPr/>
            <p:nvPr/>
          </p:nvSpPr>
          <p:spPr>
            <a:xfrm>
              <a:off x="46836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Одно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334116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Двух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8"/>
            <p:cNvSpPr/>
            <p:nvPr/>
          </p:nvSpPr>
          <p:spPr>
            <a:xfrm>
              <a:off x="6214320" y="2478600"/>
              <a:ext cx="2462400" cy="662760"/>
            </a:xfrm>
            <a:prstGeom prst="roundRect">
              <a:avLst>
                <a:gd name="adj" fmla="val 16667"/>
              </a:avLst>
            </a:prstGeom>
            <a:solidFill>
              <a:srgbClr val="d6fe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a50021"/>
                  </a:solidFill>
                  <a:latin typeface="Arial"/>
                </a:rPr>
                <a:t>Трехосновны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5"/>
          <p:cNvSpPr/>
          <p:nvPr/>
        </p:nvSpPr>
        <p:spPr>
          <a:xfrm>
            <a:off x="3419640" y="3716280"/>
            <a:ext cx="23745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>
            <a:hlinkClick r:id="" action="ppaction://hlinkshowjump?jump=previousslide"/>
          </p:cNvPr>
          <p:cNvSpPr/>
          <p:nvPr/>
        </p:nvSpPr>
        <p:spPr>
          <a:xfrm>
            <a:off x="179280" y="630864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dde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09:00Z</dcterms:created>
  <dc:creator>www.PHILka.RU</dc:creator>
  <dc:description/>
  <dc:language>en-US</dc:language>
  <cp:lastModifiedBy>Home</cp:lastModifiedBy>
  <dcterms:modified xsi:type="dcterms:W3CDTF">2012-12-19T17:46:55Z</dcterms:modified>
  <cp:revision>45</cp:revision>
  <dc:subject/>
  <dc:title>Слайд 1</dc:title>
</cp:coreProperties>
</file>