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82C-C0C0-440E-B82E-B8330FB9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8136-2827-43FC-AFF0-18AA6A08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FD7-B590-47C7-913D-0CF8F53F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1632-EEA8-4F78-AFD0-980892B3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4663-ADE6-49AB-9BDA-913BE45A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EC8-A7CA-49BE-80CE-32E1AB50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A84-ADE1-4402-85F9-E9E856AF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3D5-4F65-40AC-BB87-822E8A1C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6681-4A38-4E8B-AF6F-7B43CBAB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436-3E1F-415A-BCC2-65306DB9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CBA-37C3-4ED7-9178-BFCC71F9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6C0-5BE3-42D6-B0DF-FBBA514A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8412-1808-4797-9745-5EA4B9F264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ицейский период в жизн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. С. Пушки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D:\SSDData\Descktop\Новая папка\1.gif"/>
          <p:cNvPicPr/>
          <p:nvPr/>
        </p:nvPicPr>
        <p:blipFill>
          <a:blip r:embed="rId1"/>
          <a:stretch/>
        </p:blipFill>
        <p:spPr>
          <a:xfrm>
            <a:off x="395280" y="1327320"/>
            <a:ext cx="3889440" cy="5327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:\SSDData\Descktop\Новая папка\5.jpg"/>
          <p:cNvPicPr/>
          <p:nvPr/>
        </p:nvPicPr>
        <p:blipFill>
          <a:blip r:embed="rId2"/>
          <a:stretch/>
        </p:blipFill>
        <p:spPr>
          <a:xfrm>
            <a:off x="4716360" y="1327320"/>
            <a:ext cx="4038840" cy="53305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6588000" y="938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11 – 1817 г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720" y="27432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ущин Ив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7880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го любили за ум, доброту, честность, справедливость. Он был общительный и жизнерадостный, надежный и верный дру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D:\SSDData\Descktop\Новая папка\пущин.jpg"/>
          <p:cNvPicPr/>
          <p:nvPr/>
        </p:nvPicPr>
        <p:blipFill>
          <a:blip r:embed="rId1"/>
          <a:stretch/>
        </p:blipFill>
        <p:spPr>
          <a:xfrm>
            <a:off x="250920" y="189000"/>
            <a:ext cx="411156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640" y="1937880"/>
            <a:ext cx="382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льгельм Кюхельбек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4000" y="299736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читался чудаком, над ним шутили друзья, так как он был неуклюж, слишком высок с характерным профи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D:\SSDData\Descktop\Новая папка\кюхельбекер.jpg"/>
          <p:cNvPicPr/>
          <p:nvPr/>
        </p:nvPicPr>
        <p:blipFill>
          <a:blip r:embed="rId1"/>
          <a:stretch/>
        </p:blipFill>
        <p:spPr>
          <a:xfrm>
            <a:off x="4211640" y="260280"/>
            <a:ext cx="4533840" cy="523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1332000" y="324000"/>
            <a:ext cx="129528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51640" y="188640"/>
            <a:ext cx="317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лександр Горча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148360" y="1483920"/>
            <a:ext cx="352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Питомец мод, большого света друг, обычаев блестящих наблюдатель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идный российский дипломат и государственный деятель, канцлер, кавалер ордена Святого апостола Андрея Первозванног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D:\SSDData\Descktop\Новая папка\горчаков.jpg"/>
          <p:cNvPicPr/>
          <p:nvPr/>
        </p:nvPicPr>
        <p:blipFill>
          <a:blip r:embed="rId1"/>
          <a:srcRect l="13549" t="0" r="10740" b="0"/>
          <a:stretch/>
        </p:blipFill>
        <p:spPr>
          <a:xfrm>
            <a:off x="395280" y="333360"/>
            <a:ext cx="4576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следний раз, в сени уединень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оим стихам внимает наш пена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цейской жизни милый бра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елю с тобой последние мгновен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D:\SSDData\Descktop\Новая папка\6.jpg"/>
          <p:cNvPicPr/>
          <p:nvPr/>
        </p:nvPicPr>
        <p:blipFill>
          <a:blip r:embed="rId1"/>
          <a:stretch/>
        </p:blipFill>
        <p:spPr>
          <a:xfrm>
            <a:off x="395280" y="1989000"/>
            <a:ext cx="820908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SSDData\Descktop\Новая папка\1262214340_1262185039_portret-v.a.-zhukovskogo-1820-e.jpg"/>
          <p:cNvPicPr/>
          <p:nvPr/>
        </p:nvPicPr>
        <p:blipFill>
          <a:blip r:embed="rId1"/>
          <a:srcRect l="0" t="0" r="11154" b="6717"/>
          <a:stretch/>
        </p:blipFill>
        <p:spPr>
          <a:xfrm>
            <a:off x="6288120" y="620640"/>
            <a:ext cx="2536920" cy="334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D:\SSDData\Descktop\Новая папка\08113117.jpg"/>
          <p:cNvPicPr/>
          <p:nvPr/>
        </p:nvPicPr>
        <p:blipFill>
          <a:blip r:embed="rId2"/>
          <a:srcRect l="0" t="0" r="10057" b="16648"/>
          <a:stretch/>
        </p:blipFill>
        <p:spPr>
          <a:xfrm>
            <a:off x="4960800" y="3213000"/>
            <a:ext cx="2779920" cy="346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D:\SSDData\Descktop\Новая папка\Державин.jpg"/>
          <p:cNvPicPr/>
          <p:nvPr/>
        </p:nvPicPr>
        <p:blipFill>
          <a:blip r:embed="rId3"/>
          <a:stretch/>
        </p:blipFill>
        <p:spPr>
          <a:xfrm>
            <a:off x="1258920" y="260280"/>
            <a:ext cx="2636640" cy="3346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:\SSDData\Descktop\Новая папка\image008.jpg"/>
          <p:cNvPicPr/>
          <p:nvPr/>
        </p:nvPicPr>
        <p:blipFill>
          <a:blip r:embed="rId4"/>
          <a:srcRect l="0" t="0" r="0" b="12366"/>
          <a:stretch/>
        </p:blipFill>
        <p:spPr>
          <a:xfrm>
            <a:off x="309600" y="2852640"/>
            <a:ext cx="2768400" cy="34624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3"/>
          <p:cNvSpPr/>
          <p:nvPr/>
        </p:nvSpPr>
        <p:spPr>
          <a:xfrm>
            <a:off x="4960800" y="115920"/>
            <a:ext cx="407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силий Андреевич Жуко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-76320" y="5761080"/>
            <a:ext cx="40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ерж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вриил Ром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:\SSDData\Descktop\Новая папка\18.jpg"/>
          <p:cNvPicPr/>
          <p:nvPr/>
        </p:nvPicPr>
        <p:blipFill>
          <a:blip r:embed="rId1"/>
          <a:stretch/>
        </p:blipFill>
        <p:spPr>
          <a:xfrm>
            <a:off x="324000" y="324000"/>
            <a:ext cx="4895640" cy="62928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4356000" y="260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бросанные судьбой по свету, друзья как бы соединились в лирическом мире Пушки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м он желал блага, радуясь за одних и огорчаясь невзгодам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SSDData\Descktop\Новая папка\speranskiy1.jpg"/>
          <p:cNvPicPr/>
          <p:nvPr/>
        </p:nvPicPr>
        <p:blipFill>
          <a:blip r:embed="rId1"/>
          <a:stretch/>
        </p:blipFill>
        <p:spPr>
          <a:xfrm>
            <a:off x="468360" y="333360"/>
            <a:ext cx="5371920" cy="6120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6084720" y="476280"/>
            <a:ext cx="2857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ранский Михаил Михайлович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государственный деятель, человек образованный и прогрессивный, предложил царю открыть в России Лицей как высшее учебное завед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4840" y="1844280"/>
            <a:ext cx="3240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арь Александ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писал указ об учреждении Лице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D:\SSDData\Descktop\Новая папка\alex1.jpg"/>
          <p:cNvPicPr/>
          <p:nvPr/>
        </p:nvPicPr>
        <p:blipFill>
          <a:blip r:embed="rId1"/>
          <a:srcRect l="0" t="0" r="18989" b="0"/>
          <a:stretch/>
        </p:blipFill>
        <p:spPr>
          <a:xfrm>
            <a:off x="3419640" y="233280"/>
            <a:ext cx="54687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цей в Царском Се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:\SSDData\Descktop\Новая папка\0_936bc_90f95cae_orig.jpg"/>
          <p:cNvPicPr/>
          <p:nvPr/>
        </p:nvPicPr>
        <p:blipFill>
          <a:blip r:embed="rId1"/>
          <a:stretch/>
        </p:blipFill>
        <p:spPr>
          <a:xfrm>
            <a:off x="1476360" y="766800"/>
            <a:ext cx="6127920" cy="46623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1992240" y="5430960"/>
            <a:ext cx="55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помните, когда возник лицей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царь для нас открыл чертог царицы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мы пришли. И встретил нас Куницын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силий Львович Пушкин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93880" y="558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ядя А.С. Пушкина, благодаря своим связям, устроил племянника  в Лицей, был на открытии Лице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D:\SSDData\Descktop\Новая папка\дядя.jpg"/>
          <p:cNvPicPr/>
          <p:nvPr/>
        </p:nvPicPr>
        <p:blipFill>
          <a:blip r:embed="rId1"/>
          <a:srcRect l="2026" t="0" r="1816" b="0"/>
          <a:stretch/>
        </p:blipFill>
        <p:spPr>
          <a:xfrm>
            <a:off x="744480" y="620640"/>
            <a:ext cx="763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68600" y="33300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ректор Лице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3200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иновский Василий Фед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D:\SSDData\Descktop\Новая папка\малиновский.jpg"/>
          <p:cNvPicPr/>
          <p:nvPr/>
        </p:nvPicPr>
        <p:blipFill>
          <a:blip r:embed="rId1"/>
          <a:stretch/>
        </p:blipFill>
        <p:spPr>
          <a:xfrm>
            <a:off x="324000" y="333360"/>
            <a:ext cx="42908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920" y="5013000"/>
            <a:ext cx="490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ницын Александр Петрович, любимый профессор лицеис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SSDData\Descktop\Новая папка\куницин.jpg"/>
          <p:cNvPicPr/>
          <p:nvPr/>
        </p:nvPicPr>
        <p:blipFill>
          <a:blip r:embed="rId1"/>
          <a:stretch/>
        </p:blipFill>
        <p:spPr>
          <a:xfrm>
            <a:off x="4716360" y="441360"/>
            <a:ext cx="3648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95280" y="3357720"/>
            <a:ext cx="68407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зья мои, прекрасен наш союз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как душа неразделим и вечен — Неколебим, свободен и беспеч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стался он под сенью дружных му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659640" y="907920"/>
            <a:ext cx="21146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19280" y="414000"/>
            <a:ext cx="244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тон Дельви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3840" y="4365360"/>
            <a:ext cx="75978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он Дельвиг наделен живым умом, воображением, поэтической душой, его стихи пелись по всей Ро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SSDData\Descktop\Новая папка\дельвигг.jpg"/>
          <p:cNvPicPr/>
          <p:nvPr/>
        </p:nvPicPr>
        <p:blipFill>
          <a:blip r:embed="rId1"/>
          <a:stretch/>
        </p:blipFill>
        <p:spPr>
          <a:xfrm>
            <a:off x="5940360" y="228600"/>
            <a:ext cx="3081240" cy="374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SSDData\Descktop\Новая папка\дельвиг.jpg"/>
          <p:cNvPicPr/>
          <p:nvPr/>
        </p:nvPicPr>
        <p:blipFill>
          <a:blip r:embed="rId2"/>
          <a:srcRect l="0" t="0" r="0" b="14698"/>
          <a:stretch/>
        </p:blipFill>
        <p:spPr>
          <a:xfrm>
            <a:off x="214200" y="228600"/>
            <a:ext cx="30211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45:15Z</dcterms:created>
  <dc:creator>Фрол</dc:creator>
  <dc:description/>
  <dc:language>en-US</dc:language>
  <cp:lastModifiedBy>Фрол</cp:lastModifiedBy>
  <dcterms:modified xsi:type="dcterms:W3CDTF">2012-10-22T18:56:57Z</dcterms:modified>
  <cp:revision>8</cp:revision>
  <dc:subject/>
  <dc:title>Лицейский период в жизни  А. С. Пушкина</dc:title>
</cp:coreProperties>
</file>