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E267-0D36-4D7C-98FC-B6140B6124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аметр 3476 к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са Луны в 81 раз меньше массы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нее расстояние до Земли 3844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а поверхности от –170 лунной ночью до +160 лунным днем, но лунный грунт плохо проводит тепло и поэтому уже на глубине около 10 см эти колебания выравниваю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тки длятся 708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ледняя экспедиция на Луне побывала в 1972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еориты перестали бомбордировать Луну примерно 4 миллиарда лет наз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движется по орбите против часовой стрелки со скоростью 1 км/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сама не светится, а лишь отражает солнечные луч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ные моря носят такие названия (Ясности, Нежности и пр.) поскольку люди считали, что Луна управляет погодой и чувств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емля всегда видна над Лунным горизон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в 400 раз меньше Солнца, но примерно в 400 раз ближе к Земле. Поэтому видимые размеры Солнца и Луны примерно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южном полюсе Луны мог сохраниться ле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105-0B30-4556-BBB9-7150F523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086-0A92-4D0E-8F27-5E99A01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12D-8C51-4D2B-B0C9-D8F81E96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FD8-F8DE-42F8-BE89-C8314A7D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A39-E3BB-4E62-8BED-007CCBBD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C3E-C526-4785-81EE-8BC2C4A7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2B8-8750-4FFB-8147-AE5FB38C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E26-CEB2-4FF5-947D-87BC85AE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46B-3A77-4D7D-9697-4572463F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419-B1CB-4A89-9E77-F3073BC5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F7C-AE14-4CF4-8C43-ED95CAC5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806-3864-4182-8672-66BE8295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2A9A-C5AF-4707-8B5E-D1BA02761D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144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Tahoma"/>
              </a:rPr>
              <a:t>ЛУ</a:t>
            </a:r>
            <a:r>
              <a:rPr b="1" lang="ru-RU" sz="8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638520"/>
            <a:ext cx="4476600" cy="321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cc"/>
                </a:solidFill>
                <a:latin typeface="Times New Roman"/>
              </a:rPr>
              <a:t>Елена Ленн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304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16765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162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34340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661440" cy="297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52480" y="152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4335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228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9528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17524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167652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корой находится мантия и малое ядро. Его радиус около 340 км, а масса примерно 2 </a:t>
            </a: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массы всей  Луны. Мантия Луны не расплавлена полностью, как мантия Земли. Поэтому на Луне нет вулк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2342880" cy="3810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843120" cy="1371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 flipV="1">
            <a:off x="3809880" y="2971440"/>
            <a:ext cx="182880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56840" y="2743200"/>
            <a:ext cx="6858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505320"/>
            <a:ext cx="297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выглядит структура Земли. Желтое - это раплавленная магма внутри земного шара. Иногда она вырывается на поверхность. Люди называют это извержением вулкан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28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щина лунной коры около 60 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876560" y="838080"/>
            <a:ext cx="114300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98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638680" y="1981080"/>
            <a:ext cx="3352680" cy="3047760"/>
            <a:chOff x="5638680" y="1981080"/>
            <a:chExt cx="3352680" cy="3047760"/>
          </a:xfrm>
        </p:grpSpPr>
        <p:sp>
          <p:nvSpPr>
            <p:cNvPr id="106" name=""/>
            <p:cNvSpPr/>
            <p:nvPr/>
          </p:nvSpPr>
          <p:spPr>
            <a:xfrm>
              <a:off x="5638680" y="5028840"/>
              <a:ext cx="3352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991360" y="1981080"/>
              <a:ext cx="0" cy="3047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01840" y="1981080"/>
              <a:ext cx="389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137160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Verdana"/>
              </a:rPr>
              <a:t>И</a:t>
            </a:r>
            <a:r>
              <a:rPr b="1" lang="ru-RU" sz="6000" spc="-1" strike="noStrike">
                <a:solidFill>
                  <a:srgbClr val="006600"/>
                </a:solidFill>
                <a:latin typeface="Verdana"/>
              </a:rPr>
              <a:t>с</a:t>
            </a:r>
            <a:r>
              <a:rPr b="1" lang="ru-RU" sz="6000" spc="-1" strike="noStrike">
                <a:solidFill>
                  <a:srgbClr val="33cc33"/>
                </a:solidFill>
                <a:latin typeface="Verdana"/>
              </a:rPr>
              <a:t>с</a:t>
            </a: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ле</a:t>
            </a:r>
            <a:r>
              <a:rPr b="1" lang="ru-RU" sz="6000" spc="-1" strike="noStrike">
                <a:solidFill>
                  <a:srgbClr val="006600"/>
                </a:solidFill>
                <a:latin typeface="Verdana"/>
              </a:rPr>
              <a:t>до</a:t>
            </a:r>
            <a:r>
              <a:rPr b="1" lang="ru-RU" sz="6000" spc="-1" strike="noStrike">
                <a:solidFill>
                  <a:srgbClr val="33cc33"/>
                </a:solidFill>
                <a:latin typeface="Verdana"/>
              </a:rPr>
              <a:t>ва</a:t>
            </a:r>
            <a:r>
              <a:rPr b="1" lang="ru-RU" sz="6000" spc="-1" strike="noStrike">
                <a:solidFill>
                  <a:srgbClr val="006600"/>
                </a:solidFill>
                <a:latin typeface="Verdana"/>
              </a:rPr>
              <a:t>ни</a:t>
            </a:r>
            <a:r>
              <a:rPr b="1" lang="ru-RU" sz="6000" spc="-1" strike="noStrike">
                <a:solidFill>
                  <a:srgbClr val="33cc33"/>
                </a:solidFill>
                <a:latin typeface="Verdana"/>
              </a:rPr>
              <a:t>я</a:t>
            </a: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6000" spc="-1" strike="noStrike">
                <a:solidFill>
                  <a:srgbClr val="006600"/>
                </a:solidFill>
                <a:latin typeface="Verdana"/>
              </a:rPr>
              <a:t>Лу</a:t>
            </a: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248520" cy="5181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22860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смический аппарат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Луна-3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был запущен 4 октября 1959 год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обогнул Луну и прошёл на расстоянии 6200 км от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её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сделав снимки почти половины ее поверхности и, что особено важно – снимки темной половины Лу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юди давно мечтали побывать на Луне, но впервые смогли сделать это тольк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0 июля 1969 год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181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фотография одного из первых людей на Луне – американского астронав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ила Армстрон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тронавты прилунились в Море Спокойствия, где установили разные приборы и взяли первые пробы грун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038480" y="228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Луне нет воздуха и поэтому астронавтам, высадившимся на Луну нужно было одевать специальные скафанд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60020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льшой мешок сзади – это аппарат для дыхания с запасом воздух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4100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голове – шлем с темным забралом, чтобы защитить глаза от яркого солнечного св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87920" y="2971800"/>
            <a:ext cx="3556080" cy="3886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380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7150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9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191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Луне побывало несколько групп ученых, которые занимались различными исследованиями, брали пробы грунта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657600" cy="3608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52280"/>
            <a:ext cx="8915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ьно для перемещения по Луне ученые придумали специальные маши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уноход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419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5410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Луне нет атмосферы и поэтому никогда не бывает ветра. А это значит, что след, оставленный луноходом так и останется там навсег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274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49528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Луне нет такого притяжения как на Земле и поэтому астронавты, даже не смотря на тяжелые скафандры, могли как следует напрыгаться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ведь на Земле в этих скафандрах космонавты едва могли перемещаться. Еще бы, ведь на Земле все предметы в целых 6 раз тяжелее, чем на Лу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18184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54100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кольку на Луне нет воздуха, даже лунным днем когда на нее ярко светит солнце, небо остается черным и можно отлично рассмотреть звез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48640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28800" y="304920"/>
            <a:ext cx="73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 того, как  корабль «Апполон» доставил на Землю образцы лунного грунта ученые точно не знали как и когда образовалась Луна. У них было несколько разных версий. Но после изучения лунных образцов появилась главная версия о том, что очень-очень давно Земля столкнулась с чем-то очень большим, размером с Марс или даже немного больше. Луна образовалась из выбитых от столкновения вещест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0"/>
            <a:ext cx="2361960" cy="3949200"/>
            <a:chOff x="0" y="0"/>
            <a:chExt cx="2361960" cy="3949200"/>
          </a:xfrm>
        </p:grpSpPr>
        <p:graphicFrame>
          <p:nvGraphicFramePr>
            <p:cNvPr id="133" name=""/>
            <p:cNvGraphicFramePr/>
            <p:nvPr/>
          </p:nvGraphicFramePr>
          <p:xfrm>
            <a:off x="307800" y="0"/>
            <a:ext cx="1617120" cy="345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800" y="0"/>
                      <a:ext cx="1617120" cy="34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>
              <a:off x="0" y="3490200"/>
              <a:ext cx="2361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Космический модуль «Апполон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29000" y="3154320"/>
            <a:ext cx="3886200" cy="3705480"/>
            <a:chOff x="3429000" y="3154320"/>
            <a:chExt cx="3886200" cy="3705480"/>
          </a:xfrm>
        </p:grpSpPr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3429000" y="3154320"/>
              <a:ext cx="3886200" cy="33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505320" y="6583320"/>
              <a:ext cx="373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Образец лунного грунт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снимок первог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самостоятельно передвигающегося робота с дистанционным управлением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называлс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Луноход-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7 ноября 1970 год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его доставила на Луну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советска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жпланетная станция Луна-17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Луноход-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утешествовал п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лунном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орю Дождей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в течении 11 месяце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этой фотографии, сделанной в декабре 1972 года  готовится к запуску последняя лунная экспедиция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поллон 17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С тех пор люди ни разу не были на Лу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8204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1522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уна во все времена вдохновляла людей. Ее писали художники на картинах, ей писали стихи поэты. Может быть потому, что она была неизведанным таинственным миро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733920" cy="2862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90720" y="4114800"/>
            <a:ext cx="25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унная ночь в Крыму И.К. Айвазо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6095880"/>
            <a:ext cx="25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Ночь на Днепре»                     А. Куиндж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343400" y="2666880"/>
            <a:ext cx="45338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1522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зможно. Но не смотря на то, что мы знаем про Луну гораздо больше, чем наши предки, Луна все равно притягивает нас к себе, заставляя  вглядываться в телескопы, бинокли и просто в небо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7724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42670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3384720"/>
            <a:ext cx="4343400" cy="347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97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81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876920" cy="471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4100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7242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57200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971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40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9528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686800" cy="3475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1600200"/>
            <a:ext cx="251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ближается метеор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772400" y="220968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411480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н сталкивается с поверхностью и образует столп пы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324480" y="3352320"/>
            <a:ext cx="9144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133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ле того, как пыль осядет, становится видно, что на поверхности образовалась вмятина, а в ее центре -  возвышен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56386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кольку в то время на Луне еще были вулканы, то потоки лавы во время извержений заполнили кратеры и они стали менее глубо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76760" cy="4927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380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6:33:26Z</dcterms:created>
  <dc:creator>wl</dc:creator>
  <dc:description/>
  <dc:language>en-US</dc:language>
  <cp:lastModifiedBy>Сергей</cp:lastModifiedBy>
  <dcterms:modified xsi:type="dcterms:W3CDTF">2008-07-25T05:25:14Z</dcterms:modified>
  <cp:revision>27</cp:revision>
  <dc:subject/>
  <dc:title>PowerPoint Presentation</dc:title>
</cp:coreProperties>
</file>