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E607-6895-4EBB-83E8-31A0676105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аметр 3476 к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са Луны в 81 раз меньше массы Зем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нее расстояние до Земли 3844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ература поверхности от –170 лунной ночью до +160 лунным днем, но лунный грунт плохо проводит тепло и поэтому уже на глубине около 10 см эти колебания выравниваются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тки длятся 708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ледняя экспедиция на Луне побывала в 1972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еориты перестали бомбордировать Луну примерно 4 миллиарда лет наза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движется по орбите против часовой стрелки со скоростью 1 км/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сама не светится, а лишь отражает солнечные луч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ные моря носят такие названия (Ясности, Нежности и пр.) поскольку люди считали, что Луна управляет погодой и чувств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емля всегда видна над Лунным горизонт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в 400 раз меньше Солнца, но примерно в 400 раз ближе к Земле. Поэтому видимые размеры Солнца и Луны примерно одинако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южном полюсе Луны мог сохраниться ле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013-F835-4F71-B01F-21CDF8B7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106-FE0A-4DE4-B529-003DCD5A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573-F8FF-4BB0-81B9-A8890D3B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580-887B-4349-8848-0416B8C8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8EB-F6F4-4AE3-ABC3-B88659C3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C39-033A-4777-8D47-6EBE3D24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108-CDFB-4F28-B73C-211B8C3C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F753-25DE-42BA-9C81-7256B3F1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598-4507-4857-A307-6169DCA3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E76-A476-4B2F-A298-57217A82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BB3-7F4E-4CDC-BDF8-186056CF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F13F-59DF-41F4-9C73-DA932C3B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ABEC-6075-4FD7-AAE1-4DE9C09D74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14400"/>
            <a:ext cx="55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6600"/>
                </a:solidFill>
                <a:latin typeface="Tahoma"/>
              </a:rPr>
              <a:t>ЛУ</a:t>
            </a:r>
            <a:r>
              <a:rPr b="1" lang="ru-RU" sz="8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638520"/>
            <a:ext cx="4476600" cy="321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3048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cc"/>
                </a:solidFill>
                <a:latin typeface="Times New Roman"/>
              </a:rPr>
              <a:t>Елена Ленн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4952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тя Луна и вращается вокруг своей собственной оси, но делает это очень медленно - 27.3 суток. Почти за это же время она оборачивается вокруг Земли. И поскольку направления вращения совпадают, то получается так, что к Земле она всегда повернута только одной стороной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304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темная, никогда не видимая с Земли сторона Лу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167652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ди впервые увидели темную сторону Луны только в 1959 году, когда станция «Луна 3» сделала ее сним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162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4343400"/>
            <a:ext cx="9144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огда мы можем наблюдать явление, которое называется лунное затмение. Оно происходит тогда, когда Солнце, Земля и Луна оказываются на одной прямой и Земля закрывает Луну от Солнца своей тень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тмение может быть не только полным, но и частичным. В этом случае тень Земли попадает не всю Луну, а только на ее кусочек. Лунное затмение может продолжаться до 1 час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6661440" cy="2977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52480" y="152280"/>
            <a:ext cx="54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Лунные затм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4335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62120" y="228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азы Лу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9528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ты будешь внимательно наблюдать за Луной в течении месяца, то заметишь, что Луна всегда видна по-разному – то тоненький серп, то круглый блин. Иногда ее «концы» направлены в одну сторону, а иногда в другую. Эти изменения называютс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азами Лун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этой фотографии очень хорошо видна Луна в новолуни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 тут - полнолу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95280" y="175248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167652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 корой находится мантия и малое ядро. Его радиус около 340 км, а масса примерно 2 </a:t>
            </a: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%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т массы всей  Луны. Мантия Луны не расплавлена полностью, как мантия Земли. Поэтому на Луне нет вулкан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1066680"/>
            <a:ext cx="2342880" cy="3810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843120" cy="1371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 flipV="1">
            <a:off x="3809880" y="2971440"/>
            <a:ext cx="182880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56840" y="2743200"/>
            <a:ext cx="6858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505320"/>
            <a:ext cx="297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 выглядит структура Земли. Желтое - это раплавленная магма внутри земного шара. Иногда она вырывается на поверхность. Люди называют это извержением вулкан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228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лщина лунной коры около 60 к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876560" y="838080"/>
            <a:ext cx="1143000" cy="1067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уктура Лу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98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638680" y="1981080"/>
            <a:ext cx="3352680" cy="3047760"/>
            <a:chOff x="5638680" y="1981080"/>
            <a:chExt cx="3352680" cy="3047760"/>
          </a:xfrm>
        </p:grpSpPr>
        <p:sp>
          <p:nvSpPr>
            <p:cNvPr id="106" name=""/>
            <p:cNvSpPr/>
            <p:nvPr/>
          </p:nvSpPr>
          <p:spPr>
            <a:xfrm>
              <a:off x="5638680" y="5028840"/>
              <a:ext cx="3352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991360" y="1981080"/>
              <a:ext cx="0" cy="3047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01840" y="1981080"/>
              <a:ext cx="389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95280" y="137160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33"/>
                </a:solidFill>
                <a:latin typeface="Verdana"/>
              </a:rPr>
              <a:t>И</a:t>
            </a:r>
            <a:r>
              <a:rPr b="1" lang="ru-RU" sz="6000" spc="-1" strike="noStrike">
                <a:solidFill>
                  <a:srgbClr val="006600"/>
                </a:solidFill>
                <a:latin typeface="Verdana"/>
              </a:rPr>
              <a:t>с</a:t>
            </a:r>
            <a:r>
              <a:rPr b="1" lang="ru-RU" sz="6000" spc="-1" strike="noStrike">
                <a:solidFill>
                  <a:srgbClr val="33cc33"/>
                </a:solidFill>
                <a:latin typeface="Verdana"/>
              </a:rPr>
              <a:t>с</a:t>
            </a:r>
            <a:r>
              <a:rPr b="1" lang="ru-RU" sz="6000" spc="-1" strike="noStrike">
                <a:solidFill>
                  <a:srgbClr val="000000"/>
                </a:solidFill>
                <a:latin typeface="Verdana"/>
              </a:rPr>
              <a:t>ле</a:t>
            </a:r>
            <a:r>
              <a:rPr b="1" lang="ru-RU" sz="6000" spc="-1" strike="noStrike">
                <a:solidFill>
                  <a:srgbClr val="006600"/>
                </a:solidFill>
                <a:latin typeface="Verdana"/>
              </a:rPr>
              <a:t>до</a:t>
            </a:r>
            <a:r>
              <a:rPr b="1" lang="ru-RU" sz="6000" spc="-1" strike="noStrike">
                <a:solidFill>
                  <a:srgbClr val="33cc33"/>
                </a:solidFill>
                <a:latin typeface="Verdana"/>
              </a:rPr>
              <a:t>ва</a:t>
            </a:r>
            <a:r>
              <a:rPr b="1" lang="ru-RU" sz="6000" spc="-1" strike="noStrike">
                <a:solidFill>
                  <a:srgbClr val="006600"/>
                </a:solidFill>
                <a:latin typeface="Verdana"/>
              </a:rPr>
              <a:t>ни</a:t>
            </a:r>
            <a:r>
              <a:rPr b="1" lang="ru-RU" sz="6000" spc="-1" strike="noStrike">
                <a:solidFill>
                  <a:srgbClr val="33cc33"/>
                </a:solidFill>
                <a:latin typeface="Verdana"/>
              </a:rPr>
              <a:t>я</a:t>
            </a: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6000" spc="-1" strike="noStrike">
                <a:solidFill>
                  <a:srgbClr val="006600"/>
                </a:solidFill>
                <a:latin typeface="Verdana"/>
              </a:rPr>
              <a:t>Лу</a:t>
            </a:r>
            <a:r>
              <a:rPr b="1" lang="ru-RU" sz="6000" spc="-1" strike="noStrike">
                <a:solidFill>
                  <a:srgbClr val="000000"/>
                </a:solidFill>
                <a:latin typeface="Verdana"/>
              </a:rPr>
              <a:t>н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248520" cy="5181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" y="228600"/>
            <a:ext cx="876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смический аппарат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Луна-3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был запущен 4 октября 1959 год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обогнул Луну и прошёл на расстоянии 6200 км от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её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сделав снимки почти половины ее поверхности и, что особено важно – снимки темной половины Лун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юди давно мечтали побывать на Луне, но впервые смогли сделать это тольк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20 июля 1969 год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181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о фотография одного из первых людей на Луне – американского астронавт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ила Армстрон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019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стронавты прилунились в Море Спокойствия, где установили разные приборы и взяли первые пробы грун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562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038480" y="2286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Луне нет воздуха и поэтому астронавтам, высадившимся на Луну нужно было одевать специальные скафандр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60020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ольшой мешок сзади – это аппарат для дыхания с запасом воздух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54100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голове – шлем с темным забралом, чтобы защитить глаза от яркого солнечного све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587920" y="2971800"/>
            <a:ext cx="3556080" cy="3886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3808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на это единственный спутник нашей планет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7150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на вращается вокруг Земли по</a:t>
            </a:r>
            <a:r>
              <a:rPr b="1" lang="en-IE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воей собственной </a:t>
            </a:r>
            <a:r>
              <a:rPr b="1" lang="ru-RU" sz="900" spc="-1" strike="noStrike">
                <a:solidFill>
                  <a:srgbClr val="ffffff"/>
                </a:solidFill>
                <a:latin typeface="Verdana"/>
              </a:rPr>
              <a:t>(эллипсовидной)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орбите. Полный круг вокруг Земли Луна делает за 29,5 дней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1911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Луне побывало несколько групп ученых, которые занимались различными исследованиями, брали пробы грунта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3657600" cy="3608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52280"/>
            <a:ext cx="8915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циально для перемещения по Луне ученые придумали специальные машин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уноход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4419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5410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Луне нет атмосферы и поэтому никогда не бывает ветра. А это значит, что след, оставленный луноходом так и останется там навсег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2740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495288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Луне нет такого притяжения как на Земле и поэтому астронавты, даже не смотря на тяжелые скафандры, могли как следует напрыгаться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ведь на Земле в этих скафандрах космонавты едва могли перемещаться. Еще бы, ведь на Земле все предметы в целых 6 раз тяжелее, чем на Лун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18184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54100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кольку на Луне нет воздуха, даже лунным днем когда на нее ярко светит солнце, небо остается черным и можно отлично рассмотреть звезд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48640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28800" y="304920"/>
            <a:ext cx="731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 того, как  корабль «Апполон» доставил на Землю образцы лунного грунта ученые точно не знали как и когда образовалась Луна. У них было несколько разных версий. Но после изучения лунных образцов появилась главная версия о том, что очень-очень давно Земля столкнулась с чем-то очень большим, размером с Марс или даже немного больше. Луна образовалась из выбитых от столкновения вещест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0"/>
            <a:ext cx="2361960" cy="3949200"/>
            <a:chOff x="0" y="0"/>
            <a:chExt cx="2361960" cy="3949200"/>
          </a:xfrm>
        </p:grpSpPr>
        <p:graphicFrame>
          <p:nvGraphicFramePr>
            <p:cNvPr id="133" name=""/>
            <p:cNvGraphicFramePr/>
            <p:nvPr/>
          </p:nvGraphicFramePr>
          <p:xfrm>
            <a:off x="307800" y="0"/>
            <a:ext cx="1617120" cy="3457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7800" y="0"/>
                      <a:ext cx="1617120" cy="34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"/>
            <p:cNvSpPr/>
            <p:nvPr/>
          </p:nvSpPr>
          <p:spPr>
            <a:xfrm>
              <a:off x="0" y="3490200"/>
              <a:ext cx="2361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Verdana"/>
                </a:rPr>
                <a:t>Космический модуль «Апполон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29000" y="3154320"/>
            <a:ext cx="3886200" cy="3705480"/>
            <a:chOff x="3429000" y="3154320"/>
            <a:chExt cx="3886200" cy="3705480"/>
          </a:xfrm>
        </p:grpSpPr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3429000" y="3154320"/>
              <a:ext cx="3886200" cy="33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505320" y="6583320"/>
              <a:ext cx="373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Verdana"/>
                </a:rPr>
                <a:t>Образец лунного грунт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снимок первог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самостоятельно передвигающегося робота с дистанционным управлением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 называлс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Луноход-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7 ноября 1970 год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его доставила на Луну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советска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жпланетная станция Луна-17.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Луноход-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утешествовал п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лунному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морю Дождей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в течении 11 месяце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2484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этой фотографии, сделанной в декабре 1972 года  готовится к запуску последняя лунная экспедиция 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поллон 17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С тех пор люди ни разу не были на Лун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78204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1522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уна во все времена вдохновляла людей. Ее писали художники на картинах, ей писали стихи поэты. Может быть потому, что она была неизведанным таинственным миром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3733920" cy="2862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90720" y="4114800"/>
            <a:ext cx="259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унная ночь в Крыму И.К. Айвазов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6095880"/>
            <a:ext cx="259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Ночь на Днепре»                     А. Куиндж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343400" y="2666880"/>
            <a:ext cx="453384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15228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зможно. Но не смотря на то, что мы знаем про Луну гораздо больше, чем наши предки, Луна все равно притягивает нас к себе, заставляя  вглядываться в телескопы, бинокли и просто в небо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77240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42670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название «Луна» пришло к нам от древних римля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ревние греки называли Луну Селен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3384720"/>
            <a:ext cx="4343400" cy="3473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971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812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876920" cy="471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880" y="54864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аметр Луны почти в 4 раза меньше диаметра Земл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4100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смотреть на Луну с Земли, то она выглядит небольшим пятнистым шаром, но в телескоп, или даже в хороший бинокль, видно, что это не так – на Луне есть горы и много кратер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472428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457200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ного лет назад ученый Галилео Галилей назвал их морями. Теперь мы уже знаем, что никаких морей на луне нет, но по традиции кратеры сохранили свои названия. У многих из них необычны для Земли – Море Изобилия, Море Холода, Море Дождей, Море Ясности, Море Пар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ратеры поменьше носят имена знаменитых людей – Тихо Браге, Коперника, Птоломея, Юрия Гагари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2971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глубления в поверхности Луны называютс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атерам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40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5410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это Лунные горы. Их названия вполне земные – Кавказ, Алтай, Карпаты, Альпы, Апенины, Перинеи, Тенерифе. Высота гор может доходить до 8 км, но обычно она составляет 3-5 к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495288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8686800" cy="3475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228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мотри, как, по предположению ученых много лет назад образовались лунные кратеры. В наши времена новые кратеры уже не образуются, потому что в космос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ти не осталось крупных метеори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1600200"/>
            <a:ext cx="2514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риближается метеори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772400" y="2209680"/>
            <a:ext cx="763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411480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Он сталкивается с поверхностью и образует столп пыл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6324480" y="3352320"/>
            <a:ext cx="91440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1337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сле того, как пыль осядет, становится видно, что на поверхности образовалась вмятина, а в ее центре -  возвышен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56386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скольку в то время на Луне еще были вулканы, то потоки лавы во время извержений заполнили кратеры и они стали менее глубоки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476760" cy="4927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380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небольшой осколок одного из метеорит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6:33:26Z</dcterms:created>
  <dc:creator>wl</dc:creator>
  <dc:description/>
  <dc:language>en-US</dc:language>
  <cp:lastModifiedBy>Сергей</cp:lastModifiedBy>
  <dcterms:modified xsi:type="dcterms:W3CDTF">2008-07-25T05:25:14Z</dcterms:modified>
  <cp:revision>27</cp:revision>
  <dc:subject/>
  <dc:title>PowerPoint Presentation</dc:title>
</cp:coreProperties>
</file>