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C2F-C04E-4691-9E90-E27554B7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E71-DA19-481D-AC41-1EAC24B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1B6-4C21-4295-BA36-1AA01A0E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320-ECF4-4EAA-8291-654FC243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E36-18D4-4B05-AB92-6B6EE6E8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C59-CC21-4C51-B83C-23B9A04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9AC-1907-47C9-8255-2A7AD148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2E7-5739-4C56-AF0C-389149A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2B0-B433-49F7-89D4-0092FC4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D86-6279-43A2-95DE-3526DBE7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EE3-5D4B-4E80-BD40-4303D1B3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C2D-5398-4A26-8E32-ED5654B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04F-E3DB-48BD-883C-FB2B6DC477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Марина.jpg"/>
          <p:cNvPicPr/>
          <p:nvPr/>
        </p:nvPicPr>
        <p:blipFill>
          <a:blip r:embed="rId1"/>
          <a:stretch/>
        </p:blipFill>
        <p:spPr>
          <a:xfrm>
            <a:off x="3132000" y="333360"/>
            <a:ext cx="2487600" cy="2735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matem2.jpg"/>
          <p:cNvPicPr/>
          <p:nvPr/>
        </p:nvPicPr>
        <p:blipFill>
          <a:blip r:embed="rId2"/>
          <a:stretch/>
        </p:blipFill>
        <p:spPr>
          <a:xfrm>
            <a:off x="5781600" y="0"/>
            <a:ext cx="3362400" cy="33624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matem3.jpg"/>
          <p:cNvPicPr/>
          <p:nvPr/>
        </p:nvPicPr>
        <p:blipFill>
          <a:blip r:embed="rId3"/>
          <a:stretch/>
        </p:blipFill>
        <p:spPr>
          <a:xfrm>
            <a:off x="755640" y="260280"/>
            <a:ext cx="2197080" cy="2882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916280" y="3141720"/>
            <a:ext cx="487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ПОЗДРАВЛЯЕМ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571760" y="3933720"/>
            <a:ext cx="571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З В Е Р Е В У    М А Р И Н У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призёра муниципального т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Всероссийской олимпиа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школьников по математик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Calibri"/>
              </a:rPr>
              <a:t>Так держать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12:29:11Z</dcterms:created>
  <dc:creator>Ольга</dc:creator>
  <dc:description/>
  <dc:language>en-US</dc:language>
  <cp:lastModifiedBy>Ольга</cp:lastModifiedBy>
  <dcterms:modified xsi:type="dcterms:W3CDTF">2012-12-12T12:44:15Z</dcterms:modified>
  <cp:revision>2</cp:revision>
  <dc:subject/>
  <dc:title>Слайд 1</dc:title>
</cp:coreProperties>
</file>