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430-F870-4B75-B51C-CEE06FF8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3AB-4A7F-4BD4-8736-BDCAF344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7A5-02C9-427B-87D8-AB199786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C7B-4162-44E4-A2EF-E3E7E635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8F6-A107-4D15-B346-833AA25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F59-4908-42EB-A4DE-0CC60067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FB4-CAE9-4690-973D-CA0F7A2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FBF-ACBE-436A-8E9C-F0F5D6E9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C34-7BD4-4652-9A51-0D87B75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625-CDAA-41C7-8164-37F5D7D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970-3A80-4454-87D6-3C89F90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4DC-79E4-488C-AC8B-FDEB6DD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BC4E-4ECD-42DC-A35D-25FE59BCF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Марина.jpg"/>
          <p:cNvPicPr/>
          <p:nvPr/>
        </p:nvPicPr>
        <p:blipFill>
          <a:blip r:embed="rId1"/>
          <a:stretch/>
        </p:blipFill>
        <p:spPr>
          <a:xfrm>
            <a:off x="3132000" y="333360"/>
            <a:ext cx="2487600" cy="2735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matem2.jpg"/>
          <p:cNvPicPr/>
          <p:nvPr/>
        </p:nvPicPr>
        <p:blipFill>
          <a:blip r:embed="rId2"/>
          <a:stretch/>
        </p:blipFill>
        <p:spPr>
          <a:xfrm>
            <a:off x="5781600" y="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matem3.jpg"/>
          <p:cNvPicPr/>
          <p:nvPr/>
        </p:nvPicPr>
        <p:blipFill>
          <a:blip r:embed="rId3"/>
          <a:stretch/>
        </p:blipFill>
        <p:spPr>
          <a:xfrm>
            <a:off x="755640" y="260280"/>
            <a:ext cx="2197080" cy="2882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916280" y="3141720"/>
            <a:ext cx="487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ОЗДРАВЛЯЕМ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571760" y="3933720"/>
            <a:ext cx="571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З В Е Р Е В У    М А Р И Н У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призёра муниципального т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Всероссийской олимпиа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школьников по математи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Так держать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2:29:11Z</dcterms:created>
  <dc:creator>Ольга</dc:creator>
  <dc:description/>
  <dc:language>en-US</dc:language>
  <cp:lastModifiedBy>Ольга</cp:lastModifiedBy>
  <dcterms:modified xsi:type="dcterms:W3CDTF">2012-12-12T12:44:15Z</dcterms:modified>
  <cp:revision>2</cp:revision>
  <dc:subject/>
  <dc:title>Слайд 1</dc:title>
</cp:coreProperties>
</file>