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715-9A0C-4F7F-BD68-C4D72FD1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696-F9E5-43E7-9B30-F07D31A4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5A1-7215-4EC3-857F-D9F02707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CF8-6B1D-4055-AFC4-47EA256C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EE8-1221-4100-AF3C-F43709E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F60-A0BC-4A90-A3B6-40F88688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CB8-999F-462C-8356-7E891C32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C96-291B-4845-8A41-C3E2580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574-F81D-41B6-89C9-B046CCC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CE8-07F8-4514-AD40-58B7879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0A4-0770-4613-A8DB-0CB7D54F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878-74DF-4070-959A-DC46D2A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0026-7177-4730-81C8-B4B2546D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4000" cy="1800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3 не кушу,алуны ныгы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05200">
            <a:off x="5795640" y="2276280"/>
            <a:ext cx="1201680" cy="1247760"/>
          </a:xfrm>
          <a:custGeom>
            <a:avLst/>
            <a:gdLst>
              <a:gd name="textAreaLeft" fmla="*/ 495000 w 1201680"/>
              <a:gd name="textAreaRight" fmla="*/ 706680 w 1201680"/>
              <a:gd name="textAreaTop" fmla="*/ 514080 h 1247760"/>
              <a:gd name="textAreaBottom" fmla="*/ 7336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2637000"/>
            <a:ext cx="822960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Хәерле көн барыгызга да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2005200">
            <a:off x="7451280" y="5444640"/>
            <a:ext cx="1201680" cy="1247760"/>
          </a:xfrm>
          <a:custGeom>
            <a:avLst/>
            <a:gdLst>
              <a:gd name="textAreaLeft" fmla="*/ 495000 w 1201680"/>
              <a:gd name="textAreaRight" fmla="*/ 706680 w 1201680"/>
              <a:gd name="textAreaTop" fmla="*/ 514080 h 1247760"/>
              <a:gd name="textAreaBottom" fmla="*/ 7336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05200">
            <a:off x="539280" y="5609880"/>
            <a:ext cx="1201680" cy="1247760"/>
          </a:xfrm>
          <a:custGeom>
            <a:avLst/>
            <a:gdLst>
              <a:gd name="textAreaLeft" fmla="*/ 495000 w 1201680"/>
              <a:gd name="textAreaRight" fmla="*/ 706680 w 1201680"/>
              <a:gd name="textAreaTop" fmla="*/ 514080 h 1247760"/>
              <a:gd name="textAreaBottom" fmla="*/ 7336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6 + 3            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6 + 2            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8 – 3              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7 – 3               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10 – 3           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5 + 3            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6 + 3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6 + 2 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8 – 3 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7 – 3              </a:t>
            </a: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10 – 3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5 + 3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268280"/>
            <a:ext cx="2160720" cy="792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11640" y="1197000"/>
            <a:ext cx="2160720" cy="936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2997360"/>
            <a:ext cx="2303280" cy="86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3933720"/>
            <a:ext cx="2376360" cy="16560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2997000"/>
            <a:ext cx="2089080" cy="1871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4652640"/>
            <a:ext cx="216072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692280"/>
            <a:ext cx="7201080" cy="42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улдырдыгыз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ез тырыш һә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ик акыллы икәнсе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11640" y="4724280"/>
            <a:ext cx="370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Times New Roman"/>
              </a:rPr>
              <a:t>Кыш баб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4941720"/>
            <a:ext cx="1224000" cy="100836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230040 h 1008360"/>
              <a:gd name="textAreaBottom" fmla="*/ 77832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341360"/>
            <a:ext cx="720720" cy="647640"/>
          </a:xfrm>
          <a:custGeom>
            <a:avLst/>
            <a:gdLst>
              <a:gd name="textAreaLeft" fmla="*/ 164520 w 720720"/>
              <a:gd name="textAreaRight" fmla="*/ 556200 w 72072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2000" y="378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54040" y="981000"/>
            <a:ext cx="68630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9930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1700280"/>
            <a:ext cx="8209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Times New Roman"/>
              </a:rPr>
              <a:t>Тырыштыгы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5229360"/>
            <a:ext cx="935280" cy="914400"/>
          </a:xfrm>
          <a:custGeom>
            <a:avLst/>
            <a:gdLst>
              <a:gd name="textAreaLeft" fmla="*/ 213480 w 935280"/>
              <a:gd name="textAreaRight" fmla="*/ 721800 w 935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83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1916280"/>
            <a:ext cx="7704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улдырдыгы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501336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141300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522936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24720" y="47628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47628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1773360"/>
          <a:ext cx="8229600" cy="20160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49440" y="414360"/>
            <a:ext cx="42433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640" y="1700280"/>
            <a:ext cx="806472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Times New Roman"/>
              </a:rPr>
              <a:t>Рәхмәт, дуслар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47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836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4292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03640" y="2637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2637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2781360"/>
            <a:ext cx="72072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2708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6370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2637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26:11Z</dcterms:created>
  <dc:creator>я</dc:creator>
  <dc:description/>
  <dc:language>en-US</dc:language>
  <cp:lastModifiedBy>User</cp:lastModifiedBy>
  <dcterms:modified xsi:type="dcterms:W3CDTF">2011-11-13T08:11:31Z</dcterms:modified>
  <cp:revision>18</cp:revision>
  <dc:subject/>
  <dc:title>3 не кушу,алуны ныгыту.Контроль эшкә әзерлек.</dc:title>
</cp:coreProperties>
</file>