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3EB-A99D-4E3E-9777-86C3660F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1E1-A74A-407B-8327-D2CDAFDB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1F4-6B01-40F7-884F-D0DD06B4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411-8487-4C21-A147-211C2E1E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B19-CC4E-47ED-929C-7EECB521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F0A-33D5-4155-A78A-294F574B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378-1C8F-46F3-A12D-6D924054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DA3-9DB4-499F-8B33-6BB7E44B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E9E-E6F2-4C41-A1D4-BFF81FCA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75A-D206-4DB6-816E-B353A1C8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FA0-3FBF-4B62-9564-DCABF3F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577-2764-4E87-B919-BD0F6A4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9428-B578-4DEB-9218-85AADAAA7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04000" cy="1800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3 не кушу,алуны ныгы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05200">
            <a:off x="5795640" y="2276280"/>
            <a:ext cx="1201680" cy="1247760"/>
          </a:xfrm>
          <a:custGeom>
            <a:avLst/>
            <a:gdLst>
              <a:gd name="textAreaLeft" fmla="*/ 495000 w 1201680"/>
              <a:gd name="textAreaRight" fmla="*/ 706680 w 1201680"/>
              <a:gd name="textAreaTop" fmla="*/ 514080 h 1247760"/>
              <a:gd name="textAreaBottom" fmla="*/ 7336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2637000"/>
            <a:ext cx="822960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Times New Roman"/>
              </a:rPr>
              <a:t>Хәерле көн барыгызга да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2005200">
            <a:off x="7451280" y="5444640"/>
            <a:ext cx="1201680" cy="1247760"/>
          </a:xfrm>
          <a:custGeom>
            <a:avLst/>
            <a:gdLst>
              <a:gd name="textAreaLeft" fmla="*/ 495000 w 1201680"/>
              <a:gd name="textAreaRight" fmla="*/ 706680 w 1201680"/>
              <a:gd name="textAreaTop" fmla="*/ 514080 h 1247760"/>
              <a:gd name="textAreaBottom" fmla="*/ 7336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05200">
            <a:off x="539280" y="5609880"/>
            <a:ext cx="1201680" cy="1247760"/>
          </a:xfrm>
          <a:custGeom>
            <a:avLst/>
            <a:gdLst>
              <a:gd name="textAreaLeft" fmla="*/ 495000 w 1201680"/>
              <a:gd name="textAreaRight" fmla="*/ 706680 w 1201680"/>
              <a:gd name="textAreaTop" fmla="*/ 514080 h 1247760"/>
              <a:gd name="textAreaBottom" fmla="*/ 73368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6 + 3            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6 + 2            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8 – 3              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7 – 3               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10 – 3           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5 + 3            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6 + 3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6 + 2 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8 – 3 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7 – 3              </a:t>
            </a: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10 – 3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5 + 3              </a:t>
            </a:r>
            <a:r>
              <a:rPr b="1" lang="tt-RU" sz="4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268280"/>
            <a:ext cx="2160720" cy="792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11640" y="1197000"/>
            <a:ext cx="2160720" cy="936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0360" y="2997360"/>
            <a:ext cx="2303280" cy="86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40360" y="3933720"/>
            <a:ext cx="2376360" cy="16560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2997000"/>
            <a:ext cx="2089080" cy="18716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4652640"/>
            <a:ext cx="216072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9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692280"/>
            <a:ext cx="7201080" cy="42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улдырдыгыз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ез тырыш һә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ик акыллы икәнсе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11640" y="4724280"/>
            <a:ext cx="370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Кыш баб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8000" y="4941720"/>
            <a:ext cx="1224000" cy="100836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230040 h 1008360"/>
              <a:gd name="textAreaBottom" fmla="*/ 77832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341360"/>
            <a:ext cx="720720" cy="647640"/>
          </a:xfrm>
          <a:custGeom>
            <a:avLst/>
            <a:gdLst>
              <a:gd name="textAreaLeft" fmla="*/ 164520 w 720720"/>
              <a:gd name="textAreaRight" fmla="*/ 556200 w 72072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2000" y="378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54040" y="981000"/>
            <a:ext cx="68630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99308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1700280"/>
            <a:ext cx="8209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Times New Roman"/>
              </a:rPr>
              <a:t>Тырыштыгы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5229360"/>
            <a:ext cx="935280" cy="914400"/>
          </a:xfrm>
          <a:custGeom>
            <a:avLst/>
            <a:gdLst>
              <a:gd name="textAreaLeft" fmla="*/ 213480 w 935280"/>
              <a:gd name="textAreaRight" fmla="*/ 721800 w 935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83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1916280"/>
            <a:ext cx="7704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Булдырдыгыз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501336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141300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522936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24720" y="47628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476280"/>
            <a:ext cx="914400" cy="914400"/>
          </a:xfrm>
          <a:prstGeom prst="sun">
            <a:avLst>
              <a:gd name="adj" fmla="val 25000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1773360"/>
          <a:ext cx="8229600" cy="20160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49440" y="414360"/>
            <a:ext cx="42433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9640" y="1700280"/>
            <a:ext cx="8064720" cy="20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Times New Roman"/>
              </a:rPr>
              <a:t>Рәхмәт, дуслар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47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0f5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83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4292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03640" y="263700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2637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24000" y="2781360"/>
            <a:ext cx="720720" cy="64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27082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26370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263700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5:26:11Z</dcterms:created>
  <dc:creator>я</dc:creator>
  <dc:description/>
  <dc:language>en-US</dc:language>
  <cp:lastModifiedBy>User</cp:lastModifiedBy>
  <dcterms:modified xsi:type="dcterms:W3CDTF">2011-11-13T08:11:31Z</dcterms:modified>
  <cp:revision>18</cp:revision>
  <dc:subject/>
  <dc:title>3 не кушу,алуны ныгыту.Контроль эшкә әзерлек.</dc:title>
</cp:coreProperties>
</file>