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980-F770-41A9-B1A7-C620F65B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917-6FEC-4909-9898-A7A67241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078-D05D-4882-AA8C-EDC747AF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BC6-C13A-44A9-A38A-E7585C43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086-F0BD-45B9-8EE5-4DC32D6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EC89-AD07-48B0-B8D7-7F7F0192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415-2356-4BCC-9DA3-9FBAD957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247-7926-4C1C-B613-21A00775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ADD-88A0-487C-87F6-8BAC0B0E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27A-6897-420E-9C0F-ECE675C5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E08-B10C-438C-B962-69D38955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E5A-14E1-48E4-8ED7-DB5D7E5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6D26-1C33-4FB2-B266-D1243DACAA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МБОУ Михневская СОШ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03280" y="126828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ые вопросы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364000" y="3141720"/>
            <a:ext cx="3456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ца 10 «А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нова Я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ронова Н. 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203640" y="6461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хнево, 201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484360" y="189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кторы произво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5508720" y="2997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68360" y="134136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851280" y="765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32400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0" y="1844640"/>
            <a:ext cx="12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68840" y="184464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у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234000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1763640" y="177336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ля (природные ресурс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385128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492360" y="1844640"/>
            <a:ext cx="13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пит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17"/>
          <p:cNvSpPr/>
          <p:nvPr/>
        </p:nvSpPr>
        <p:spPr>
          <a:xfrm>
            <a:off x="550872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4932360" y="177336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прени-мательская способ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8244000" y="1413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7020000" y="177336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ический прогресс, информ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21"/>
          <p:cNvSpPr/>
          <p:nvPr/>
        </p:nvSpPr>
        <p:spPr>
          <a:xfrm>
            <a:off x="324000" y="2565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0" y="314172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23"/>
          <p:cNvSpPr/>
          <p:nvPr/>
        </p:nvSpPr>
        <p:spPr>
          <a:xfrm>
            <a:off x="2268360" y="306864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1979640" y="35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25"/>
          <p:cNvSpPr/>
          <p:nvPr/>
        </p:nvSpPr>
        <p:spPr>
          <a:xfrm>
            <a:off x="3924360" y="2492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3348000" y="314172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цент, дивиде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5076720" y="350028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28"/>
          <p:cNvSpPr/>
          <p:nvPr/>
        </p:nvSpPr>
        <p:spPr>
          <a:xfrm>
            <a:off x="8244000" y="2997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7596360" y="35002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468360" y="134136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33"/>
          <p:cNvSpPr/>
          <p:nvPr/>
        </p:nvSpPr>
        <p:spPr>
          <a:xfrm>
            <a:off x="468360" y="134136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35"/>
          <p:cNvSpPr/>
          <p:nvPr/>
        </p:nvSpPr>
        <p:spPr>
          <a:xfrm>
            <a:off x="468360" y="4797360"/>
            <a:ext cx="80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36"/>
          <p:cNvSpPr/>
          <p:nvPr/>
        </p:nvSpPr>
        <p:spPr>
          <a:xfrm>
            <a:off x="2268360" y="306864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38"/>
          <p:cNvSpPr/>
          <p:nvPr/>
        </p:nvSpPr>
        <p:spPr>
          <a:xfrm>
            <a:off x="3851280" y="765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40"/>
          <p:cNvSpPr/>
          <p:nvPr/>
        </p:nvSpPr>
        <p:spPr>
          <a:xfrm rot="10800000">
            <a:off x="323640" y="422064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41"/>
          <p:cNvSpPr/>
          <p:nvPr/>
        </p:nvSpPr>
        <p:spPr>
          <a:xfrm rot="10800000">
            <a:off x="2268360" y="429228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2"/>
          <p:cNvSpPr/>
          <p:nvPr/>
        </p:nvSpPr>
        <p:spPr>
          <a:xfrm rot="10800000">
            <a:off x="3924000" y="4292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43"/>
          <p:cNvSpPr/>
          <p:nvPr/>
        </p:nvSpPr>
        <p:spPr>
          <a:xfrm rot="10800000">
            <a:off x="5508360" y="4292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44"/>
          <p:cNvSpPr/>
          <p:nvPr/>
        </p:nvSpPr>
        <p:spPr>
          <a:xfrm rot="10800000">
            <a:off x="8316720" y="436536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45"/>
          <p:cNvSpPr/>
          <p:nvPr/>
        </p:nvSpPr>
        <p:spPr>
          <a:xfrm rot="10800000">
            <a:off x="3924000" y="508428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284328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кторные дох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ловар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4" descr="6342635_w640_h640_dictionary"/>
          <p:cNvPicPr/>
          <p:nvPr/>
        </p:nvPicPr>
        <p:blipFill>
          <a:blip r:embed="rId1"/>
          <a:stretch/>
        </p:blipFill>
        <p:spPr>
          <a:xfrm>
            <a:off x="1403280" y="1557360"/>
            <a:ext cx="6408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1280" y="950400"/>
            <a:ext cx="82296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Факторы производства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ресурсы, необходимые для процесса производст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Факторные доходы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оходы факторов производства в процессе экономической деятельност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Земля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ресурс, используемый для производства сельскохозяйственной продукции, для строительства домов, городов, железных доро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Информация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дин из видов ресурсов, используемых в экономических процессах, получение которого требует затрат времени и других видов ресурсов, в связи с чем эти затраты следует включать в издержки производства и обращ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питал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вложенный в дело, работающий источник дохода в виде средств производст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едпринимательская способность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набор качеств, умений, способностей человека, позволяющих ему находить и использовать лучшее сочетание ресурсов для производства, продажи товаров, принимать разумные последовательные решения, создавать и применять новшества, идти на допустимый, оправданный рис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Технический процес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заимообусловленное, взаимостимулирующее развитие науки и тех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руд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осознанная, общепризнанная деятельность человека, требующая приложения усилий, осуществления работ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ивиденд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часть суммы чистой прибыли акционерного общества, распределяемая между акционерами в соответствии с количеством акц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Заработная плата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нежное вознаграждение за труд; часть стоимости созданного трудом продукта, дохода от его продажи, выдаваемая работнику предприятием, учреждением, в котором он работает, или другим нанимателе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ибыль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ница между доходами (выручки от реализации товаров и услуг) и затратами на производство или приобретение и сбыт эти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 регулярно получаемый годовой доход с капитала, земли, имущества, не требующий от получателя предпринимательской деятельности. Такой доход может быть получен, например, от сдачи земли или помещений в аренду, предоставления креди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2296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кономика – совокупность общественных отношений в сфере производства, обмена и распределения проду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R01"/>
          <p:cNvPicPr/>
          <p:nvPr/>
        </p:nvPicPr>
        <p:blipFill>
          <a:blip r:embed="rId1"/>
          <a:stretch/>
        </p:blipFill>
        <p:spPr>
          <a:xfrm>
            <a:off x="900000" y="1762200"/>
            <a:ext cx="74170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53844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довлетворение возрастающих потребностей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images"/>
          <p:cNvPicPr/>
          <p:nvPr/>
        </p:nvPicPr>
        <p:blipFill>
          <a:blip r:embed="rId1"/>
          <a:stretch/>
        </p:blipFill>
        <p:spPr>
          <a:xfrm>
            <a:off x="4140360" y="3068640"/>
            <a:ext cx="462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лавные вопросы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3280" y="2491920"/>
            <a:ext cx="4114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производ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производ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кого производи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images (1)"/>
          <p:cNvPicPr/>
          <p:nvPr/>
        </p:nvPicPr>
        <p:blipFill>
          <a:blip r:embed="rId1"/>
          <a:stretch/>
        </p:blipFill>
        <p:spPr>
          <a:xfrm>
            <a:off x="1042920" y="2060640"/>
            <a:ext cx="2664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ровни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кроэкономика – уровень семьи,             фирмы, отрас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BFu5t"/>
          <p:cNvPicPr/>
          <p:nvPr/>
        </p:nvPicPr>
        <p:blipFill>
          <a:blip r:embed="rId1"/>
          <a:stretch/>
        </p:blipFill>
        <p:spPr>
          <a:xfrm>
            <a:off x="1547640" y="1700280"/>
            <a:ext cx="6186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ровни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58766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роэкономика – уровень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загруженное"/>
          <p:cNvPicPr/>
          <p:nvPr/>
        </p:nvPicPr>
        <p:blipFill>
          <a:blip r:embed="rId1"/>
          <a:stretch/>
        </p:blipFill>
        <p:spPr>
          <a:xfrm>
            <a:off x="2556000" y="2060640"/>
            <a:ext cx="42084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Уровни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5516280"/>
            <a:ext cx="7920360" cy="11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ровая экономика – уровень внешних отнош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загруженное (1)"/>
          <p:cNvPicPr/>
          <p:nvPr/>
        </p:nvPicPr>
        <p:blipFill>
          <a:blip r:embed="rId1"/>
          <a:stretch/>
        </p:blipFill>
        <p:spPr>
          <a:xfrm>
            <a:off x="2050920" y="1989000"/>
            <a:ext cx="49024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феры экономи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д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преде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загруженное (2)"/>
          <p:cNvPicPr/>
          <p:nvPr/>
        </p:nvPicPr>
        <p:blipFill>
          <a:blip r:embed="rId1"/>
          <a:stretch/>
        </p:blipFill>
        <p:spPr>
          <a:xfrm>
            <a:off x="4356000" y="1197000"/>
            <a:ext cx="309744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mages (2)"/>
          <p:cNvPicPr/>
          <p:nvPr/>
        </p:nvPicPr>
        <p:blipFill>
          <a:blip r:embed="rId2"/>
          <a:stretch/>
        </p:blipFill>
        <p:spPr>
          <a:xfrm>
            <a:off x="250920" y="3789360"/>
            <a:ext cx="2952720" cy="252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загруженное (3)"/>
          <p:cNvPicPr/>
          <p:nvPr/>
        </p:nvPicPr>
        <p:blipFill>
          <a:blip r:embed="rId3"/>
          <a:stretch/>
        </p:blipFill>
        <p:spPr>
          <a:xfrm>
            <a:off x="3564000" y="4221000"/>
            <a:ext cx="2467080" cy="18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загруженное (4)"/>
          <p:cNvPicPr/>
          <p:nvPr/>
        </p:nvPicPr>
        <p:blipFill>
          <a:blip r:embed="rId4"/>
          <a:stretch/>
        </p:blipFill>
        <p:spPr>
          <a:xfrm>
            <a:off x="6372360" y="3789360"/>
            <a:ext cx="259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оизводст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процесс создания разных видов экономического продук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пределе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одна из фаз процесса общественного воспроизводства, связующее звено между производством и обмен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Обмен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ижение товара от одного владельца к друго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требление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пользование продукта в процессе удовлетворения потребн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2:31:08Z</dcterms:created>
  <dc:creator>Яна</dc:creator>
  <dc:description/>
  <dc:language>en-US</dc:language>
  <cp:lastModifiedBy>Наталья</cp:lastModifiedBy>
  <dcterms:modified xsi:type="dcterms:W3CDTF">2012-12-19T15:36:17Z</dcterms:modified>
  <cp:revision>4</cp:revision>
  <dc:subject/>
  <dc:title>Слайд 1</dc:title>
</cp:coreProperties>
</file>