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39E-CFC8-434B-8596-39AED45C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E95-FBF1-488E-8B83-9679F7E7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AA9-03BA-46C4-8D92-7BB7EEF4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3EF-0A82-4E88-A973-6133D5DE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5FD1-B4E6-4109-A820-99178B5E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4758-8827-4458-B69A-D1CB9CC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42CD-7B70-4322-85C9-7A45611D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3CE2-F10E-4A83-9779-314263D1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F2C0-5AD1-4FC8-B9ED-0B6398C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36A-B8C8-4A13-B436-3847AFD0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C537-4FF0-44C2-95C8-AAB446A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26F-3464-497B-B120-7B3EE4C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896-CBA5-4027-9A4B-7319CF7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13B8-9177-4317-AA61-D00084A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B6A6-9442-4A53-956E-6E3997FE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3523-0B10-4173-9984-287B8661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8FAD-1C6F-4F9C-A72B-08F64E85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ECE-C912-40B6-95AC-58554ABA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96CE-FA36-44FB-B6CC-65E62B7F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A68-EA02-4CE1-B913-693EA63F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D78-481E-480D-AAEE-F2AA1CF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A06-7F16-48C3-B826-C132155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8F4-3909-4E41-9684-F381AB0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B81-83F3-43B0-B081-F7A071A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52F4-6A2A-489F-8C11-6C2687FD03CC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E0F3-6B92-430F-90D1-93A6A0CDB50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1908000" y="2708280"/>
            <a:ext cx="62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т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643720" y="4214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а В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214200" y="0"/>
            <a:ext cx="874872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нные му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ные мутации (или точковые) – наиболее часто встречающийся класс мутационных изменений. Генные мутации связаны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м последовательности нуклеотидов в молекуле ДНК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приводят к тому, что мутантный ген либо перестает работать и тогда не образуются соответствующие РНК и белок, либо синтезируется белок с измененными свойствами, что проявляется в изменении каких-либо признаков организ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и генной мутации образуются новых аллели. Это имеет важное эволюцион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ные мутации следует рассматривать как результат «ошибок», возникающих в процессе удвоения ДН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14240" y="571680"/>
            <a:ext cx="792000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мосомные му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ные мутации –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перестройки хромосом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хромосомных мутаций всегда связано с возникновением двух или более разрывов хромосом с последующим их соединением, но в неправиль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ные мутации приводят к изменению функционирования генов. Они также играют серьезную роль в эволюционных преобразованиях ви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strmutations"/>
          <p:cNvPicPr/>
          <p:nvPr/>
        </p:nvPicPr>
        <p:blipFill>
          <a:blip r:embed="rId1"/>
          <a:stretch/>
        </p:blipFill>
        <p:spPr>
          <a:xfrm>
            <a:off x="571680" y="1357200"/>
            <a:ext cx="2555640" cy="4149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429000" y="1285920"/>
            <a:ext cx="52927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— нормальная хромосома, нормальный порядок 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леция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хватка участка хромосо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пликация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воение участка хромосо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версия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 участка хромосомы на 180 град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слокация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ещение участка на негомологичную хромос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озможно центрическое слияние, то есть слияние негомологичных хром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14240" y="2271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типы хромосомных мутаций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24000" y="1557360"/>
            <a:ext cx="603396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тационная тео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еория изменчивости и эволюции, созданная в начале 20 в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уго Де Фризом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. т., из двух категорий изменчивости — непрерывной и прерывистой (дискретной), только последняя наследственна; для её обозначения Де Фриз ввёл термин 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утации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 Фризу, мутации могут быть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ессивным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новых наследственных свойств, что равнозначно возникновению новых элементарных видов, ил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рессивны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утрата какого-либо из существующих свойств, что означает возникновение разновид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693_201"/>
          <p:cNvPicPr/>
          <p:nvPr/>
        </p:nvPicPr>
        <p:blipFill>
          <a:blip r:embed="rId1">
            <a:lum bright="-18000"/>
          </a:blip>
          <a:srcRect l="4391" t="3179" r="0" b="0"/>
          <a:stretch/>
        </p:blipFill>
        <p:spPr>
          <a:xfrm>
            <a:off x="6429240" y="1071720"/>
            <a:ext cx="2389320" cy="3379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3348000" y="40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Мутационная те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500040" y="571680"/>
            <a:ext cx="7993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сновные положения мутационной теори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– это дискретные изменения наследствен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- редкие события. На 10000-1000000 генов за одно поколение в среднем возникает одна новая му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могут устойчиво передаваться из поколения в поко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возникают ненаправленно, не образуют нерперывных рядов изменч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могут быть полезными, вредными и нейтра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2212920" y="4287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14280" y="1500120"/>
            <a:ext cx="619308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утаций, их причи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ы, их свой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мутагенов (по прир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му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месту возникн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характеру 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струк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хромосомных му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онная те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71680" y="357120"/>
            <a:ext cx="80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дкие случайно возникшие стойкие изменения генотипа, затрагивающие весь геном, целые хромосомы, их части и отдельные г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57120" y="2643120"/>
            <a:ext cx="496908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мут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тественный мутацион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утационные факторы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big_355178_health_study_genetics"/>
          <p:cNvPicPr/>
          <p:nvPr/>
        </p:nvPicPr>
        <p:blipFill>
          <a:blip r:embed="rId1"/>
          <a:stretch/>
        </p:blipFill>
        <p:spPr>
          <a:xfrm>
            <a:off x="5072040" y="2786040"/>
            <a:ext cx="3745080" cy="297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43160" y="285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57160" y="1000080"/>
            <a:ext cx="778680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утагены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при помощи которых образуются мут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войства мутаге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правленность возникающих му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нижнего поро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происхождению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тагены можно разделить на </a:t>
            </a:r>
            <a:r>
              <a:rPr b="1" i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ндогенные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щиеся в процессе жизнедеятельности организма, и </a:t>
            </a:r>
            <a:r>
              <a:rPr b="1" i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кзоген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се прочие факторы, в том числе и условия окружающей сре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42960" y="285840"/>
            <a:ext cx="77868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природе возникновения мутагены классифицируе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онизирующие излучение, рентгеновские лучи, радиация, ультрафиолетовое излучение; повышение температур для хладнокровных животных; понижение температур для теплокровных животны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имическ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кислители и восстановители (нитраты, нитриты, активные формы кислорода), пестициды, некоторые пищевые добавки, органические растворители, лекарственные препараты и т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ологические вирусы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ирус гриппа, кори, краснухи и т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79640" y="2602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Классификация мут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87280" y="3500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59280" y="314172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743120" y="2800440"/>
            <a:ext cx="498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1960" y="2176560"/>
            <a:ext cx="77756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месту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Генеративные</a:t>
            </a:r>
            <a:r>
              <a:rPr b="0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ома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половых клетках,                                                (не передаются наследст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ются по наследству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2195280" y="3068640"/>
            <a:ext cx="934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5796000" y="306864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187280" y="270828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2349360"/>
            <a:ext cx="7848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характеру про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а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ссив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9564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003640" y="2852640"/>
            <a:ext cx="432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771640" y="2924280"/>
            <a:ext cx="432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1692360" y="2924280"/>
            <a:ext cx="792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651640" y="285264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24000" y="1557360"/>
            <a:ext cx="91440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струк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мные                     Генны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Хромосо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1619280" y="2349360"/>
            <a:ext cx="15127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4356000" y="234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5508720" y="2276640"/>
            <a:ext cx="165564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mutation2"/>
          <p:cNvPicPr/>
          <p:nvPr/>
        </p:nvPicPr>
        <p:blipFill>
          <a:blip r:embed="rId1"/>
          <a:stretch/>
        </p:blipFill>
        <p:spPr>
          <a:xfrm>
            <a:off x="1071720" y="4214880"/>
            <a:ext cx="7224480" cy="2031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1680" y="571680"/>
            <a:ext cx="7921440" cy="50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номные му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мными называют мутации, приводящие к изменению числа хромо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типом таких мутация является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иплоидия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ратное изменение числа хромосом. У полиплоидных организмов гаплоидный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бор хромосом в клетках повторяется не 2 раза, а 4-6 (иногда 10-1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причиной этому является нерасхождение гомологичных хромосом в мейозе, что приводит к формированию гамет с увеличенным числом хромо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19:56Z</dcterms:created>
  <dc:creator>Народ России</dc:creator>
  <dc:description/>
  <dc:language>en-US</dc:language>
  <cp:lastModifiedBy>teacher</cp:lastModifiedBy>
  <dcterms:modified xsi:type="dcterms:W3CDTF">2012-12-18T05:09:50Z</dcterms:modified>
  <cp:revision>28</cp:revision>
  <dc:subject/>
  <dc:title>Слайд 1</dc:title>
</cp:coreProperties>
</file>