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F4F-19F2-4DE2-856C-C7AEA695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91C-66EF-43C2-852D-1BA41478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1F4-0DD2-452A-BB6A-EB50A5E3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830-D05B-4042-B2BA-0C8403EE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7E93-8AFC-4E19-9684-F5A55B20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7C23-0542-4D5B-8F46-2B3A2F49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B52E-0C02-436B-BAB7-EB9AC6D4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8B38-E574-4A5D-8909-4771DD25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0105-F8A0-4898-951A-BEF4831F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18CE-348A-4C89-BB11-A13914B4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820B-B3C3-40CE-9944-DF0991AA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29D-8547-484C-AE88-EB0FC5CF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B560-BCF9-4B9A-B5C2-B278790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B4A7-BB03-4658-B898-E8879BE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66A5-E5CB-4F1D-9FFB-74A13D0F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DBAB-AC2B-4B07-99C1-7E375367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BCC3-14A4-4905-BA46-D34E9F73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D2B-09AF-4809-8CE1-AA1E75D5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2D3-0C51-428C-813C-5D6A50AD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300-0894-4FCA-AB4B-DEF7DFF6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297-4334-4AE4-8DBC-5D652A99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BAE-4668-48FA-B502-7108A50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6D6-048F-4167-9A08-97713F8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144-D418-4783-93CB-9803B24B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1354-836A-4E76-8918-025AFB4EE08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775f55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0180-CD23-46E6-80D9-CFE17452B9C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8"/>
          <p:cNvSpPr/>
          <p:nvPr/>
        </p:nvSpPr>
        <p:spPr>
          <a:xfrm>
            <a:off x="1908000" y="2708280"/>
            <a:ext cx="62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та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643720" y="4214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ина В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214200" y="0"/>
            <a:ext cx="8748720" cy="58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нные му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ные мутации (или точковые) – наиболее часто встречающийся класс мутационных изменений. Генные мутации связаны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м последовательности нуклеотидов в молекуле ДНК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приводят к тому, что мутантный ген либо перестает работать и тогда не образуются соответствующие РНК и белок, либо синтезируется белок с измененными свойствами, что проявляется в изменении каких-либо признаков организм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и генной мутации образуются новых аллели. Это имеет важное эволюционное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ные мутации следует рассматривать как результат «ошибок», возникающих в процессе удвоения ДН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14240" y="571680"/>
            <a:ext cx="7920000" cy="43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мосомные му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ные мутации – </a:t>
            </a:r>
            <a:r>
              <a:rPr b="1" i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перестройки хромосом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хромосомных мутаций всегда связано с возникновением двух или более разрывов хромосом с последующим их соединением, но в неправиль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ные мутации приводят к изменению функционирования генов. Они также играют серьезную роль в эволюционных преобразованиях ви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strmutations"/>
          <p:cNvPicPr/>
          <p:nvPr/>
        </p:nvPicPr>
        <p:blipFill>
          <a:blip r:embed="rId1"/>
          <a:stretch/>
        </p:blipFill>
        <p:spPr>
          <a:xfrm>
            <a:off x="571680" y="1357200"/>
            <a:ext cx="2555640" cy="4149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429000" y="1285920"/>
            <a:ext cx="52927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— нормальная хромосома, нормальный порядок г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—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леция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хватка участка хромосо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—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пликация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воение участка хромосо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версия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рот участка хромосомы на 180 град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анслокация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мещение участка на негомологичную хромос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возможно центрическое слияние, то есть слияние негомологичных хром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14240" y="2271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типы хромосомных мутаций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24000" y="1557360"/>
            <a:ext cx="6033960" cy="40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тационная тео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еория изменчивости и эволюции, созданная в начале 20 в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Гуго Де Фризом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. т., из двух категорий изменчивости — непрерывной и прерывистой (дискретной), только последняя наследственна; для её обозначения Де Фриз ввёл термин </a:t>
            </a: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утации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е Фризу, мутации могут быть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ессивными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ение новых наследственных свойств, что равнозначно возникновению новых элементарных видов, или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рессивны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утрата какого-либо из существующих свойств, что означает возникновение разновид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3693_201"/>
          <p:cNvPicPr/>
          <p:nvPr/>
        </p:nvPicPr>
        <p:blipFill>
          <a:blip r:embed="rId1">
            <a:lum bright="-18000"/>
          </a:blip>
          <a:srcRect l="4391" t="3179" r="0" b="0"/>
          <a:stretch/>
        </p:blipFill>
        <p:spPr>
          <a:xfrm>
            <a:off x="6429240" y="1071720"/>
            <a:ext cx="2389320" cy="3379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3348000" y="4046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Мутационная те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500040" y="571680"/>
            <a:ext cx="7993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Основные положения мутационной теори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– это дискретные изменения наследственн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- редкие события. На 10000-1000000 генов за одно поколение в среднем возникает одна новая му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могут устойчиво передаваться из поколения в поко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возникают ненаправленно, не образуют нерперывных рядов изменч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и могут быть полезными, вредными и нейтра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2212920" y="42876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держ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214280" y="1500120"/>
            <a:ext cx="6193080" cy="55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мутаций, их причи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ы, их свой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мутагенов (по прир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му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месту возникнов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характеру 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 струк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хромосомных му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онная те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71680" y="357120"/>
            <a:ext cx="80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дкие случайно возникшие стойкие изменения генотипа, затрагивающие весь геном, целые хромосомы, их части и отдельные г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57120" y="2643120"/>
            <a:ext cx="496908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мут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тественный мутационный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утационные факторы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big_355178_health_study_genetics"/>
          <p:cNvPicPr/>
          <p:nvPr/>
        </p:nvPicPr>
        <p:blipFill>
          <a:blip r:embed="rId1"/>
          <a:stretch/>
        </p:blipFill>
        <p:spPr>
          <a:xfrm>
            <a:off x="5072040" y="2786040"/>
            <a:ext cx="3745080" cy="297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43160" y="2858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57160" y="1000080"/>
            <a:ext cx="778680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утагены</a:t>
            </a: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, при помощи которых образуются мут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войства мутаге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правленность возникающих мут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нижнего поро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происхождению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тагены можно разделить на </a:t>
            </a:r>
            <a:r>
              <a:rPr b="1" i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ндогенные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щиеся в процессе жизнедеятельности организма, и </a:t>
            </a:r>
            <a:r>
              <a:rPr b="1" i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кзогенны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все прочие факторы, в том числе и условия окружающей сре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42960" y="285840"/>
            <a:ext cx="778680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природе возникновения мутагены классифицирует 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ическ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онизирующие излучение, рентгеновские лучи, радиация, ультрафиолетовое излучение; повышение температур для хладнокровных животных; понижение температур для теплокровных животны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имическ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кислители и восстановители (нитраты, нитриты, активные формы кислорода), пестициды, некоторые пищевые добавки, органические растворители, лекарственные препараты и т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иологические вирусы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ирус гриппа, кори, краснухи и т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79640" y="2602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man Old Style"/>
              </a:rPr>
              <a:t>Классификация мут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87280" y="3500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59280" y="314172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743120" y="2800440"/>
            <a:ext cx="498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1960" y="2176560"/>
            <a:ext cx="777564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месту воз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Генеративные</a:t>
            </a:r>
            <a:r>
              <a:rPr b="0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ru-RU" sz="2000" spc="-1" strike="noStrike">
                <a:solidFill>
                  <a:srgbClr val="7b3d17"/>
                </a:solidFill>
                <a:latin typeface="Times New Roman"/>
                <a:ea typeface="Times New Roman"/>
              </a:rPr>
              <a:t>Сома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половых клетках,                                                (не передаются наследст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ются по наследству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H="1">
            <a:off x="2195280" y="3068640"/>
            <a:ext cx="934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5796000" y="306864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187280" y="270828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9640" y="2349360"/>
            <a:ext cx="78487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характеру про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траль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ссивны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ны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99564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003640" y="2852640"/>
            <a:ext cx="432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771640" y="2924280"/>
            <a:ext cx="43200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1692360" y="2924280"/>
            <a:ext cx="792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651640" y="2852640"/>
            <a:ext cx="720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24000" y="1557360"/>
            <a:ext cx="914400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струк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омные                     Генны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Хромосо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 flipH="1">
            <a:off x="1619280" y="2349360"/>
            <a:ext cx="151272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4356000" y="234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5508720" y="2276640"/>
            <a:ext cx="165564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mutation2"/>
          <p:cNvPicPr/>
          <p:nvPr/>
        </p:nvPicPr>
        <p:blipFill>
          <a:blip r:embed="rId1"/>
          <a:stretch/>
        </p:blipFill>
        <p:spPr>
          <a:xfrm>
            <a:off x="1071720" y="4214880"/>
            <a:ext cx="7224480" cy="2031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1680" y="571680"/>
            <a:ext cx="7921440" cy="50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номные му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омными называют мутации, приводящие к изменению числа хромос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 типом таких мутация является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иплоидия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ратное изменение числа хромосом. У полиплоидных организмов гаплоидный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бор хромосом в клетках повторяется не 2 раза, а 4-6 (иногда 10-1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причиной этому является нерасхождение гомологичных хромосом в мейозе, что приводит к формированию гамет с увеличенным числом хромос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2:19:56Z</dcterms:created>
  <dc:creator>Народ России</dc:creator>
  <dc:description/>
  <dc:language>en-US</dc:language>
  <cp:lastModifiedBy>teacher</cp:lastModifiedBy>
  <dcterms:modified xsi:type="dcterms:W3CDTF">2012-12-18T05:09:50Z</dcterms:modified>
  <cp:revision>28</cp:revision>
  <dc:subject/>
  <dc:title>Слайд 1</dc:title>
</cp:coreProperties>
</file>